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A0B3CE-54E6-447E-B29E-E7F9D915D1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4270CA-A3E7-4303-B352-3AF38CD2E2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C25BD9-E50C-4CEF-8B83-80DE9DD6C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99C402-63AD-4098-9766-77CBE1419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8D1BE6-106D-4793-ADB6-9136DA27E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7C08-7360-4E27-AEB1-CED04E249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F30A-5820-4501-ACAE-C5FDD0F4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0ACD-29D5-4B44-AE34-1A24F264B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7B41-1FDA-48A1-A8FC-F66D5B23A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EBAC-49B4-4C09-8E04-3F35A7C2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09EC-E60C-4D02-9775-0DFC3476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608D-AB9B-4F6A-8B7D-2716E657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5151-F0CC-44DB-9D36-C9C6C1AC5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9490-CF78-47C2-837A-BB8E37D9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5C72-4250-4883-A48B-5FAE69F5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677B-9469-4D2D-A354-67E6C17B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6BAB-2398-49A6-B642-02707160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ABC9D4-70E8-4352-BC7D-4E350ABDD1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4ACD3B-F920-447B-92D6-3E2217035D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2" descr="camel.jpg"/>
          <p:cNvPicPr/>
          <p:nvPr/>
        </p:nvPicPr>
        <p:blipFill>
          <a:blip r:embed="rId1"/>
          <a:stretch/>
        </p:blipFill>
        <p:spPr>
          <a:xfrm>
            <a:off x="0" y="-4680"/>
            <a:ext cx="4282920" cy="41544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7"/>
          <p:cNvSpPr/>
          <p:nvPr/>
        </p:nvSpPr>
        <p:spPr>
          <a:xfrm>
            <a:off x="878040" y="4275000"/>
            <a:ext cx="24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A race horse buil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by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16"/>
          <p:cNvSpPr/>
          <p:nvPr/>
        </p:nvSpPr>
        <p:spPr>
          <a:xfrm flipV="1">
            <a:off x="1662120" y="3739680"/>
            <a:ext cx="185760" cy="669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23"/>
          <p:cNvGrpSpPr/>
          <p:nvPr/>
        </p:nvGrpSpPr>
        <p:grpSpPr>
          <a:xfrm>
            <a:off x="1214280" y="57240"/>
            <a:ext cx="7826400" cy="6765840"/>
            <a:chOff x="1214280" y="57240"/>
            <a:chExt cx="7826400" cy="6765840"/>
          </a:xfrm>
        </p:grpSpPr>
        <p:grpSp>
          <p:nvGrpSpPr>
            <p:cNvPr id="52" name="Group 11"/>
            <p:cNvGrpSpPr/>
            <p:nvPr/>
          </p:nvGrpSpPr>
          <p:grpSpPr>
            <a:xfrm>
              <a:off x="4290840" y="57240"/>
              <a:ext cx="4749840" cy="6765840"/>
              <a:chOff x="4290840" y="57240"/>
              <a:chExt cx="4749840" cy="6765840"/>
            </a:xfrm>
          </p:grpSpPr>
          <p:pic>
            <p:nvPicPr>
              <p:cNvPr id="53" name="Picture 12" descr="CalNexus_06_Oct_08.png"/>
              <p:cNvPicPr/>
              <p:nvPr/>
            </p:nvPicPr>
            <p:blipFill>
              <a:blip r:embed="rId2"/>
              <a:srcRect l="9805" t="2841" r="4903" b="7576"/>
              <a:stretch/>
            </p:blipFill>
            <p:spPr>
              <a:xfrm>
                <a:off x="4290840" y="57240"/>
                <a:ext cx="4749840" cy="64580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54" name="Text Box 23"/>
              <p:cNvSpPr/>
              <p:nvPr/>
            </p:nvSpPr>
            <p:spPr>
              <a:xfrm>
                <a:off x="4356720" y="6454800"/>
                <a:ext cx="4664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ff"/>
                    </a:solidFill>
                    <a:latin typeface="Calibri"/>
                  </a:rPr>
                  <a:t>http://esrl.noaa.gov/csd/calnex/scienceplan.pd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Text Box 7"/>
            <p:cNvSpPr/>
            <p:nvPr/>
          </p:nvSpPr>
          <p:spPr>
            <a:xfrm>
              <a:off x="1214280" y="5720400"/>
              <a:ext cx="2872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 Narrow"/>
                </a:rPr>
                <a:t>A science plan built by committe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Straight Connector 19"/>
            <p:cNvSpPr/>
            <p:nvPr/>
          </p:nvSpPr>
          <p:spPr>
            <a:xfrm flipV="1">
              <a:off x="3197880" y="5079960"/>
              <a:ext cx="1096560" cy="73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6"/>
          <p:cNvSpPr/>
          <p:nvPr/>
        </p:nvSpPr>
        <p:spPr>
          <a:xfrm>
            <a:off x="4606920" y="2470320"/>
            <a:ext cx="4433760" cy="1922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Goal of this mee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Begin process of planning how to most effectively investigate the science issues collected in this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2" descr=""/>
          <p:cNvPicPr/>
          <p:nvPr/>
        </p:nvPicPr>
        <p:blipFill>
          <a:blip r:embed="rId1"/>
          <a:srcRect l="0" t="14561" r="0" b="52002"/>
          <a:stretch/>
        </p:blipFill>
        <p:spPr>
          <a:xfrm>
            <a:off x="0" y="0"/>
            <a:ext cx="9144000" cy="1012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4" descr="NOAA"/>
          <p:cNvPicPr/>
          <p:nvPr/>
        </p:nvPicPr>
        <p:blipFill>
          <a:blip r:embed="rId2"/>
          <a:stretch/>
        </p:blipFill>
        <p:spPr>
          <a:xfrm>
            <a:off x="276120" y="38160"/>
            <a:ext cx="824040" cy="8236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6"/>
          <p:cNvSpPr/>
          <p:nvPr/>
        </p:nvSpPr>
        <p:spPr>
          <a:xfrm>
            <a:off x="1322280" y="177840"/>
            <a:ext cx="6499440" cy="581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rap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914400" y="1965240"/>
            <a:ext cx="731520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o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citement and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Large number of people thoughtfully enga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E-mail list – please add your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rward to Tom and me ideas and thou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2" descr=""/>
          <p:cNvPicPr/>
          <p:nvPr/>
        </p:nvPicPr>
        <p:blipFill>
          <a:blip r:embed="rId1"/>
          <a:srcRect l="0" t="14561" r="0" b="52002"/>
          <a:stretch/>
        </p:blipFill>
        <p:spPr>
          <a:xfrm>
            <a:off x="0" y="0"/>
            <a:ext cx="9144000" cy="1012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4" descr="NOAA"/>
          <p:cNvPicPr/>
          <p:nvPr/>
        </p:nvPicPr>
        <p:blipFill>
          <a:blip r:embed="rId2"/>
          <a:stretch/>
        </p:blipFill>
        <p:spPr>
          <a:xfrm>
            <a:off x="276120" y="38160"/>
            <a:ext cx="824040" cy="8236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4"/>
          <p:cNvSpPr/>
          <p:nvPr/>
        </p:nvSpPr>
        <p:spPr>
          <a:xfrm>
            <a:off x="914400" y="1969920"/>
            <a:ext cx="7940520" cy="34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ext Ste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5,6 February 2009 meeting in Sacr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41280">
              <a:lnSpc>
                <a:spcPct val="100000"/>
              </a:lnSpc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More fully engage California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41280">
              <a:lnSpc>
                <a:spcPct val="100000"/>
              </a:lnSpc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Better defined funding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Evolve science plan in coming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41280">
              <a:lnSpc>
                <a:spcPct val="100000"/>
              </a:lnSpc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Call upon many of you to revise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6"/>
          <p:cNvSpPr/>
          <p:nvPr/>
        </p:nvSpPr>
        <p:spPr>
          <a:xfrm>
            <a:off x="1322280" y="177840"/>
            <a:ext cx="6499440" cy="581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rap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8:10:17Z</dcterms:created>
  <dc:creator>David Parrish</dc:creator>
  <dc:description/>
  <dc:language>en-US</dc:language>
  <cp:lastModifiedBy>David Parrish</cp:lastModifiedBy>
  <dcterms:modified xsi:type="dcterms:W3CDTF">2009-01-06T18:30:14Z</dcterms:modified>
  <cp:revision>4</cp:revision>
  <dc:subject/>
  <dc:title>Slide 1</dc:title>
</cp:coreProperties>
</file>