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88A-9CB6-43C8-884B-0AB60DD7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51A-FC6F-4B8F-9DED-33640972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124-C851-4FC0-BCFB-F1294DC2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E44-2493-4949-BDB2-1C3FD27A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1BD-8A61-41D1-8C0D-992AFE9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36E-9053-46D3-818A-1F97A7A4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314-DFF6-434F-80BC-E632703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CBE-C49B-4B07-A30A-B391A75F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7D8-F838-466A-82AE-3B4EE60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ED9-E6D2-4129-AAC3-DBD85D7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CD8-6DD5-431C-A1CD-FF621B26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53C-BD8A-45E5-804C-969714D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AF3B3-A38C-42BE-BD83-0DF69421E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145C4-9236-4C14-AFF7-3F0EA13DB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4320" y="990720"/>
            <a:ext cx="883872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arisons can provide an additional, external evaluation of measurement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s are necessary to interpret data from joint studies with confiden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tivatio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antifying measurement uncertainty establishes an objective, defens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s upon which subsequent scientific interpretation can be found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cience foc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mparison exercises provide answers to two basic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ow did these instruments actually perform in the CalNex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re different analytical approaches to a single answer mutually consist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ategies to consi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calibration standar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/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O/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nks, BC bag, HN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m tubes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tip-to-wingtip flights with blind data exchan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, ICARTT, ARCTA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enhancement ratios to CO or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r non-coincident sampl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derived valu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erosol closure studies or N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dget 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municating the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eries and scatter plots posted on web site (field data to start; update with final da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gree to acknowledge comparison results in analyses and resulting public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ticipation is purely voluntary; details can be agreed upon over the coming mont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6640" y="763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 CalNex mobile platform/remote sensing plannin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ulder, CO - Tuesday, January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6:31:13Z</dcterms:created>
  <dc:creator>T R</dc:creator>
  <dc:description/>
  <dc:language>en-US</dc:language>
  <cp:lastModifiedBy>T R</cp:lastModifiedBy>
  <dcterms:modified xsi:type="dcterms:W3CDTF">2009-01-06T14:55:06Z</dcterms:modified>
  <cp:revision>23</cp:revision>
  <dc:subject/>
  <dc:title>Slide 1</dc:title>
</cp:coreProperties>
</file>