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13.jpeg" ContentType="image/jpeg"/>
  <Override PartName="/ppt/media/image1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3A2E0-856D-4712-80A1-399F53827BC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0F4AE-04A6-4CC5-A358-B7A3D07DE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F3E33-6AFE-42EF-8AEB-ADA0D413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EC854-5EE4-497C-AB09-3DB62BC86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ummer of 2006 we participated in a field experiment in Houston where we were intimately involved in flight planning, which greatly assisted model/observation comparisons after the f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ed data sets that were amenable to comparison with our model outp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3B3-263C-4EF0-93DF-7285BC89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274-88FF-45DA-95C2-41F32186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948-74DE-40D3-A6EA-0A6D6B8D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FC0-28A9-4262-90E3-E1FBDDDD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2C7E-DE1E-4916-9F7C-36C9580F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F112-4413-4BBF-B5C1-40AD0CE3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F383-AEBC-4BE3-982E-BD3785C8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78C3-E033-44FB-B665-16453419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1517-4409-4427-9BB3-66D573A7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6ED9-EB7A-4D66-B3C9-CAD7928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0DB3-06BF-4976-9746-D43112EB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83D-2410-445B-8316-EB537212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20AC-E461-4AA7-9930-A46B54FF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BBE5-A045-4E23-844C-BA63688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C2E0-C1E1-4996-A29E-3A7D748D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E7CD-46C9-4F59-9C4F-DD94EED6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87B1-2E19-42E9-8F28-B884F9EF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8F7-8E52-4B09-992C-FAE6747E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F0B-C3EB-4FE3-A401-9C8B55A8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76F-E4A4-43AC-AA84-63E96E9D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49C-3A0D-4B49-BEE9-35865178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A47-9D3F-493D-A738-037F26B2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F3B-0E61-4BC2-8B91-4B9802B2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5FF-7EA1-4BD5-8DD2-DE162690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63DFE-4DA8-4350-9A9B-33992C54E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1B89D-FF28-4C5B-BE24-C75C1340C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8F17D-6E2A-461E-8BC1-95FB819AF8E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AFCE3-8252-4D11-A180-D2DB4567B1B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erosol-cloud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reg_nfov"/>
          <p:cNvPicPr/>
          <p:nvPr/>
        </p:nvPicPr>
        <p:blipFill>
          <a:blip r:embed="rId1"/>
          <a:stretch/>
        </p:blipFill>
        <p:spPr>
          <a:xfrm>
            <a:off x="1676520" y="114300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228600" y="5715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cComiskey 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0" y="281952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loud properties derived from optical and µ-wave remote sens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314880" y="60847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erosol properties derived from ground-based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n situ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observ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7"/>
          <p:cNvCxnSpPr/>
          <p:nvPr/>
        </p:nvCxnSpPr>
        <p:spPr>
          <a:xfrm flipV="1">
            <a:off x="1371600" y="2133000"/>
            <a:ext cx="457920" cy="510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5" name="Straight Arrow Connector 9"/>
          <p:cNvCxnSpPr/>
          <p:nvPr/>
        </p:nvCxnSpPr>
        <p:spPr>
          <a:xfrm>
            <a:off x="1370520" y="3773160"/>
            <a:ext cx="305640" cy="49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6" name="Straight Arrow Connector 11"/>
          <p:cNvCxnSpPr/>
          <p:nvPr/>
        </p:nvCxnSpPr>
        <p:spPr>
          <a:xfrm flipV="1">
            <a:off x="1599840" y="3276360"/>
            <a:ext cx="153000" cy="20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7" name="Straight Arrow Connector 13"/>
          <p:cNvCxnSpPr/>
          <p:nvPr/>
        </p:nvCxnSpPr>
        <p:spPr>
          <a:xfrm flipH="1" flipV="1">
            <a:off x="3733560" y="5714280"/>
            <a:ext cx="381600" cy="37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8" name="Straight Arrow Connector 17"/>
          <p:cNvCxnSpPr/>
          <p:nvPr/>
        </p:nvCxnSpPr>
        <p:spPr>
          <a:xfrm flipV="1">
            <a:off x="6399720" y="5714280"/>
            <a:ext cx="343800" cy="37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9" name="Straight Arrow Connector 19"/>
          <p:cNvCxnSpPr>
            <a:stCxn id="93" idx="0"/>
          </p:cNvCxnSpPr>
          <p:nvPr/>
        </p:nvCxnSpPr>
        <p:spPr>
          <a:xfrm flipV="1">
            <a:off x="5029200" y="5715720"/>
            <a:ext cx="2160" cy="369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228600" y="1347840"/>
                <a:ext cx="1214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unspecified “indirect effe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4856040" y="1882800"/>
          <a:ext cx="428796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040" y="1882800"/>
                    <a:ext cx="428796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cloud+aerosol+surface+ex"/>
          <p:cNvPicPr/>
          <p:nvPr/>
        </p:nvPicPr>
        <p:blipFill>
          <a:blip r:embed="rId3"/>
          <a:srcRect l="3138" t="0" r="3923" b="0"/>
          <a:stretch/>
        </p:blipFill>
        <p:spPr>
          <a:xfrm>
            <a:off x="65160" y="1600200"/>
            <a:ext cx="4983120" cy="3798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817560" y="6093720"/>
            <a:ext cx="27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hmidt et 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absorp conly"/>
          <p:cNvPicPr/>
          <p:nvPr/>
        </p:nvPicPr>
        <p:blipFill>
          <a:blip r:embed="rId1"/>
          <a:stretch/>
        </p:blipFill>
        <p:spPr>
          <a:xfrm>
            <a:off x="685800" y="458640"/>
            <a:ext cx="7770960" cy="593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absorp2"/>
          <p:cNvPicPr/>
          <p:nvPr/>
        </p:nvPicPr>
        <p:blipFill>
          <a:blip r:embed="rId2"/>
          <a:stretch/>
        </p:blipFill>
        <p:spPr>
          <a:xfrm>
            <a:off x="685800" y="458640"/>
            <a:ext cx="7770960" cy="593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ud 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98960" y="1727640"/>
            <a:ext cx="326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roadband Absorp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easured: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ud only:  4 - 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Cloud+Aerosol: 6 -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990720" y="6019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Calibri"/>
              </a:rPr>
              <a:t>Kindel and Pilewskie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erosol Indirect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fying the indirect effect (IE) is hard: don’t know background state, or “susceptibility” of clouds to becoming more reflect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we use satellite observations to quantify IE, how can we separate the IE from an aerosol effect on the cloud retrieva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ly, what is the aerosol direct radiative forcing in the cloudy atmosp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eb and Manalo-Smith (2005) assumed no aerosol direct radiative effect  in cloudy region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loud radiatve forcing on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th assessment: “such an assumption is not valid for optically thin clouds or if partially absorbing aerosols exist above the clouds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would add: “…or if they are internally or externally mixed in cloud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gument for other aerosol indirect effects – cloud forcing in the presence of aeroso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3-D effect in cumulus fie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of absorbing aerosol (BC) on cloud forcing is in visible-very-near infra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of retrieved cloud prop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s are indistinguishable from indirect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rcRect l="0" t="0" r="0" b="12783"/>
          <a:stretch/>
        </p:blipFill>
        <p:spPr>
          <a:xfrm>
            <a:off x="1917720" y="4495680"/>
            <a:ext cx="4381560" cy="168444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3"/>
          <p:cNvGrpSpPr/>
          <p:nvPr/>
        </p:nvGrpSpPr>
        <p:grpSpPr>
          <a:xfrm>
            <a:off x="1600200" y="1447920"/>
            <a:ext cx="5397480" cy="1143000"/>
            <a:chOff x="1600200" y="1447920"/>
            <a:chExt cx="5397480" cy="1143000"/>
          </a:xfrm>
        </p:grpSpPr>
        <p:sp>
          <p:nvSpPr>
            <p:cNvPr id="115" name="Freeform 9"/>
            <p:cNvSpPr/>
            <p:nvPr/>
          </p:nvSpPr>
          <p:spPr>
            <a:xfrm>
              <a:off x="1600200" y="1447920"/>
              <a:ext cx="2882880" cy="838440"/>
            </a:xfrm>
            <a:prstGeom prst="pie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4114800" y="1447920"/>
              <a:ext cx="2882880" cy="838440"/>
            </a:xfrm>
            <a:prstGeom prst="pie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352600" y="2249640"/>
              <a:ext cx="3142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4876920" y="2249640"/>
              <a:ext cx="3142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14" descr=""/>
          <p:cNvPicPr/>
          <p:nvPr/>
        </p:nvPicPr>
        <p:blipFill>
          <a:blip r:embed="rId2"/>
          <a:stretch/>
        </p:blipFill>
        <p:spPr>
          <a:xfrm>
            <a:off x="6045120" y="533520"/>
            <a:ext cx="1905120" cy="520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3"/>
          <a:stretch/>
        </p:blipFill>
        <p:spPr>
          <a:xfrm>
            <a:off x="685800" y="457200"/>
            <a:ext cx="1015920" cy="812880"/>
          </a:xfrm>
          <a:prstGeom prst="rect">
            <a:avLst/>
          </a:prstGeom>
          <a:ln w="0">
            <a:noFill/>
          </a:ln>
        </p:spPr>
      </p:pic>
      <p:pic>
        <p:nvPicPr>
          <p:cNvPr id="121" name="Straight Connector 22" descr=""/>
          <p:cNvPicPr/>
          <p:nvPr/>
        </p:nvPicPr>
        <p:blipFill>
          <a:blip r:embed="rId4"/>
          <a:stretch/>
        </p:blipFill>
        <p:spPr>
          <a:xfrm>
            <a:off x="4973760" y="2225520"/>
            <a:ext cx="158760" cy="3254400"/>
          </a:xfrm>
          <a:prstGeom prst="rect">
            <a:avLst/>
          </a:prstGeom>
          <a:ln w="0">
            <a:noFill/>
          </a:ln>
        </p:spPr>
      </p:pic>
      <p:grpSp>
        <p:nvGrpSpPr>
          <p:cNvPr id="122" name="Trapezoid 28"/>
          <p:cNvGrpSpPr/>
          <p:nvPr/>
        </p:nvGrpSpPr>
        <p:grpSpPr>
          <a:xfrm>
            <a:off x="5303880" y="2255760"/>
            <a:ext cx="718920" cy="3327480"/>
            <a:chOff x="5303880" y="2255760"/>
            <a:chExt cx="718920" cy="3327480"/>
          </a:xfrm>
        </p:grpSpPr>
        <p:pic>
          <p:nvPicPr>
            <p:cNvPr id="123" name="Trapezoid 28" descr=""/>
            <p:cNvPicPr/>
            <p:nvPr/>
          </p:nvPicPr>
          <p:blipFill>
            <a:blip r:embed="rId5"/>
            <a:stretch/>
          </p:blipFill>
          <p:spPr>
            <a:xfrm>
              <a:off x="5303880" y="2255760"/>
              <a:ext cx="718920" cy="33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0800000">
              <a:off x="5553000" y="2286000"/>
              <a:ext cx="222480" cy="22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rapezoid 46"/>
          <p:cNvSpPr/>
          <p:nvPr/>
        </p:nvSpPr>
        <p:spPr>
          <a:xfrm rot="10800000">
            <a:off x="2327400" y="4616280"/>
            <a:ext cx="1404720" cy="60984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rapezoid 47"/>
          <p:cNvSpPr/>
          <p:nvPr/>
        </p:nvSpPr>
        <p:spPr>
          <a:xfrm rot="10800000">
            <a:off x="6692760" y="399960"/>
            <a:ext cx="609840" cy="36216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rapezoid 48"/>
          <p:cNvSpPr/>
          <p:nvPr/>
        </p:nvSpPr>
        <p:spPr>
          <a:xfrm>
            <a:off x="7007400" y="981000"/>
            <a:ext cx="609480" cy="36216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9" descr=""/>
          <p:cNvPicPr/>
          <p:nvPr/>
        </p:nvPicPr>
        <p:blipFill>
          <a:blip r:embed="rId6"/>
          <a:stretch/>
        </p:blipFill>
        <p:spPr>
          <a:xfrm>
            <a:off x="2666880" y="258840"/>
            <a:ext cx="571680" cy="54936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51"/>
          <p:cNvSpPr/>
          <p:nvPr/>
        </p:nvSpPr>
        <p:spPr>
          <a:xfrm>
            <a:off x="3123360" y="762120"/>
            <a:ext cx="466920" cy="731880"/>
          </a:xfrm>
          <a:prstGeom prst="line">
            <a:avLst/>
          </a:prstGeom>
          <a:ln w="25560">
            <a:solidFill>
              <a:srgbClr val="d9d62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52"/>
          <p:cNvSpPr/>
          <p:nvPr/>
        </p:nvSpPr>
        <p:spPr>
          <a:xfrm flipV="1">
            <a:off x="3591000" y="457200"/>
            <a:ext cx="523800" cy="1036800"/>
          </a:xfrm>
          <a:prstGeom prst="line">
            <a:avLst/>
          </a:prstGeom>
          <a:ln w="25560">
            <a:solidFill>
              <a:srgbClr val="d9d62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56"/>
          <p:cNvCxnSpPr/>
          <p:nvPr/>
        </p:nvCxnSpPr>
        <p:spPr>
          <a:xfrm flipV="1">
            <a:off x="1917720" y="2742840"/>
            <a:ext cx="64648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2" name="Straight Arrow Connector 57"/>
          <p:cNvCxnSpPr/>
          <p:nvPr/>
        </p:nvCxnSpPr>
        <p:spPr>
          <a:xfrm flipV="1">
            <a:off x="8380800" y="982440"/>
            <a:ext cx="2520" cy="1762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3" name="Straight Arrow Connector 62"/>
          <p:cNvCxnSpPr/>
          <p:nvPr/>
        </p:nvCxnSpPr>
        <p:spPr>
          <a:xfrm flipH="1">
            <a:off x="4114440" y="981000"/>
            <a:ext cx="1931040" cy="1458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Straight Arrow Connector 66"/>
          <p:cNvCxnSpPr/>
          <p:nvPr/>
        </p:nvCxnSpPr>
        <p:spPr>
          <a:xfrm flipH="1" flipV="1">
            <a:off x="2958840" y="2436480"/>
            <a:ext cx="11563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5" name="TextBox 70"/>
          <p:cNvSpPr/>
          <p:nvPr/>
        </p:nvSpPr>
        <p:spPr>
          <a:xfrm>
            <a:off x="6915240" y="1219320"/>
            <a:ext cx="23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FR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ff.  radius , optical thickness, L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tral actinic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1"/>
          <p:cNvSpPr/>
          <p:nvPr/>
        </p:nvSpPr>
        <p:spPr>
          <a:xfrm>
            <a:off x="743040" y="239076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low-cloud CCN, aeroso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2"/>
          <p:cNvSpPr/>
          <p:nvPr/>
        </p:nvSpPr>
        <p:spPr>
          <a:xfrm>
            <a:off x="2070000" y="1630440"/>
            <a:ext cx="28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-cloud droplet conc, LW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3"/>
          <p:cNvSpPr/>
          <p:nvPr/>
        </p:nvSpPr>
        <p:spPr>
          <a:xfrm>
            <a:off x="692280" y="4903920"/>
            <a:ext cx="19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low-cloud CCN, aeroso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4"/>
          <p:cNvSpPr/>
          <p:nvPr/>
        </p:nvSpPr>
        <p:spPr>
          <a:xfrm>
            <a:off x="1447920" y="38498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FR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loud optical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 radiometer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5"/>
          <p:cNvSpPr/>
          <p:nvPr/>
        </p:nvSpPr>
        <p:spPr>
          <a:xfrm>
            <a:off x="3005280" y="316872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lidar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w, w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6"/>
          <p:cNvSpPr/>
          <p:nvPr/>
        </p:nvSpPr>
        <p:spPr>
          <a:xfrm>
            <a:off x="5900760" y="3352680"/>
            <a:ext cx="20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ud radar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ructure, prec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7"/>
          <p:cNvSpPr/>
          <p:nvPr/>
        </p:nvSpPr>
        <p:spPr>
          <a:xfrm>
            <a:off x="3591000" y="74520"/>
            <a:ext cx="43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ve-cloud aerosol properties, mi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erosol-cloud Interactions and Indirect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onditions (aerosol properties, cloud characteristics, cloud droplet number, etc.) are needed for a successful aerosol albedo effect experi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required measurement and retrieval accuraci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potential roles for the P-3, Ron Brown, CIRPAS Twin Otter, NOAA Twin Otter, G1, surface sites. satellites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 useful experiment that may be proposed using the P-3  for long transects across gradients in pollution concentrations, above and/or below and/or within clou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we optimize the quantifying of cloud forcing in the presence of aeroso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5499360" cy="5943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800480" y="65530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iang et al.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92280" y="6019920"/>
            <a:ext cx="75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arison of PDFs of various cloud and dynamical fields: observations vs. 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-7560" y="656100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ang, Feingold, et al.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28600" y="76320"/>
            <a:ext cx="8686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between Model and In-situ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28440">
            <a:solidFill>
              <a:srgbClr val="9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clouds_sep11"/>
          <p:cNvPicPr/>
          <p:nvPr/>
        </p:nvPicPr>
        <p:blipFill>
          <a:blip r:embed="rId1"/>
          <a:stretch/>
        </p:blipFill>
        <p:spPr>
          <a:xfrm>
            <a:off x="304920" y="762120"/>
            <a:ext cx="3886200" cy="2874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rcRect l="13154" t="43837" r="29772" b="2105"/>
          <a:stretch/>
        </p:blipFill>
        <p:spPr>
          <a:xfrm>
            <a:off x="4419720" y="3200400"/>
            <a:ext cx="4495680" cy="3462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228600" y="38862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uds in Houston sampled b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PA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4876920" y="6019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709160" y="620568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7315200" y="632412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8001720" y="640080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5334120" y="342900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715000" y="3352680"/>
            <a:ext cx="28954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uds modeled b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eddy sim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TwinOtter"/>
          <p:cNvPicPr/>
          <p:nvPr/>
        </p:nvPicPr>
        <p:blipFill>
          <a:blip r:embed="rId3"/>
          <a:srcRect l="0" t="17392" r="0" b="30438"/>
          <a:stretch/>
        </p:blipFill>
        <p:spPr>
          <a:xfrm>
            <a:off x="762120" y="4724280"/>
            <a:ext cx="266688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7:51:56Z</dcterms:created>
  <dc:creator>Chuck Brock</dc:creator>
  <dc:description/>
  <dc:language>en-US</dc:language>
  <cp:lastModifiedBy>T R</cp:lastModifiedBy>
  <dcterms:modified xsi:type="dcterms:W3CDTF">2009-01-07T17:01:04Z</dcterms:modified>
  <cp:revision>30</cp:revision>
  <dc:subject/>
  <dc:title>Slide 1</dc:title>
</cp:coreProperties>
</file>