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CDB4-6508-4A3A-A87F-ABBBA727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C02-B17E-4266-AFE0-9F4A7B96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12A5-F9FB-4308-8CE8-BFE8EF9C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101C-0876-461F-AC64-6E3CDF97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A514-3E55-472E-B18B-7FA83A7C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91CA-1EA9-4B0B-9C36-48343A04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8A7C-58EE-44DD-BE3B-A7E0371B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4F71-19C6-49EB-9BD0-0E2624F1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6639-936E-4865-B356-A75B6DCD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38CE-8815-4B31-9D8E-FB2409FF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C2E0-DA13-45CC-8146-8E20C6ED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2C2C-19B6-46CA-BAE4-DA521D0B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AD851-1382-4C6F-978C-ED87AC6253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BDAA42-77B3-4442-8F5B-AC285EC50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873000" y="878040"/>
            <a:ext cx="7356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pportunities for joint work: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emical processing - gas and aer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Ryerson, Brock, and de Gou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376640" y="152280"/>
            <a:ext cx="62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10 CalNex mobile platform/remote sensing planning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oulder, CO - Tuesday, January 6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116000" y="1981080"/>
            <a:ext cx="684504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Daytime aircraft overflights of instrumented ground si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processing – 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SOA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-Lagrangian studies around WGC tall t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Joint flights between NOAA P-3 and NOAA Twin O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tion and extent of N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erosol layers al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Extending spatial and temporal scales for process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-1 to P-3: improved Central Valley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-3 to RHB: nighttime processing in LA Basin out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dditional possibilities with CIRPAS Twin Otter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eft Arrow 4"/>
          <p:cNvSpPr/>
          <p:nvPr/>
        </p:nvSpPr>
        <p:spPr>
          <a:xfrm>
            <a:off x="7391520" y="3733920"/>
            <a:ext cx="609480" cy="20304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0000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eft Arrow 5"/>
          <p:cNvSpPr/>
          <p:nvPr/>
        </p:nvSpPr>
        <p:spPr>
          <a:xfrm>
            <a:off x="7391520" y="5003640"/>
            <a:ext cx="609480" cy="203400"/>
          </a:xfrm>
          <a:prstGeom prst="leftArrow">
            <a:avLst>
              <a:gd name="adj1" fmla="val 50000"/>
              <a:gd name="adj2" fmla="val 49941"/>
            </a:avLst>
          </a:prstGeom>
          <a:solidFill>
            <a:srgbClr val="0000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4"/>
          <p:cNvSpPr/>
          <p:nvPr/>
        </p:nvSpPr>
        <p:spPr>
          <a:xfrm>
            <a:off x="1376640" y="152280"/>
            <a:ext cx="62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10 CalNex mobile platform/remote sensing planning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oulder, CO - Tuesday, January 6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376200" y="861840"/>
            <a:ext cx="836604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•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udies of composition (P-3) and extent (TO lidar) of NH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layers al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 + 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hough spring and summer temperatures favor HNO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NH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ground lev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-to-particle conversion leads to aerosol vertical gradients within the mixed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AA P-3: 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H, T, particle number, PILS 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AA Twin Otter: continuous zPBL and vertical profiles of aerosol backsc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levance to pollutant transport, visibility reduction, and radiative effects of aeros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Joint flights needed to understand composition and spatial extent of aerosol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Straight Arrow Connector 5"/>
          <p:cNvCxnSpPr/>
          <p:nvPr/>
        </p:nvCxnSpPr>
        <p:spPr>
          <a:xfrm>
            <a:off x="4055760" y="1655280"/>
            <a:ext cx="70236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49" name="Picture 7" descr="Neuman Fig2.pdf"/>
          <p:cNvPicPr/>
          <p:nvPr/>
        </p:nvPicPr>
        <p:blipFill>
          <a:blip r:embed="rId1"/>
          <a:srcRect l="22973" t="65486" r="22973" b="14194"/>
          <a:stretch/>
        </p:blipFill>
        <p:spPr>
          <a:xfrm>
            <a:off x="1397160" y="2666880"/>
            <a:ext cx="4470120" cy="2291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8"/>
          <p:cNvSpPr/>
          <p:nvPr/>
        </p:nvSpPr>
        <p:spPr>
          <a:xfrm>
            <a:off x="5875920" y="3124080"/>
            <a:ext cx="234936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AA P-3 altitud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ar Visalia, CA (SJ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7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euman et al., JGR, 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4269240" y="1282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1376640" y="152280"/>
            <a:ext cx="62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10 CalNex mobile platform/remote sensing planning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oulder, CO - Tuesday, January 6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780840" y="861840"/>
            <a:ext cx="630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•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Joint studies of nighttime processing in LA Basin out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88920" y="1371600"/>
            <a:ext cx="585468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5885640" y="1522440"/>
            <a:ext cx="266652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ghttime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shore provides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portunity to stu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C and DMS ox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ogen activation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-containing aeros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380880" y="5678640"/>
            <a:ext cx="8458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AA P-3: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erosol properties, VOCs during transport al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0"/>
          <p:cNvSpPr/>
          <p:nvPr/>
        </p:nvSpPr>
        <p:spPr>
          <a:xfrm>
            <a:off x="2260080" y="3200400"/>
            <a:ext cx="45792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22"/>
          <p:cNvCxnSpPr>
            <a:stCxn id="57" idx="1"/>
          </p:cNvCxnSpPr>
          <p:nvPr/>
        </p:nvCxnSpPr>
        <p:spPr>
          <a:xfrm flipH="1" flipV="1">
            <a:off x="1142640" y="3354120"/>
            <a:ext cx="109296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9" name="Straight Arrow Connector 23"/>
          <p:cNvCxnSpPr>
            <a:endCxn id="57" idx="3"/>
          </p:cNvCxnSpPr>
          <p:nvPr/>
        </p:nvCxnSpPr>
        <p:spPr>
          <a:xfrm flipH="1" flipV="1">
            <a:off x="2742840" y="3354120"/>
            <a:ext cx="99144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60" name="Rectangle 28"/>
          <p:cNvSpPr/>
          <p:nvPr/>
        </p:nvSpPr>
        <p:spPr>
          <a:xfrm>
            <a:off x="380880" y="60310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A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n Brow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ilar/additional data following downward mixing and sunr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1"/>
          <p:cNvSpPr/>
          <p:nvPr/>
        </p:nvSpPr>
        <p:spPr>
          <a:xfrm>
            <a:off x="1169280" y="3425760"/>
            <a:ext cx="55548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RH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873000" y="878040"/>
            <a:ext cx="735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pportunities for joint work: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emical processing - gas and aer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376640" y="152280"/>
            <a:ext cx="62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10 CalNex mobile platform/remote sensing planning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oulder, CO - Tuesday, January 6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1116000" y="1523880"/>
            <a:ext cx="684504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Daytime aircraft overflights of instrumented ground si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processing – 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SOA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-Lagrangian studies around WGC tall t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Joint flights between NOAA P-3 and NOAA Twin O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tion and extent of N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erosol layers al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Extending spatial and temporal scales for process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-1 to P-3: improved Central Valley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-3 to RHB: nighttime processing in LA Basin out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3T17:22:22Z</dcterms:created>
  <dc:creator>T R</dc:creator>
  <dc:description/>
  <dc:language>en-US</dc:language>
  <cp:lastModifiedBy>T R</cp:lastModifiedBy>
  <dcterms:modified xsi:type="dcterms:W3CDTF">2009-01-06T14:50:39Z</dcterms:modified>
  <cp:revision>57</cp:revision>
  <dc:subject/>
  <dc:title>Slide 1</dc:title>
</cp:coreProperties>
</file>