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6DF-1658-4F18-9538-DE9CDF3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04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F87-F0B2-423C-BE57-F7A1E76A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04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04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50F-D236-4069-8E71-DAB49E14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04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04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04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90D-452B-4507-B8B8-9BE87D41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7D0-14E6-4AEB-A032-2C270258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B96-8B9A-41FD-BEE3-6CF4C6B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186-EFDE-49AA-AD14-90A0FA8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853-3C8D-4155-AD0C-16989F46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24920"/>
            <a:ext cx="86803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F3C-D48B-48E1-A78A-DF187948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04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6A2-797B-4EBE-A8FC-B1A9663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04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140-7B1F-486B-AFF2-AF7BC8D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14840"/>
            <a:ext cx="868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04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518-DA0A-4320-81FC-8E024A1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24920"/>
            <a:ext cx="8680320" cy="5000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D00F-08A2-4061-83B9-41230A76F5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5540400"/>
            <a:ext cx="4340160" cy="692280"/>
          </a:xfrm>
          <a:prstGeom prst="rect">
            <a:avLst/>
          </a:prstGeom>
          <a:solidFill>
            <a:srgbClr val="ada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52640"/>
            <a:ext cx="4340160" cy="268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971640"/>
            <a:ext cx="4340160" cy="2227320"/>
          </a:xfrm>
          <a:prstGeom prst="rect">
            <a:avLst/>
          </a:prstGeom>
          <a:solidFill>
            <a:srgbClr val="e3d6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840" y="3544920"/>
            <a:ext cx="4340160" cy="2687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971640"/>
            <a:ext cx="4340160" cy="2573280"/>
          </a:xfrm>
          <a:prstGeom prst="rect">
            <a:avLst/>
          </a:prstGeom>
          <a:solidFill>
            <a:srgbClr val="adc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840" y="201240"/>
            <a:ext cx="8680320" cy="500040"/>
          </a:xfrm>
          <a:prstGeom prst="rect">
            <a:avLst/>
          </a:prstGeom>
          <a:solidFill>
            <a:srgbClr val="adcbfd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hore transport and recirculation – joint work: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9440" y="105372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n Br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itu and remote sensing instruments: gas/aerosol, BL, flux, cloud radar, Doppler Lidar, M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stal transects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║and 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tch diurnal circulation in wind profiles, turbulence, and mixing height (MH):  fixed location vs. transec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-situ and remote sensing of ship p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4"/>
          <p:cNvSpPr/>
          <p:nvPr/>
        </p:nvSpPr>
        <p:spPr>
          <a:xfrm>
            <a:off x="4726080" y="3274920"/>
            <a:ext cx="40384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 Inven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D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2"/>
          <p:cNvSpPr/>
          <p:nvPr/>
        </p:nvSpPr>
        <p:spPr>
          <a:xfrm>
            <a:off x="379440" y="3735360"/>
            <a:ext cx="40384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2392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:  Met and Chem measurements made within MBL/A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2392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AA Twin Otter:  TOPAZ and DO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19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 and aerosol transport off and on shore. (Nocturnal vs. daytime? Both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2392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 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2392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A B-200 (HS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2392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PAS Twin Ot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2392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4"/>
          <p:cNvSpPr/>
          <p:nvPr/>
        </p:nvSpPr>
        <p:spPr>
          <a:xfrm>
            <a:off x="4719600" y="1090440"/>
            <a:ext cx="40384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Sites (Chemis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: T0,T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rodyne Mobile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r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s related to transport and recirc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4"/>
          <p:cNvSpPr/>
          <p:nvPr/>
        </p:nvSpPr>
        <p:spPr>
          <a:xfrm>
            <a:off x="4719600" y="5734080"/>
            <a:ext cx="40384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remote sen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840" y="240840"/>
            <a:ext cx="8680320" cy="500040"/>
          </a:xfrm>
          <a:prstGeom prst="rect">
            <a:avLst/>
          </a:prstGeom>
          <a:solidFill>
            <a:srgbClr val="adcbfd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hore transport and recirculation – joint work: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0"/>
          <p:cNvSpPr/>
          <p:nvPr/>
        </p:nvSpPr>
        <p:spPr>
          <a:xfrm>
            <a:off x="457200" y="1047600"/>
            <a:ext cx="4038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s of Transport and Recirculation (Observations of coastal oscil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s: LA basin, SF Bay, Monterrey B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ected by synoptic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-shore flow:  synoptic &amp; sea-bree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hor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-bree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flow (alo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inag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ina Ed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s of MBL dynamics on osc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MBL turbulence, 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vs. land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coastal j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ina Ed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ly Su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0"/>
          <p:cNvSpPr/>
          <p:nvPr/>
        </p:nvSpPr>
        <p:spPr>
          <a:xfrm>
            <a:off x="4649760" y="1047600"/>
            <a:ext cx="4038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stry of Recircu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 sit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ip:  transport and transformation/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otter:  profiles across land/sea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 – in-situ measurements (need ABL/MBL mixing heigh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 of MBL on Met and Chem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ell is oscillation and/or its effects model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arameters are generally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would be nice to hav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/Aerosol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 between clouds and recirculation/transport – transported aerosol effect on clouds and effect of clouds on recir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716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2"/>
          <p:cNvSpPr/>
          <p:nvPr/>
        </p:nvSpPr>
        <p:spPr>
          <a:xfrm>
            <a:off x="396720" y="5734080"/>
            <a:ext cx="17132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:  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Otte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 G1, B-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32200" y="5748480"/>
            <a:ext cx="22860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5360" y="5743440"/>
            <a:ext cx="228600" cy="621000"/>
          </a:xfrm>
          <a:prstGeom prst="rect">
            <a:avLst/>
          </a:prstGeom>
          <a:solidFill>
            <a:srgbClr val="e3d6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080040"/>
            <a:ext cx="228600" cy="593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" y="5751360"/>
            <a:ext cx="228600" cy="254160"/>
          </a:xfrm>
          <a:prstGeom prst="rect">
            <a:avLst/>
          </a:prstGeom>
          <a:solidFill>
            <a:srgbClr val="adc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65360" y="6445080"/>
            <a:ext cx="228600" cy="222480"/>
          </a:xfrm>
          <a:prstGeom prst="rect">
            <a:avLst/>
          </a:prstGeom>
          <a:solidFill>
            <a:srgbClr val="b8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2"/>
          <p:cNvSpPr/>
          <p:nvPr/>
        </p:nvSpPr>
        <p:spPr>
          <a:xfrm>
            <a:off x="1868400" y="5681520"/>
            <a:ext cx="2532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2"/>
          <p:cNvSpPr/>
          <p:nvPr/>
        </p:nvSpPr>
        <p:spPr>
          <a:xfrm>
            <a:off x="3162240" y="5681520"/>
            <a:ext cx="1612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2"/>
          <p:cNvSpPr/>
          <p:nvPr/>
        </p:nvSpPr>
        <p:spPr>
          <a:xfrm>
            <a:off x="1866960" y="6427800"/>
            <a:ext cx="1458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772400" cy="521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4191120" y="4114440"/>
            <a:ext cx="2133360" cy="1066680"/>
          </a:xfrm>
          <a:prstGeom prst="line">
            <a:avLst/>
          </a:prstGeom>
          <a:ln w="7632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648320" y="4191120"/>
            <a:ext cx="761760" cy="380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5400" y="48769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3600" y="419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3040" y="15228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ea Breeze / Land Bree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640" y="60948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istent flow pattern winter and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cturnal land breeze strong in winter, weak in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534160" cy="392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8880" y="2286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talina E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8380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commonly occurs in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associated with fog, or “June glo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land pollutant transport over the mountain passes to the North, nighttime transport over water near Santa Barb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89240" y="698400"/>
            <a:ext cx="5954760" cy="6159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98720" y="22860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outherly Su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40" y="961920"/>
            <a:ext cx="3140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ition from prevailing N. to S. flow along the coast, lasting ~3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associated with pollution transport from LA northward along the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 frequency of several events per summer (~1/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1360" y="790560"/>
            <a:ext cx="2667240" cy="2666880"/>
          </a:xfrm>
          <a:prstGeom prst="ellipse">
            <a:avLst/>
          </a:prstGeom>
          <a:gradFill rotWithShape="0">
            <a:gsLst>
              <a:gs pos="0">
                <a:srgbClr val="1d2323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8120" y="1247760"/>
            <a:ext cx="153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10120" y="22384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91440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95600" y="1781280"/>
            <a:ext cx="3258720" cy="440640"/>
            <a:chOff x="795600" y="1781280"/>
            <a:chExt cx="3258720" cy="440640"/>
          </a:xfrm>
        </p:grpSpPr>
        <p:sp>
          <p:nvSpPr>
            <p:cNvPr id="83" name=""/>
            <p:cNvSpPr/>
            <p:nvPr/>
          </p:nvSpPr>
          <p:spPr>
            <a:xfrm>
              <a:off x="795600" y="1781280"/>
              <a:ext cx="148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+ 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24160" y="1781280"/>
              <a:ext cx="83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33680" y="200952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1640" y="200988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240" y="246708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3760" y="315288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61320" y="155268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75520" y="292428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5000" y="15526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3600" y="29242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95720" y="307656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24320" y="94284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83480" y="2314440"/>
            <a:ext cx="3694680" cy="1833480"/>
            <a:chOff x="483480" y="2314440"/>
            <a:chExt cx="3694680" cy="1833480"/>
          </a:xfrm>
        </p:grpSpPr>
        <p:sp>
          <p:nvSpPr>
            <p:cNvPr id="96" name=""/>
            <p:cNvSpPr/>
            <p:nvPr/>
          </p:nvSpPr>
          <p:spPr>
            <a:xfrm>
              <a:off x="870840" y="2314440"/>
              <a:ext cx="1325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+ Cl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48560" y="2543040"/>
              <a:ext cx="90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5080" y="2543040"/>
              <a:ext cx="76212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3480" y="3533760"/>
              <a:ext cx="24667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ehnke et al., JGR 19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ClN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 ≈ 1, [Cl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] ≥ 1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8120" y="300024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tr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lor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86040" y="90360"/>
            <a:ext cx="88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alogen Activation from N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x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pollution and Se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523880"/>
            <a:ext cx="4716720" cy="426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duction from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s. in Houston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oncentrations in near shore region w/ large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centrations &amp; efficient formation in ship p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ransport in nocturnal land breeze in CA, esp. LA, lend itself to large halogen activ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14200"/>
            <a:ext cx="8839440" cy="411120"/>
          </a:xfrm>
          <a:prstGeom prst="rect">
            <a:avLst/>
          </a:prstGeom>
          <a:solidFill>
            <a:srgbClr val="adcbfd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hore transport and recirculation –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5520" y="868320"/>
          <a:ext cx="8836200" cy="5780160"/>
        </p:xfrm>
        <a:graphic>
          <a:graphicData uri="http://schemas.openxmlformats.org/drawingml/2006/table">
            <a:tbl>
              <a:tblPr/>
              <a:tblGrid>
                <a:gridCol w="730440"/>
                <a:gridCol w="529920"/>
                <a:gridCol w="632160"/>
                <a:gridCol w="630000"/>
                <a:gridCol w="631800"/>
                <a:gridCol w="631800"/>
                <a:gridCol w="630360"/>
                <a:gridCol w="630360"/>
                <a:gridCol w="631800"/>
                <a:gridCol w="631800"/>
                <a:gridCol w="631800"/>
                <a:gridCol w="630360"/>
                <a:gridCol w="631800"/>
                <a:gridCol w="63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AZ, D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P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-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Group 830"/>
          <p:cNvGrpSpPr/>
          <p:nvPr/>
        </p:nvGrpSpPr>
        <p:grpSpPr>
          <a:xfrm>
            <a:off x="2048040" y="1295280"/>
            <a:ext cx="4581360" cy="788760"/>
            <a:chOff x="2048040" y="1295280"/>
            <a:chExt cx="4581360" cy="788760"/>
          </a:xfrm>
        </p:grpSpPr>
        <p:sp>
          <p:nvSpPr>
            <p:cNvPr id="106" name="Rectangle 760"/>
            <p:cNvSpPr/>
            <p:nvPr/>
          </p:nvSpPr>
          <p:spPr>
            <a:xfrm>
              <a:off x="2048040" y="1295280"/>
              <a:ext cx="4579920" cy="788760"/>
            </a:xfrm>
            <a:prstGeom prst="rect">
              <a:avLst/>
            </a:prstGeom>
            <a:solidFill>
              <a:srgbClr val="99cc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61"/>
            <p:cNvSpPr/>
            <p:nvPr/>
          </p:nvSpPr>
          <p:spPr>
            <a:xfrm>
              <a:off x="3276720" y="1295280"/>
              <a:ext cx="3352680" cy="788760"/>
            </a:xfrm>
            <a:prstGeom prst="rect">
              <a:avLst/>
            </a:prstGeom>
            <a:solidFill>
              <a:srgbClr val="9ab2fe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762"/>
          <p:cNvSpPr/>
          <p:nvPr/>
        </p:nvSpPr>
        <p:spPr>
          <a:xfrm>
            <a:off x="885960" y="2197080"/>
            <a:ext cx="4316400" cy="789120"/>
          </a:xfrm>
          <a:prstGeom prst="rect">
            <a:avLst/>
          </a:prstGeom>
          <a:solidFill>
            <a:srgbClr val="cc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3"/>
          <p:cNvSpPr/>
          <p:nvPr/>
        </p:nvSpPr>
        <p:spPr>
          <a:xfrm>
            <a:off x="885960" y="3100320"/>
            <a:ext cx="4316400" cy="789120"/>
          </a:xfrm>
          <a:prstGeom prst="rect">
            <a:avLst/>
          </a:prstGeom>
          <a:solidFill>
            <a:srgbClr val="ffcc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washenfelder</cp:lastModifiedBy>
  <dcterms:modified xsi:type="dcterms:W3CDTF">2009-01-06T15:53:45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