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445E-D5AE-40CF-8B37-3B41ADBFF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3232-73B7-4220-8969-53153C33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3634-FFA6-48AA-B74E-70F956A8E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0BB7-BC6A-43D9-84F7-8350A0174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AA83-0006-4B50-948B-D337C3C9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C162-845D-4547-9CE6-CD2B1ADC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C25C-B42B-4146-9421-A3E14008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3532-9980-4D81-B5F4-C6BB5CBB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A76C-FEBA-42DF-BD7A-C2A89617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4EF9-F46B-473D-A506-F72831B8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6611-D16E-428B-BC28-6F7CD878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8233-56DE-4B3D-91BB-BC40C3B9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525B-A5F8-4F50-94DD-A7F0E5ECD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alNex Transport and Mix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03480" y="2550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0280" y="1447920"/>
            <a:ext cx="805212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stal/Sierra mountain circu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ventillation and recir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return circulation along Sierra’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basin transport, especially between the LA ba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Central Vall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f-shore recirculation in southerly surge event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er range transpo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A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to/from Me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outflow from California to downwind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3485" t="13192" r="17373" b="6718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676840" y="3276720"/>
            <a:ext cx="182520" cy="182520"/>
          </a:xfrm>
          <a:prstGeom prst="flowChartSummingJunction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29480" y="4465800"/>
            <a:ext cx="182520" cy="182520"/>
          </a:xfrm>
          <a:prstGeom prst="flowChartSummingJunction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75400" y="5332320"/>
            <a:ext cx="182880" cy="182520"/>
          </a:xfrm>
          <a:prstGeom prst="flowChartSummingJunction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18160" y="3932280"/>
            <a:ext cx="1690920" cy="1371600"/>
          </a:xfrm>
          <a:custGeom>
            <a:avLst/>
            <a:gdLst/>
            <a:ahLst/>
            <a:rect l="l" t="t" r="r" b="b"/>
            <a:pathLst>
              <a:path w="1065" h="864">
                <a:moveTo>
                  <a:pt x="9" y="864"/>
                </a:moveTo>
                <a:cubicBezTo>
                  <a:pt x="13" y="789"/>
                  <a:pt x="0" y="755"/>
                  <a:pt x="35" y="704"/>
                </a:cubicBezTo>
                <a:cubicBezTo>
                  <a:pt x="58" y="603"/>
                  <a:pt x="145" y="531"/>
                  <a:pt x="214" y="461"/>
                </a:cubicBezTo>
                <a:cubicBezTo>
                  <a:pt x="252" y="423"/>
                  <a:pt x="311" y="368"/>
                  <a:pt x="361" y="352"/>
                </a:cubicBezTo>
                <a:cubicBezTo>
                  <a:pt x="384" y="329"/>
                  <a:pt x="407" y="311"/>
                  <a:pt x="438" y="301"/>
                </a:cubicBezTo>
                <a:cubicBezTo>
                  <a:pt x="444" y="297"/>
                  <a:pt x="450" y="291"/>
                  <a:pt x="457" y="288"/>
                </a:cubicBezTo>
                <a:cubicBezTo>
                  <a:pt x="465" y="284"/>
                  <a:pt x="475" y="285"/>
                  <a:pt x="483" y="281"/>
                </a:cubicBezTo>
                <a:cubicBezTo>
                  <a:pt x="503" y="270"/>
                  <a:pt x="531" y="242"/>
                  <a:pt x="553" y="230"/>
                </a:cubicBezTo>
                <a:cubicBezTo>
                  <a:pt x="565" y="223"/>
                  <a:pt x="579" y="222"/>
                  <a:pt x="592" y="217"/>
                </a:cubicBezTo>
                <a:cubicBezTo>
                  <a:pt x="627" y="202"/>
                  <a:pt x="657" y="185"/>
                  <a:pt x="694" y="173"/>
                </a:cubicBezTo>
                <a:cubicBezTo>
                  <a:pt x="728" y="162"/>
                  <a:pt x="711" y="161"/>
                  <a:pt x="739" y="147"/>
                </a:cubicBezTo>
                <a:cubicBezTo>
                  <a:pt x="756" y="139"/>
                  <a:pt x="778" y="134"/>
                  <a:pt x="796" y="128"/>
                </a:cubicBezTo>
                <a:cubicBezTo>
                  <a:pt x="803" y="124"/>
                  <a:pt x="810" y="121"/>
                  <a:pt x="816" y="115"/>
                </a:cubicBezTo>
                <a:cubicBezTo>
                  <a:pt x="821" y="110"/>
                  <a:pt x="822" y="101"/>
                  <a:pt x="828" y="96"/>
                </a:cubicBezTo>
                <a:cubicBezTo>
                  <a:pt x="844" y="83"/>
                  <a:pt x="885" y="70"/>
                  <a:pt x="905" y="64"/>
                </a:cubicBezTo>
                <a:cubicBezTo>
                  <a:pt x="953" y="31"/>
                  <a:pt x="1013" y="24"/>
                  <a:pt x="1065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13240" y="3444840"/>
            <a:ext cx="2743200" cy="1000080"/>
          </a:xfrm>
          <a:custGeom>
            <a:avLst/>
            <a:gdLst/>
            <a:ahLst/>
            <a:rect l="l" t="t" r="r" b="b"/>
            <a:pathLst>
              <a:path w="1728" h="630">
                <a:moveTo>
                  <a:pt x="0" y="294"/>
                </a:moveTo>
                <a:cubicBezTo>
                  <a:pt x="13" y="303"/>
                  <a:pt x="31" y="307"/>
                  <a:pt x="39" y="320"/>
                </a:cubicBezTo>
                <a:cubicBezTo>
                  <a:pt x="43" y="326"/>
                  <a:pt x="45" y="334"/>
                  <a:pt x="51" y="339"/>
                </a:cubicBezTo>
                <a:cubicBezTo>
                  <a:pt x="88" y="371"/>
                  <a:pt x="138" y="390"/>
                  <a:pt x="179" y="416"/>
                </a:cubicBezTo>
                <a:cubicBezTo>
                  <a:pt x="244" y="458"/>
                  <a:pt x="310" y="501"/>
                  <a:pt x="384" y="524"/>
                </a:cubicBezTo>
                <a:cubicBezTo>
                  <a:pt x="430" y="538"/>
                  <a:pt x="495" y="551"/>
                  <a:pt x="544" y="563"/>
                </a:cubicBezTo>
                <a:cubicBezTo>
                  <a:pt x="567" y="569"/>
                  <a:pt x="591" y="572"/>
                  <a:pt x="615" y="576"/>
                </a:cubicBezTo>
                <a:cubicBezTo>
                  <a:pt x="626" y="578"/>
                  <a:pt x="647" y="582"/>
                  <a:pt x="647" y="582"/>
                </a:cubicBezTo>
                <a:cubicBezTo>
                  <a:pt x="766" y="630"/>
                  <a:pt x="900" y="605"/>
                  <a:pt x="1024" y="582"/>
                </a:cubicBezTo>
                <a:cubicBezTo>
                  <a:pt x="1093" y="535"/>
                  <a:pt x="987" y="604"/>
                  <a:pt x="1069" y="563"/>
                </a:cubicBezTo>
                <a:cubicBezTo>
                  <a:pt x="1105" y="545"/>
                  <a:pt x="1119" y="527"/>
                  <a:pt x="1159" y="518"/>
                </a:cubicBezTo>
                <a:cubicBezTo>
                  <a:pt x="1174" y="506"/>
                  <a:pt x="1187" y="491"/>
                  <a:pt x="1203" y="480"/>
                </a:cubicBezTo>
                <a:cubicBezTo>
                  <a:pt x="1228" y="462"/>
                  <a:pt x="1258" y="450"/>
                  <a:pt x="1280" y="428"/>
                </a:cubicBezTo>
                <a:cubicBezTo>
                  <a:pt x="1331" y="376"/>
                  <a:pt x="1264" y="428"/>
                  <a:pt x="1325" y="384"/>
                </a:cubicBezTo>
                <a:cubicBezTo>
                  <a:pt x="1339" y="362"/>
                  <a:pt x="1386" y="315"/>
                  <a:pt x="1408" y="300"/>
                </a:cubicBezTo>
                <a:cubicBezTo>
                  <a:pt x="1421" y="264"/>
                  <a:pt x="1466" y="233"/>
                  <a:pt x="1498" y="211"/>
                </a:cubicBezTo>
                <a:cubicBezTo>
                  <a:pt x="1515" y="186"/>
                  <a:pt x="1527" y="173"/>
                  <a:pt x="1555" y="160"/>
                </a:cubicBezTo>
                <a:cubicBezTo>
                  <a:pt x="1587" y="111"/>
                  <a:pt x="1544" y="169"/>
                  <a:pt x="1594" y="128"/>
                </a:cubicBezTo>
                <a:cubicBezTo>
                  <a:pt x="1600" y="123"/>
                  <a:pt x="1601" y="114"/>
                  <a:pt x="1607" y="108"/>
                </a:cubicBezTo>
                <a:cubicBezTo>
                  <a:pt x="1627" y="88"/>
                  <a:pt x="1651" y="71"/>
                  <a:pt x="1671" y="51"/>
                </a:cubicBezTo>
                <a:cubicBezTo>
                  <a:pt x="1684" y="38"/>
                  <a:pt x="1694" y="22"/>
                  <a:pt x="1709" y="12"/>
                </a:cubicBezTo>
                <a:cubicBezTo>
                  <a:pt x="1715" y="8"/>
                  <a:pt x="1728" y="0"/>
                  <a:pt x="1728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15000" y="2438280"/>
            <a:ext cx="1523880" cy="639720"/>
          </a:xfrm>
          <a:custGeom>
            <a:avLst/>
            <a:gdLst/>
            <a:ahLst/>
            <a:rect l="l" t="t" r="r" b="b"/>
            <a:pathLst>
              <a:path w="960" h="403">
                <a:moveTo>
                  <a:pt x="0" y="403"/>
                </a:moveTo>
                <a:cubicBezTo>
                  <a:pt x="8" y="391"/>
                  <a:pt x="11" y="376"/>
                  <a:pt x="20" y="365"/>
                </a:cubicBezTo>
                <a:cubicBezTo>
                  <a:pt x="45" y="335"/>
                  <a:pt x="78" y="317"/>
                  <a:pt x="109" y="294"/>
                </a:cubicBezTo>
                <a:cubicBezTo>
                  <a:pt x="119" y="287"/>
                  <a:pt x="125" y="276"/>
                  <a:pt x="135" y="269"/>
                </a:cubicBezTo>
                <a:cubicBezTo>
                  <a:pt x="180" y="237"/>
                  <a:pt x="247" y="205"/>
                  <a:pt x="301" y="192"/>
                </a:cubicBezTo>
                <a:cubicBezTo>
                  <a:pt x="339" y="166"/>
                  <a:pt x="307" y="185"/>
                  <a:pt x="378" y="166"/>
                </a:cubicBezTo>
                <a:cubicBezTo>
                  <a:pt x="426" y="154"/>
                  <a:pt x="470" y="136"/>
                  <a:pt x="519" y="128"/>
                </a:cubicBezTo>
                <a:cubicBezTo>
                  <a:pt x="582" y="103"/>
                  <a:pt x="652" y="75"/>
                  <a:pt x="717" y="58"/>
                </a:cubicBezTo>
                <a:cubicBezTo>
                  <a:pt x="770" y="44"/>
                  <a:pt x="829" y="30"/>
                  <a:pt x="884" y="19"/>
                </a:cubicBezTo>
                <a:cubicBezTo>
                  <a:pt x="911" y="14"/>
                  <a:pt x="935" y="12"/>
                  <a:pt x="96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51160" y="863640"/>
            <a:ext cx="1284480" cy="1392120"/>
          </a:xfrm>
          <a:custGeom>
            <a:avLst/>
            <a:gdLst/>
            <a:ahLst/>
            <a:rect l="l" t="t" r="r" b="b"/>
            <a:pathLst>
              <a:path w="809" h="877">
                <a:moveTo>
                  <a:pt x="156" y="877"/>
                </a:moveTo>
                <a:cubicBezTo>
                  <a:pt x="146" y="835"/>
                  <a:pt x="128" y="805"/>
                  <a:pt x="99" y="774"/>
                </a:cubicBezTo>
                <a:cubicBezTo>
                  <a:pt x="87" y="743"/>
                  <a:pt x="66" y="707"/>
                  <a:pt x="47" y="678"/>
                </a:cubicBezTo>
                <a:cubicBezTo>
                  <a:pt x="35" y="640"/>
                  <a:pt x="17" y="611"/>
                  <a:pt x="9" y="570"/>
                </a:cubicBezTo>
                <a:cubicBezTo>
                  <a:pt x="11" y="493"/>
                  <a:pt x="0" y="377"/>
                  <a:pt x="35" y="294"/>
                </a:cubicBezTo>
                <a:cubicBezTo>
                  <a:pt x="47" y="264"/>
                  <a:pt x="95" y="243"/>
                  <a:pt x="124" y="230"/>
                </a:cubicBezTo>
                <a:cubicBezTo>
                  <a:pt x="136" y="225"/>
                  <a:pt x="163" y="218"/>
                  <a:pt x="163" y="218"/>
                </a:cubicBezTo>
                <a:cubicBezTo>
                  <a:pt x="206" y="188"/>
                  <a:pt x="186" y="197"/>
                  <a:pt x="220" y="186"/>
                </a:cubicBezTo>
                <a:cubicBezTo>
                  <a:pt x="246" y="159"/>
                  <a:pt x="255" y="163"/>
                  <a:pt x="291" y="154"/>
                </a:cubicBezTo>
                <a:cubicBezTo>
                  <a:pt x="320" y="147"/>
                  <a:pt x="345" y="130"/>
                  <a:pt x="374" y="122"/>
                </a:cubicBezTo>
                <a:cubicBezTo>
                  <a:pt x="483" y="90"/>
                  <a:pt x="590" y="54"/>
                  <a:pt x="700" y="26"/>
                </a:cubicBezTo>
                <a:cubicBezTo>
                  <a:pt x="738" y="16"/>
                  <a:pt x="770" y="0"/>
                  <a:pt x="809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2057400"/>
            <a:ext cx="1676520" cy="533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162920" y="4648320"/>
            <a:ext cx="1218960" cy="152388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41520" y="228600"/>
            <a:ext cx="544464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Range Transport:  Outfl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casting meteorological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individuals with AQ/weather forecast experience in Califor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e real-time high resolution met models, preferably with passive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aircraft/ship operations for different types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ntilation and recircul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2865600"/>
            <a:ext cx="8615160" cy="3041640"/>
          </a:xfrm>
          <a:custGeom>
            <a:avLst/>
            <a:gdLst/>
            <a:ahLst/>
            <a:rect l="l" t="t" r="r" b="b"/>
            <a:pathLst>
              <a:path w="5427" h="1916">
                <a:moveTo>
                  <a:pt x="0" y="1913"/>
                </a:moveTo>
                <a:cubicBezTo>
                  <a:pt x="174" y="1909"/>
                  <a:pt x="222" y="1916"/>
                  <a:pt x="352" y="1881"/>
                </a:cubicBezTo>
                <a:cubicBezTo>
                  <a:pt x="374" y="1867"/>
                  <a:pt x="390" y="1859"/>
                  <a:pt x="410" y="1843"/>
                </a:cubicBezTo>
                <a:cubicBezTo>
                  <a:pt x="422" y="1834"/>
                  <a:pt x="448" y="1817"/>
                  <a:pt x="448" y="1817"/>
                </a:cubicBezTo>
                <a:cubicBezTo>
                  <a:pt x="452" y="1811"/>
                  <a:pt x="455" y="1803"/>
                  <a:pt x="461" y="1798"/>
                </a:cubicBezTo>
                <a:cubicBezTo>
                  <a:pt x="472" y="1788"/>
                  <a:pt x="499" y="1773"/>
                  <a:pt x="499" y="1773"/>
                </a:cubicBezTo>
                <a:cubicBezTo>
                  <a:pt x="503" y="1766"/>
                  <a:pt x="506" y="1759"/>
                  <a:pt x="512" y="1753"/>
                </a:cubicBezTo>
                <a:cubicBezTo>
                  <a:pt x="517" y="1748"/>
                  <a:pt x="526" y="1747"/>
                  <a:pt x="531" y="1741"/>
                </a:cubicBezTo>
                <a:cubicBezTo>
                  <a:pt x="552" y="1715"/>
                  <a:pt x="542" y="1693"/>
                  <a:pt x="576" y="1670"/>
                </a:cubicBezTo>
                <a:cubicBezTo>
                  <a:pt x="583" y="1648"/>
                  <a:pt x="589" y="1632"/>
                  <a:pt x="602" y="1613"/>
                </a:cubicBezTo>
                <a:cubicBezTo>
                  <a:pt x="617" y="1564"/>
                  <a:pt x="595" y="1620"/>
                  <a:pt x="627" y="1581"/>
                </a:cubicBezTo>
                <a:cubicBezTo>
                  <a:pt x="639" y="1566"/>
                  <a:pt x="642" y="1540"/>
                  <a:pt x="653" y="1523"/>
                </a:cubicBezTo>
                <a:cubicBezTo>
                  <a:pt x="662" y="1493"/>
                  <a:pt x="678" y="1464"/>
                  <a:pt x="704" y="1446"/>
                </a:cubicBezTo>
                <a:cubicBezTo>
                  <a:pt x="718" y="1403"/>
                  <a:pt x="698" y="1447"/>
                  <a:pt x="730" y="1421"/>
                </a:cubicBezTo>
                <a:cubicBezTo>
                  <a:pt x="742" y="1411"/>
                  <a:pt x="744" y="1393"/>
                  <a:pt x="755" y="1382"/>
                </a:cubicBezTo>
                <a:cubicBezTo>
                  <a:pt x="775" y="1362"/>
                  <a:pt x="803" y="1333"/>
                  <a:pt x="826" y="1318"/>
                </a:cubicBezTo>
                <a:cubicBezTo>
                  <a:pt x="863" y="1260"/>
                  <a:pt x="932" y="1208"/>
                  <a:pt x="998" y="1190"/>
                </a:cubicBezTo>
                <a:cubicBezTo>
                  <a:pt x="1296" y="1197"/>
                  <a:pt x="1229" y="1167"/>
                  <a:pt x="1382" y="1241"/>
                </a:cubicBezTo>
                <a:cubicBezTo>
                  <a:pt x="1389" y="1248"/>
                  <a:pt x="1395" y="1255"/>
                  <a:pt x="1402" y="1261"/>
                </a:cubicBezTo>
                <a:cubicBezTo>
                  <a:pt x="1414" y="1270"/>
                  <a:pt x="1440" y="1286"/>
                  <a:pt x="1440" y="1286"/>
                </a:cubicBezTo>
                <a:cubicBezTo>
                  <a:pt x="1453" y="1304"/>
                  <a:pt x="1454" y="1326"/>
                  <a:pt x="1466" y="1344"/>
                </a:cubicBezTo>
                <a:cubicBezTo>
                  <a:pt x="1479" y="1363"/>
                  <a:pt x="1498" y="1382"/>
                  <a:pt x="1517" y="1395"/>
                </a:cubicBezTo>
                <a:cubicBezTo>
                  <a:pt x="1546" y="1439"/>
                  <a:pt x="1528" y="1428"/>
                  <a:pt x="1562" y="1440"/>
                </a:cubicBezTo>
                <a:cubicBezTo>
                  <a:pt x="1584" y="1475"/>
                  <a:pt x="1616" y="1507"/>
                  <a:pt x="1651" y="1529"/>
                </a:cubicBezTo>
                <a:cubicBezTo>
                  <a:pt x="1664" y="1565"/>
                  <a:pt x="1684" y="1598"/>
                  <a:pt x="1715" y="1619"/>
                </a:cubicBezTo>
                <a:cubicBezTo>
                  <a:pt x="1734" y="1646"/>
                  <a:pt x="1766" y="1692"/>
                  <a:pt x="1798" y="1702"/>
                </a:cubicBezTo>
                <a:cubicBezTo>
                  <a:pt x="1822" y="1738"/>
                  <a:pt x="1823" y="1746"/>
                  <a:pt x="1862" y="1760"/>
                </a:cubicBezTo>
                <a:cubicBezTo>
                  <a:pt x="1918" y="1842"/>
                  <a:pt x="2000" y="1808"/>
                  <a:pt x="2099" y="1811"/>
                </a:cubicBezTo>
                <a:cubicBezTo>
                  <a:pt x="2308" y="1831"/>
                  <a:pt x="2531" y="1869"/>
                  <a:pt x="2733" y="1805"/>
                </a:cubicBezTo>
                <a:cubicBezTo>
                  <a:pt x="2760" y="1787"/>
                  <a:pt x="2798" y="1751"/>
                  <a:pt x="2829" y="1741"/>
                </a:cubicBezTo>
                <a:cubicBezTo>
                  <a:pt x="2871" y="1712"/>
                  <a:pt x="2908" y="1681"/>
                  <a:pt x="2944" y="1645"/>
                </a:cubicBezTo>
                <a:cubicBezTo>
                  <a:pt x="2955" y="1634"/>
                  <a:pt x="2970" y="1606"/>
                  <a:pt x="2970" y="1606"/>
                </a:cubicBezTo>
                <a:cubicBezTo>
                  <a:pt x="2982" y="1558"/>
                  <a:pt x="2992" y="1488"/>
                  <a:pt x="3027" y="1453"/>
                </a:cubicBezTo>
                <a:cubicBezTo>
                  <a:pt x="3035" y="1431"/>
                  <a:pt x="3040" y="1414"/>
                  <a:pt x="3053" y="1395"/>
                </a:cubicBezTo>
                <a:cubicBezTo>
                  <a:pt x="3065" y="1358"/>
                  <a:pt x="3125" y="1291"/>
                  <a:pt x="3155" y="1261"/>
                </a:cubicBezTo>
                <a:cubicBezTo>
                  <a:pt x="3167" y="1227"/>
                  <a:pt x="3159" y="1246"/>
                  <a:pt x="3187" y="1203"/>
                </a:cubicBezTo>
                <a:cubicBezTo>
                  <a:pt x="3191" y="1197"/>
                  <a:pt x="3200" y="1184"/>
                  <a:pt x="3200" y="1184"/>
                </a:cubicBezTo>
                <a:cubicBezTo>
                  <a:pt x="3207" y="1163"/>
                  <a:pt x="3232" y="1126"/>
                  <a:pt x="3232" y="1126"/>
                </a:cubicBezTo>
                <a:cubicBezTo>
                  <a:pt x="3245" y="1084"/>
                  <a:pt x="3272" y="1048"/>
                  <a:pt x="3283" y="1005"/>
                </a:cubicBezTo>
                <a:cubicBezTo>
                  <a:pt x="3287" y="991"/>
                  <a:pt x="3295" y="945"/>
                  <a:pt x="3302" y="934"/>
                </a:cubicBezTo>
                <a:cubicBezTo>
                  <a:pt x="3354" y="858"/>
                  <a:pt x="3404" y="780"/>
                  <a:pt x="3456" y="704"/>
                </a:cubicBezTo>
                <a:cubicBezTo>
                  <a:pt x="3491" y="653"/>
                  <a:pt x="3522" y="587"/>
                  <a:pt x="3565" y="544"/>
                </a:cubicBezTo>
                <a:cubicBezTo>
                  <a:pt x="3572" y="509"/>
                  <a:pt x="3579" y="475"/>
                  <a:pt x="3590" y="441"/>
                </a:cubicBezTo>
                <a:cubicBezTo>
                  <a:pt x="3593" y="432"/>
                  <a:pt x="3604" y="429"/>
                  <a:pt x="3610" y="422"/>
                </a:cubicBezTo>
                <a:cubicBezTo>
                  <a:pt x="3629" y="399"/>
                  <a:pt x="3616" y="408"/>
                  <a:pt x="3629" y="384"/>
                </a:cubicBezTo>
                <a:cubicBezTo>
                  <a:pt x="3643" y="358"/>
                  <a:pt x="3642" y="370"/>
                  <a:pt x="3661" y="345"/>
                </a:cubicBezTo>
                <a:cubicBezTo>
                  <a:pt x="3683" y="316"/>
                  <a:pt x="3693" y="289"/>
                  <a:pt x="3725" y="269"/>
                </a:cubicBezTo>
                <a:cubicBezTo>
                  <a:pt x="3746" y="237"/>
                  <a:pt x="3782" y="213"/>
                  <a:pt x="3814" y="192"/>
                </a:cubicBezTo>
                <a:cubicBezTo>
                  <a:pt x="3822" y="187"/>
                  <a:pt x="3827" y="179"/>
                  <a:pt x="3834" y="173"/>
                </a:cubicBezTo>
                <a:cubicBezTo>
                  <a:pt x="3846" y="164"/>
                  <a:pt x="3872" y="147"/>
                  <a:pt x="3872" y="147"/>
                </a:cubicBezTo>
                <a:cubicBezTo>
                  <a:pt x="3903" y="101"/>
                  <a:pt x="3967" y="67"/>
                  <a:pt x="4019" y="51"/>
                </a:cubicBezTo>
                <a:cubicBezTo>
                  <a:pt x="4057" y="26"/>
                  <a:pt x="4091" y="13"/>
                  <a:pt x="4134" y="0"/>
                </a:cubicBezTo>
                <a:cubicBezTo>
                  <a:pt x="4215" y="4"/>
                  <a:pt x="4266" y="11"/>
                  <a:pt x="4339" y="25"/>
                </a:cubicBezTo>
                <a:cubicBezTo>
                  <a:pt x="4384" y="55"/>
                  <a:pt x="4363" y="46"/>
                  <a:pt x="4397" y="57"/>
                </a:cubicBezTo>
                <a:cubicBezTo>
                  <a:pt x="4403" y="61"/>
                  <a:pt x="4411" y="65"/>
                  <a:pt x="4416" y="70"/>
                </a:cubicBezTo>
                <a:cubicBezTo>
                  <a:pt x="4421" y="75"/>
                  <a:pt x="4423" y="84"/>
                  <a:pt x="4429" y="89"/>
                </a:cubicBezTo>
                <a:cubicBezTo>
                  <a:pt x="4443" y="100"/>
                  <a:pt x="4470" y="101"/>
                  <a:pt x="4486" y="109"/>
                </a:cubicBezTo>
                <a:cubicBezTo>
                  <a:pt x="4509" y="120"/>
                  <a:pt x="4523" y="140"/>
                  <a:pt x="4544" y="153"/>
                </a:cubicBezTo>
                <a:cubicBezTo>
                  <a:pt x="4574" y="198"/>
                  <a:pt x="4604" y="243"/>
                  <a:pt x="4634" y="288"/>
                </a:cubicBezTo>
                <a:cubicBezTo>
                  <a:pt x="4652" y="315"/>
                  <a:pt x="4662" y="340"/>
                  <a:pt x="4685" y="365"/>
                </a:cubicBezTo>
                <a:cubicBezTo>
                  <a:pt x="4692" y="386"/>
                  <a:pt x="4717" y="422"/>
                  <a:pt x="4717" y="422"/>
                </a:cubicBezTo>
                <a:cubicBezTo>
                  <a:pt x="4726" y="451"/>
                  <a:pt x="4751" y="474"/>
                  <a:pt x="4768" y="499"/>
                </a:cubicBezTo>
                <a:cubicBezTo>
                  <a:pt x="4772" y="505"/>
                  <a:pt x="4781" y="518"/>
                  <a:pt x="4781" y="518"/>
                </a:cubicBezTo>
                <a:cubicBezTo>
                  <a:pt x="4795" y="562"/>
                  <a:pt x="4836" y="591"/>
                  <a:pt x="4851" y="633"/>
                </a:cubicBezTo>
                <a:cubicBezTo>
                  <a:pt x="4864" y="671"/>
                  <a:pt x="4891" y="705"/>
                  <a:pt x="4915" y="736"/>
                </a:cubicBezTo>
                <a:cubicBezTo>
                  <a:pt x="4934" y="760"/>
                  <a:pt x="4948" y="793"/>
                  <a:pt x="4973" y="813"/>
                </a:cubicBezTo>
                <a:cubicBezTo>
                  <a:pt x="4985" y="822"/>
                  <a:pt x="5000" y="827"/>
                  <a:pt x="5011" y="838"/>
                </a:cubicBezTo>
                <a:cubicBezTo>
                  <a:pt x="5017" y="844"/>
                  <a:pt x="5022" y="853"/>
                  <a:pt x="5030" y="857"/>
                </a:cubicBezTo>
                <a:cubicBezTo>
                  <a:pt x="5060" y="873"/>
                  <a:pt x="5101" y="879"/>
                  <a:pt x="5133" y="889"/>
                </a:cubicBezTo>
                <a:cubicBezTo>
                  <a:pt x="5219" y="957"/>
                  <a:pt x="5321" y="941"/>
                  <a:pt x="5427" y="94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82720" y="3738600"/>
            <a:ext cx="1198800" cy="1717560"/>
          </a:xfrm>
          <a:custGeom>
            <a:avLst/>
            <a:gdLst/>
            <a:ahLst/>
            <a:rect l="l" t="t" r="r" b="b"/>
            <a:pathLst>
              <a:path w="755" h="1082">
                <a:moveTo>
                  <a:pt x="544" y="1082"/>
                </a:moveTo>
                <a:cubicBezTo>
                  <a:pt x="490" y="1031"/>
                  <a:pt x="437" y="978"/>
                  <a:pt x="390" y="922"/>
                </a:cubicBezTo>
                <a:cubicBezTo>
                  <a:pt x="375" y="904"/>
                  <a:pt x="351" y="886"/>
                  <a:pt x="332" y="871"/>
                </a:cubicBezTo>
                <a:cubicBezTo>
                  <a:pt x="320" y="862"/>
                  <a:pt x="294" y="845"/>
                  <a:pt x="294" y="845"/>
                </a:cubicBezTo>
                <a:cubicBezTo>
                  <a:pt x="275" y="818"/>
                  <a:pt x="243" y="772"/>
                  <a:pt x="211" y="762"/>
                </a:cubicBezTo>
                <a:cubicBezTo>
                  <a:pt x="195" y="738"/>
                  <a:pt x="171" y="714"/>
                  <a:pt x="147" y="698"/>
                </a:cubicBezTo>
                <a:cubicBezTo>
                  <a:pt x="134" y="664"/>
                  <a:pt x="104" y="633"/>
                  <a:pt x="83" y="602"/>
                </a:cubicBezTo>
                <a:cubicBezTo>
                  <a:pt x="74" y="589"/>
                  <a:pt x="57" y="563"/>
                  <a:pt x="57" y="563"/>
                </a:cubicBezTo>
                <a:cubicBezTo>
                  <a:pt x="47" y="532"/>
                  <a:pt x="22" y="511"/>
                  <a:pt x="12" y="480"/>
                </a:cubicBezTo>
                <a:cubicBezTo>
                  <a:pt x="8" y="467"/>
                  <a:pt x="0" y="442"/>
                  <a:pt x="0" y="442"/>
                </a:cubicBezTo>
                <a:cubicBezTo>
                  <a:pt x="5" y="280"/>
                  <a:pt x="3" y="270"/>
                  <a:pt x="38" y="147"/>
                </a:cubicBezTo>
                <a:cubicBezTo>
                  <a:pt x="38" y="147"/>
                  <a:pt x="43" y="98"/>
                  <a:pt x="51" y="90"/>
                </a:cubicBezTo>
                <a:cubicBezTo>
                  <a:pt x="103" y="39"/>
                  <a:pt x="168" y="19"/>
                  <a:pt x="236" y="0"/>
                </a:cubicBezTo>
                <a:cubicBezTo>
                  <a:pt x="356" y="5"/>
                  <a:pt x="469" y="14"/>
                  <a:pt x="588" y="26"/>
                </a:cubicBezTo>
                <a:cubicBezTo>
                  <a:pt x="612" y="33"/>
                  <a:pt x="631" y="44"/>
                  <a:pt x="652" y="58"/>
                </a:cubicBezTo>
                <a:cubicBezTo>
                  <a:pt x="661" y="71"/>
                  <a:pt x="669" y="83"/>
                  <a:pt x="678" y="96"/>
                </a:cubicBezTo>
                <a:cubicBezTo>
                  <a:pt x="682" y="102"/>
                  <a:pt x="691" y="115"/>
                  <a:pt x="691" y="115"/>
                </a:cubicBezTo>
                <a:cubicBezTo>
                  <a:pt x="699" y="143"/>
                  <a:pt x="710" y="170"/>
                  <a:pt x="716" y="199"/>
                </a:cubicBezTo>
                <a:cubicBezTo>
                  <a:pt x="724" y="239"/>
                  <a:pt x="725" y="280"/>
                  <a:pt x="736" y="320"/>
                </a:cubicBezTo>
                <a:cubicBezTo>
                  <a:pt x="738" y="361"/>
                  <a:pt x="739" y="401"/>
                  <a:pt x="742" y="442"/>
                </a:cubicBezTo>
                <a:cubicBezTo>
                  <a:pt x="744" y="470"/>
                  <a:pt x="755" y="496"/>
                  <a:pt x="755" y="525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78360" y="2851200"/>
            <a:ext cx="1900080" cy="2655720"/>
          </a:xfrm>
          <a:custGeom>
            <a:avLst/>
            <a:gdLst/>
            <a:ahLst/>
            <a:rect l="l" t="t" r="r" b="b"/>
            <a:pathLst>
              <a:path w="1197" h="1673">
                <a:moveTo>
                  <a:pt x="304" y="1673"/>
                </a:moveTo>
                <a:cubicBezTo>
                  <a:pt x="324" y="1659"/>
                  <a:pt x="352" y="1629"/>
                  <a:pt x="374" y="1622"/>
                </a:cubicBezTo>
                <a:cubicBezTo>
                  <a:pt x="397" y="1597"/>
                  <a:pt x="425" y="1580"/>
                  <a:pt x="451" y="1558"/>
                </a:cubicBezTo>
                <a:cubicBezTo>
                  <a:pt x="485" y="1529"/>
                  <a:pt x="503" y="1490"/>
                  <a:pt x="547" y="1474"/>
                </a:cubicBezTo>
                <a:cubicBezTo>
                  <a:pt x="565" y="1456"/>
                  <a:pt x="586" y="1441"/>
                  <a:pt x="604" y="1423"/>
                </a:cubicBezTo>
                <a:cubicBezTo>
                  <a:pt x="606" y="1417"/>
                  <a:pt x="608" y="1410"/>
                  <a:pt x="611" y="1404"/>
                </a:cubicBezTo>
                <a:cubicBezTo>
                  <a:pt x="615" y="1397"/>
                  <a:pt x="621" y="1392"/>
                  <a:pt x="624" y="1385"/>
                </a:cubicBezTo>
                <a:cubicBezTo>
                  <a:pt x="634" y="1362"/>
                  <a:pt x="641" y="1332"/>
                  <a:pt x="649" y="1308"/>
                </a:cubicBezTo>
                <a:cubicBezTo>
                  <a:pt x="656" y="1248"/>
                  <a:pt x="666" y="1167"/>
                  <a:pt x="694" y="1110"/>
                </a:cubicBezTo>
                <a:cubicBezTo>
                  <a:pt x="718" y="1062"/>
                  <a:pt x="754" y="1018"/>
                  <a:pt x="784" y="975"/>
                </a:cubicBezTo>
                <a:cubicBezTo>
                  <a:pt x="791" y="952"/>
                  <a:pt x="804" y="932"/>
                  <a:pt x="816" y="911"/>
                </a:cubicBezTo>
                <a:cubicBezTo>
                  <a:pt x="823" y="898"/>
                  <a:pt x="841" y="873"/>
                  <a:pt x="841" y="873"/>
                </a:cubicBezTo>
                <a:cubicBezTo>
                  <a:pt x="851" y="836"/>
                  <a:pt x="871" y="802"/>
                  <a:pt x="892" y="770"/>
                </a:cubicBezTo>
                <a:cubicBezTo>
                  <a:pt x="900" y="757"/>
                  <a:pt x="918" y="732"/>
                  <a:pt x="918" y="732"/>
                </a:cubicBezTo>
                <a:cubicBezTo>
                  <a:pt x="929" y="698"/>
                  <a:pt x="921" y="718"/>
                  <a:pt x="950" y="674"/>
                </a:cubicBezTo>
                <a:cubicBezTo>
                  <a:pt x="954" y="668"/>
                  <a:pt x="963" y="655"/>
                  <a:pt x="963" y="655"/>
                </a:cubicBezTo>
                <a:cubicBezTo>
                  <a:pt x="971" y="630"/>
                  <a:pt x="979" y="619"/>
                  <a:pt x="1001" y="604"/>
                </a:cubicBezTo>
                <a:cubicBezTo>
                  <a:pt x="1017" y="560"/>
                  <a:pt x="995" y="609"/>
                  <a:pt x="1027" y="572"/>
                </a:cubicBezTo>
                <a:cubicBezTo>
                  <a:pt x="1054" y="540"/>
                  <a:pt x="1073" y="505"/>
                  <a:pt x="1104" y="476"/>
                </a:cubicBezTo>
                <a:cubicBezTo>
                  <a:pt x="1118" y="431"/>
                  <a:pt x="1098" y="483"/>
                  <a:pt x="1129" y="444"/>
                </a:cubicBezTo>
                <a:cubicBezTo>
                  <a:pt x="1149" y="420"/>
                  <a:pt x="1149" y="376"/>
                  <a:pt x="1168" y="348"/>
                </a:cubicBezTo>
                <a:cubicBezTo>
                  <a:pt x="1172" y="335"/>
                  <a:pt x="1176" y="323"/>
                  <a:pt x="1180" y="310"/>
                </a:cubicBezTo>
                <a:cubicBezTo>
                  <a:pt x="1182" y="303"/>
                  <a:pt x="1187" y="290"/>
                  <a:pt x="1187" y="290"/>
                </a:cubicBezTo>
                <a:cubicBezTo>
                  <a:pt x="1184" y="239"/>
                  <a:pt x="1197" y="183"/>
                  <a:pt x="1174" y="137"/>
                </a:cubicBezTo>
                <a:cubicBezTo>
                  <a:pt x="1164" y="117"/>
                  <a:pt x="1123" y="92"/>
                  <a:pt x="1123" y="92"/>
                </a:cubicBezTo>
                <a:cubicBezTo>
                  <a:pt x="1094" y="49"/>
                  <a:pt x="1020" y="21"/>
                  <a:pt x="969" y="9"/>
                </a:cubicBezTo>
                <a:cubicBezTo>
                  <a:pt x="612" y="13"/>
                  <a:pt x="543" y="0"/>
                  <a:pt x="304" y="28"/>
                </a:cubicBezTo>
                <a:cubicBezTo>
                  <a:pt x="282" y="42"/>
                  <a:pt x="261" y="45"/>
                  <a:pt x="240" y="60"/>
                </a:cubicBezTo>
                <a:cubicBezTo>
                  <a:pt x="213" y="99"/>
                  <a:pt x="184" y="141"/>
                  <a:pt x="150" y="175"/>
                </a:cubicBezTo>
                <a:cubicBezTo>
                  <a:pt x="139" y="209"/>
                  <a:pt x="119" y="242"/>
                  <a:pt x="99" y="271"/>
                </a:cubicBezTo>
                <a:cubicBezTo>
                  <a:pt x="93" y="280"/>
                  <a:pt x="86" y="288"/>
                  <a:pt x="80" y="297"/>
                </a:cubicBezTo>
                <a:cubicBezTo>
                  <a:pt x="76" y="303"/>
                  <a:pt x="71" y="310"/>
                  <a:pt x="67" y="316"/>
                </a:cubicBezTo>
                <a:cubicBezTo>
                  <a:pt x="63" y="322"/>
                  <a:pt x="54" y="335"/>
                  <a:pt x="54" y="335"/>
                </a:cubicBezTo>
                <a:cubicBezTo>
                  <a:pt x="0" y="497"/>
                  <a:pt x="22" y="547"/>
                  <a:pt x="22" y="777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11280" y="53704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st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58880" y="437976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rra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3485" t="13192" r="17373" b="6718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676840" y="3276720"/>
            <a:ext cx="182520" cy="182520"/>
          </a:xfrm>
          <a:prstGeom prst="flowChartSummingJunction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29480" y="4465800"/>
            <a:ext cx="182520" cy="182520"/>
          </a:xfrm>
          <a:prstGeom prst="flowChartSummingJunction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475400" y="5332320"/>
            <a:ext cx="182880" cy="182520"/>
          </a:xfrm>
          <a:prstGeom prst="flowChartSummingJunction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71880" y="2424240"/>
            <a:ext cx="2270160" cy="1834920"/>
          </a:xfrm>
          <a:custGeom>
            <a:avLst/>
            <a:gdLst/>
            <a:ahLst/>
            <a:rect l="l" t="t" r="r" b="b"/>
            <a:pathLst>
              <a:path w="1430" h="1156">
                <a:moveTo>
                  <a:pt x="0" y="348"/>
                </a:moveTo>
                <a:cubicBezTo>
                  <a:pt x="16" y="325"/>
                  <a:pt x="29" y="325"/>
                  <a:pt x="52" y="310"/>
                </a:cubicBezTo>
                <a:cubicBezTo>
                  <a:pt x="75" y="273"/>
                  <a:pt x="126" y="263"/>
                  <a:pt x="167" y="252"/>
                </a:cubicBezTo>
                <a:cubicBezTo>
                  <a:pt x="442" y="261"/>
                  <a:pt x="305" y="246"/>
                  <a:pt x="423" y="278"/>
                </a:cubicBezTo>
                <a:cubicBezTo>
                  <a:pt x="440" y="290"/>
                  <a:pt x="448" y="293"/>
                  <a:pt x="461" y="310"/>
                </a:cubicBezTo>
                <a:cubicBezTo>
                  <a:pt x="471" y="322"/>
                  <a:pt x="487" y="348"/>
                  <a:pt x="487" y="348"/>
                </a:cubicBezTo>
                <a:cubicBezTo>
                  <a:pt x="503" y="398"/>
                  <a:pt x="540" y="427"/>
                  <a:pt x="576" y="463"/>
                </a:cubicBezTo>
                <a:cubicBezTo>
                  <a:pt x="582" y="469"/>
                  <a:pt x="583" y="477"/>
                  <a:pt x="589" y="483"/>
                </a:cubicBezTo>
                <a:cubicBezTo>
                  <a:pt x="602" y="496"/>
                  <a:pt x="621" y="502"/>
                  <a:pt x="634" y="515"/>
                </a:cubicBezTo>
                <a:cubicBezTo>
                  <a:pt x="657" y="538"/>
                  <a:pt x="671" y="566"/>
                  <a:pt x="698" y="585"/>
                </a:cubicBezTo>
                <a:cubicBezTo>
                  <a:pt x="733" y="636"/>
                  <a:pt x="687" y="574"/>
                  <a:pt x="730" y="617"/>
                </a:cubicBezTo>
                <a:cubicBezTo>
                  <a:pt x="758" y="645"/>
                  <a:pt x="780" y="684"/>
                  <a:pt x="813" y="707"/>
                </a:cubicBezTo>
                <a:cubicBezTo>
                  <a:pt x="831" y="733"/>
                  <a:pt x="857" y="752"/>
                  <a:pt x="877" y="777"/>
                </a:cubicBezTo>
                <a:cubicBezTo>
                  <a:pt x="887" y="789"/>
                  <a:pt x="903" y="815"/>
                  <a:pt x="903" y="815"/>
                </a:cubicBezTo>
                <a:cubicBezTo>
                  <a:pt x="912" y="844"/>
                  <a:pt x="936" y="866"/>
                  <a:pt x="954" y="892"/>
                </a:cubicBezTo>
                <a:cubicBezTo>
                  <a:pt x="989" y="943"/>
                  <a:pt x="1026" y="1027"/>
                  <a:pt x="1076" y="1059"/>
                </a:cubicBezTo>
                <a:cubicBezTo>
                  <a:pt x="1084" y="1083"/>
                  <a:pt x="1100" y="1095"/>
                  <a:pt x="1114" y="1116"/>
                </a:cubicBezTo>
                <a:cubicBezTo>
                  <a:pt x="1123" y="1145"/>
                  <a:pt x="1137" y="1147"/>
                  <a:pt x="1165" y="1155"/>
                </a:cubicBezTo>
                <a:cubicBezTo>
                  <a:pt x="1212" y="1153"/>
                  <a:pt x="1260" y="1156"/>
                  <a:pt x="1306" y="1148"/>
                </a:cubicBezTo>
                <a:cubicBezTo>
                  <a:pt x="1321" y="1145"/>
                  <a:pt x="1331" y="1131"/>
                  <a:pt x="1344" y="1123"/>
                </a:cubicBezTo>
                <a:cubicBezTo>
                  <a:pt x="1351" y="1119"/>
                  <a:pt x="1364" y="1110"/>
                  <a:pt x="1364" y="1110"/>
                </a:cubicBezTo>
                <a:cubicBezTo>
                  <a:pt x="1372" y="1097"/>
                  <a:pt x="1381" y="1084"/>
                  <a:pt x="1389" y="1071"/>
                </a:cubicBezTo>
                <a:cubicBezTo>
                  <a:pt x="1393" y="1065"/>
                  <a:pt x="1402" y="1052"/>
                  <a:pt x="1402" y="1052"/>
                </a:cubicBezTo>
                <a:cubicBezTo>
                  <a:pt x="1430" y="965"/>
                  <a:pt x="1424" y="857"/>
                  <a:pt x="1357" y="790"/>
                </a:cubicBezTo>
                <a:cubicBezTo>
                  <a:pt x="1342" y="746"/>
                  <a:pt x="1322" y="729"/>
                  <a:pt x="1293" y="694"/>
                </a:cubicBezTo>
                <a:cubicBezTo>
                  <a:pt x="1274" y="671"/>
                  <a:pt x="1258" y="641"/>
                  <a:pt x="1242" y="617"/>
                </a:cubicBezTo>
                <a:cubicBezTo>
                  <a:pt x="1226" y="594"/>
                  <a:pt x="1210" y="559"/>
                  <a:pt x="1191" y="540"/>
                </a:cubicBezTo>
                <a:cubicBezTo>
                  <a:pt x="1167" y="516"/>
                  <a:pt x="1141" y="497"/>
                  <a:pt x="1120" y="470"/>
                </a:cubicBezTo>
                <a:cubicBezTo>
                  <a:pt x="1094" y="436"/>
                  <a:pt x="1069" y="396"/>
                  <a:pt x="1037" y="367"/>
                </a:cubicBezTo>
                <a:cubicBezTo>
                  <a:pt x="1001" y="335"/>
                  <a:pt x="1004" y="354"/>
                  <a:pt x="980" y="323"/>
                </a:cubicBezTo>
                <a:cubicBezTo>
                  <a:pt x="941" y="272"/>
                  <a:pt x="899" y="225"/>
                  <a:pt x="845" y="188"/>
                </a:cubicBezTo>
                <a:cubicBezTo>
                  <a:pt x="836" y="175"/>
                  <a:pt x="812" y="147"/>
                  <a:pt x="800" y="137"/>
                </a:cubicBezTo>
                <a:cubicBezTo>
                  <a:pt x="788" y="127"/>
                  <a:pt x="762" y="111"/>
                  <a:pt x="762" y="111"/>
                </a:cubicBezTo>
                <a:cubicBezTo>
                  <a:pt x="747" y="89"/>
                  <a:pt x="736" y="81"/>
                  <a:pt x="711" y="73"/>
                </a:cubicBezTo>
                <a:cubicBezTo>
                  <a:pt x="688" y="58"/>
                  <a:pt x="660" y="30"/>
                  <a:pt x="634" y="22"/>
                </a:cubicBezTo>
                <a:cubicBezTo>
                  <a:pt x="612" y="0"/>
                  <a:pt x="624" y="3"/>
                  <a:pt x="602" y="3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54840" y="4152960"/>
            <a:ext cx="1331640" cy="84240"/>
          </a:xfrm>
          <a:custGeom>
            <a:avLst/>
            <a:gdLst/>
            <a:ahLst/>
            <a:rect l="l" t="t" r="r" b="b"/>
            <a:pathLst>
              <a:path w="839" h="53">
                <a:moveTo>
                  <a:pt x="0" y="53"/>
                </a:moveTo>
                <a:cubicBezTo>
                  <a:pt x="32" y="51"/>
                  <a:pt x="64" y="50"/>
                  <a:pt x="96" y="46"/>
                </a:cubicBezTo>
                <a:cubicBezTo>
                  <a:pt x="150" y="40"/>
                  <a:pt x="201" y="3"/>
                  <a:pt x="256" y="2"/>
                </a:cubicBezTo>
                <a:cubicBezTo>
                  <a:pt x="450" y="0"/>
                  <a:pt x="645" y="2"/>
                  <a:pt x="839" y="2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35880" y="711360"/>
            <a:ext cx="616104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irculation along slopes of Sierr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3485" t="13192" r="17373" b="6718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5676840" y="3276720"/>
            <a:ext cx="182520" cy="182520"/>
          </a:xfrm>
          <a:prstGeom prst="flowChartSummingJunction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829480" y="4465800"/>
            <a:ext cx="182520" cy="182520"/>
          </a:xfrm>
          <a:prstGeom prst="flowChartSummingJunction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75400" y="5332320"/>
            <a:ext cx="182880" cy="182520"/>
          </a:xfrm>
          <a:prstGeom prst="flowChartSummingJunction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714640" y="3657240"/>
            <a:ext cx="685800" cy="160020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93360" y="1055520"/>
            <a:ext cx="560016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basin Transport: L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V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0" b="48892"/>
          <a:stretch/>
        </p:blipFill>
        <p:spPr>
          <a:xfrm>
            <a:off x="228600" y="838080"/>
            <a:ext cx="822960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3485" t="13192" r="17373" b="6718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5676840" y="3276720"/>
            <a:ext cx="182520" cy="182520"/>
          </a:xfrm>
          <a:prstGeom prst="flowChartSummingJunction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29480" y="4465800"/>
            <a:ext cx="182520" cy="182520"/>
          </a:xfrm>
          <a:prstGeom prst="flowChartSummingJunction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75400" y="5332320"/>
            <a:ext cx="182880" cy="182520"/>
          </a:xfrm>
          <a:prstGeom prst="flowChartSummingJunction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5714640" y="3657240"/>
            <a:ext cx="685800" cy="160020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93360" y="1055520"/>
            <a:ext cx="560016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basin Transport: L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V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3485" t="13192" r="17373" b="6718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676840" y="3276720"/>
            <a:ext cx="182520" cy="182520"/>
          </a:xfrm>
          <a:prstGeom prst="flowChartSummingJunction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829480" y="4465800"/>
            <a:ext cx="182520" cy="182520"/>
          </a:xfrm>
          <a:prstGeom prst="flowChartSummingJunction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75400" y="5332320"/>
            <a:ext cx="182880" cy="182520"/>
          </a:xfrm>
          <a:prstGeom prst="flowChartSummingJunction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57680" y="4022640"/>
            <a:ext cx="1641600" cy="1230480"/>
          </a:xfrm>
          <a:custGeom>
            <a:avLst/>
            <a:gdLst/>
            <a:ahLst/>
            <a:rect l="l" t="t" r="r" b="b"/>
            <a:pathLst>
              <a:path w="1034" h="775">
                <a:moveTo>
                  <a:pt x="1034" y="775"/>
                </a:moveTo>
                <a:cubicBezTo>
                  <a:pt x="922" y="770"/>
                  <a:pt x="831" y="763"/>
                  <a:pt x="727" y="730"/>
                </a:cubicBezTo>
                <a:cubicBezTo>
                  <a:pt x="683" y="700"/>
                  <a:pt x="612" y="694"/>
                  <a:pt x="560" y="679"/>
                </a:cubicBezTo>
                <a:cubicBezTo>
                  <a:pt x="514" y="666"/>
                  <a:pt x="466" y="659"/>
                  <a:pt x="420" y="647"/>
                </a:cubicBezTo>
                <a:cubicBezTo>
                  <a:pt x="349" y="629"/>
                  <a:pt x="279" y="604"/>
                  <a:pt x="208" y="583"/>
                </a:cubicBezTo>
                <a:cubicBezTo>
                  <a:pt x="165" y="553"/>
                  <a:pt x="185" y="562"/>
                  <a:pt x="151" y="551"/>
                </a:cubicBezTo>
                <a:cubicBezTo>
                  <a:pt x="145" y="547"/>
                  <a:pt x="137" y="543"/>
                  <a:pt x="132" y="538"/>
                </a:cubicBezTo>
                <a:cubicBezTo>
                  <a:pt x="127" y="533"/>
                  <a:pt x="125" y="524"/>
                  <a:pt x="119" y="519"/>
                </a:cubicBezTo>
                <a:cubicBezTo>
                  <a:pt x="112" y="513"/>
                  <a:pt x="101" y="511"/>
                  <a:pt x="93" y="506"/>
                </a:cubicBezTo>
                <a:cubicBezTo>
                  <a:pt x="62" y="487"/>
                  <a:pt x="43" y="472"/>
                  <a:pt x="23" y="442"/>
                </a:cubicBezTo>
                <a:cubicBezTo>
                  <a:pt x="19" y="426"/>
                  <a:pt x="5" y="413"/>
                  <a:pt x="4" y="397"/>
                </a:cubicBezTo>
                <a:cubicBezTo>
                  <a:pt x="0" y="316"/>
                  <a:pt x="21" y="226"/>
                  <a:pt x="106" y="199"/>
                </a:cubicBezTo>
                <a:cubicBezTo>
                  <a:pt x="198" y="136"/>
                  <a:pt x="329" y="101"/>
                  <a:pt x="439" y="84"/>
                </a:cubicBezTo>
                <a:cubicBezTo>
                  <a:pt x="460" y="76"/>
                  <a:pt x="482" y="71"/>
                  <a:pt x="503" y="64"/>
                </a:cubicBezTo>
                <a:cubicBezTo>
                  <a:pt x="516" y="60"/>
                  <a:pt x="541" y="52"/>
                  <a:pt x="541" y="52"/>
                </a:cubicBezTo>
                <a:cubicBezTo>
                  <a:pt x="562" y="37"/>
                  <a:pt x="588" y="20"/>
                  <a:pt x="605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94200" y="3124080"/>
            <a:ext cx="904680" cy="1403640"/>
          </a:xfrm>
          <a:custGeom>
            <a:avLst/>
            <a:gdLst/>
            <a:ahLst/>
            <a:rect l="l" t="t" r="r" b="b"/>
            <a:pathLst>
              <a:path w="570" h="884">
                <a:moveTo>
                  <a:pt x="365" y="884"/>
                </a:moveTo>
                <a:cubicBezTo>
                  <a:pt x="335" y="839"/>
                  <a:pt x="352" y="854"/>
                  <a:pt x="320" y="832"/>
                </a:cubicBezTo>
                <a:cubicBezTo>
                  <a:pt x="273" y="764"/>
                  <a:pt x="346" y="867"/>
                  <a:pt x="288" y="794"/>
                </a:cubicBezTo>
                <a:cubicBezTo>
                  <a:pt x="274" y="776"/>
                  <a:pt x="266" y="752"/>
                  <a:pt x="250" y="736"/>
                </a:cubicBezTo>
                <a:cubicBezTo>
                  <a:pt x="204" y="690"/>
                  <a:pt x="256" y="764"/>
                  <a:pt x="211" y="704"/>
                </a:cubicBezTo>
                <a:cubicBezTo>
                  <a:pt x="189" y="675"/>
                  <a:pt x="183" y="654"/>
                  <a:pt x="154" y="634"/>
                </a:cubicBezTo>
                <a:cubicBezTo>
                  <a:pt x="135" y="606"/>
                  <a:pt x="111" y="583"/>
                  <a:pt x="90" y="557"/>
                </a:cubicBezTo>
                <a:cubicBezTo>
                  <a:pt x="80" y="545"/>
                  <a:pt x="64" y="519"/>
                  <a:pt x="64" y="519"/>
                </a:cubicBezTo>
                <a:cubicBezTo>
                  <a:pt x="49" y="473"/>
                  <a:pt x="59" y="491"/>
                  <a:pt x="38" y="461"/>
                </a:cubicBezTo>
                <a:cubicBezTo>
                  <a:pt x="26" y="422"/>
                  <a:pt x="12" y="385"/>
                  <a:pt x="0" y="346"/>
                </a:cubicBezTo>
                <a:cubicBezTo>
                  <a:pt x="6" y="311"/>
                  <a:pt x="0" y="256"/>
                  <a:pt x="38" y="244"/>
                </a:cubicBezTo>
                <a:cubicBezTo>
                  <a:pt x="87" y="212"/>
                  <a:pt x="123" y="216"/>
                  <a:pt x="186" y="212"/>
                </a:cubicBezTo>
                <a:cubicBezTo>
                  <a:pt x="200" y="207"/>
                  <a:pt x="216" y="205"/>
                  <a:pt x="230" y="199"/>
                </a:cubicBezTo>
                <a:cubicBezTo>
                  <a:pt x="256" y="188"/>
                  <a:pt x="272" y="174"/>
                  <a:pt x="301" y="167"/>
                </a:cubicBezTo>
                <a:cubicBezTo>
                  <a:pt x="333" y="145"/>
                  <a:pt x="367" y="133"/>
                  <a:pt x="403" y="122"/>
                </a:cubicBezTo>
                <a:cubicBezTo>
                  <a:pt x="434" y="102"/>
                  <a:pt x="505" y="44"/>
                  <a:pt x="538" y="32"/>
                </a:cubicBezTo>
                <a:cubicBezTo>
                  <a:pt x="549" y="21"/>
                  <a:pt x="559" y="11"/>
                  <a:pt x="570" y="0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99840" y="1055520"/>
            <a:ext cx="736632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basin Transport: Offshore Surge Ev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3485" t="13192" r="17373" b="6718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676840" y="3276720"/>
            <a:ext cx="182520" cy="182520"/>
          </a:xfrm>
          <a:prstGeom prst="flowChartSummingJunction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29480" y="4465800"/>
            <a:ext cx="182520" cy="182520"/>
          </a:xfrm>
          <a:prstGeom prst="flowChartSummingJunction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75400" y="5332320"/>
            <a:ext cx="182880" cy="182520"/>
          </a:xfrm>
          <a:prstGeom prst="flowChartSummingJunction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2057400"/>
            <a:ext cx="1676520" cy="533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02000" y="1055520"/>
            <a:ext cx="483192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Range Transport: Asi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3485" t="13192" r="17373" b="6718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676840" y="3276720"/>
            <a:ext cx="182520" cy="182520"/>
          </a:xfrm>
          <a:prstGeom prst="flowChartSummingJunction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29480" y="4465800"/>
            <a:ext cx="182520" cy="182520"/>
          </a:xfrm>
          <a:prstGeom prst="flowChartSummingJunction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75400" y="5332320"/>
            <a:ext cx="182880" cy="182520"/>
          </a:xfrm>
          <a:prstGeom prst="flowChartSummingJunction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2057400"/>
            <a:ext cx="1676520" cy="533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162920" y="4724280"/>
            <a:ext cx="1218960" cy="144792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02360" y="1055520"/>
            <a:ext cx="526788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Range Transport: Mexic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30T20:38:17Z</dcterms:created>
  <dc:creator>jwilczak</dc:creator>
  <dc:description/>
  <dc:language>en-US</dc:language>
  <cp:lastModifiedBy>James</cp:lastModifiedBy>
  <dcterms:modified xsi:type="dcterms:W3CDTF">2009-01-06T05:16:12Z</dcterms:modified>
  <cp:revision>37</cp:revision>
  <dc:subject/>
  <dc:title>Slide 1</dc:title>
</cp:coreProperties>
</file>