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66B9-A4D5-4A9F-897A-2E093E76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961F-2B19-4A59-BFDC-A7568391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84C9-C004-4E94-A69F-86345B72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72F6-6F5F-4254-9C08-F7FB00D7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02CB-7D9F-4D61-A40A-53BE239B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F92A-816A-47AA-9065-B8062AEC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11CE-A321-41E2-A094-4AA0BA3F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62D2-F522-4AAE-9A97-0589448C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37C9-3C49-430B-9C0A-5B74CDC1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3933-C400-4AD6-A0DE-236D102B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4C94-023D-454D-B935-30706396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15A4-353E-4653-B772-619B4F57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4C969-55C6-48BC-AF16-AE37CBF109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1B8C71-F558-48EC-BC49-B45DBE4B9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957600" y="762120"/>
            <a:ext cx="700956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:0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arge for the joint work discussion perio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yers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“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 emphasis is on collaboration between the platfor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.e., what ea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 brings to the table, how they complement each oth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how we can get the most out of the collaboration” 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sh Quin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cussion leads will star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a slide or two sugges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“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modifications to individual platforms’ deployment strategy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-campaign analyses that might better address CalNex science goal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imposing undue strain on existing plans for any one plat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llow by discussion and feedback from all; 30 min. to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:0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basin transpor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ilcza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Hardesty/Parri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:3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shore transport and recircul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uck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Fairall/Brow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processing - gas and aeroso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yers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Brock/de Gou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rosol direct radiative effec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in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Murphy/Pilewsk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rosol indirect/cloud effec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ilewski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Feingold/Bro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 comparis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y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ap-up and action ite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r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o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376640" y="76320"/>
            <a:ext cx="62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10 CalNex mobile platform/remote sensing planning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oulder, CO - Tuesday, January 6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1T22:45:40Z</dcterms:created>
  <dc:creator>T R</dc:creator>
  <dc:description/>
  <dc:language>en-US</dc:language>
  <cp:lastModifiedBy>T R</cp:lastModifiedBy>
  <dcterms:modified xsi:type="dcterms:W3CDTF">2009-01-02T16:59:30Z</dcterms:modified>
  <cp:revision>8</cp:revision>
  <dc:subject/>
  <dc:title>Slide 1</dc:title>
</cp:coreProperties>
</file>