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B34E-8F67-4643-882B-E125B4E2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B33A-9186-4E48-9744-135FACC8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differences in the management of their manur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7A53-F74E-4886-913B-DA372F3F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5E9-E399-46B8-B016-6D161E7B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9F97-CF5D-4DA6-901D-AAB86CD9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088-E93C-43A6-82B7-6568B3BF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1A5-3CA9-480C-8D3F-2954281B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560-BF62-4A07-8891-988DB148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1EE1-2443-4E47-A6B8-47BF8075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D18-2C21-48A1-BDD7-C3F5FB82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5FF-20A0-40EC-9661-31A2C87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5D2-7142-41E1-98C8-E187893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9EB-B2F5-4F0D-8B01-B54A6E56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A11-38D0-4FF5-BFD8-14DB10F2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CA2-8A99-4264-BA4A-371C95B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31E-4E7D-481E-98DE-B33E2165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D0C-0973-40CE-836E-9E7E24D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EE2-2424-4DAE-9762-566D8AF9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BAF-5D6B-4254-97B0-E0F1FE6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2CF-16A6-4720-A85E-F35A0C8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75D-BD79-4AD8-B899-B6276FD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859-7EF8-469A-AE4E-2AD218A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047-87A8-47FA-87F7-70535255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with CSU Fr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d of both ambient and flux chamber source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dairies were samp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were collected at various locations and processes at the dai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 sampling at source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33520" y="1328760"/>
          <a:ext cx="8153280" cy="53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28760"/>
                    <a:ext cx="815328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age 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G_1703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oogleEarth_Image"/>
          <p:cNvPicPr/>
          <p:nvPr/>
        </p:nvPicPr>
        <p:blipFill>
          <a:blip r:embed="rId1"/>
          <a:stretch/>
        </p:blipFill>
        <p:spPr>
          <a:xfrm>
            <a:off x="800280" y="290520"/>
            <a:ext cx="75438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Urban tra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rid ethyne map with new colorbar"/>
          <p:cNvPicPr/>
          <p:nvPr/>
        </p:nvPicPr>
        <p:blipFill>
          <a:blip r:embed="rId1"/>
          <a:stretch/>
        </p:blipFill>
        <p:spPr>
          <a:xfrm>
            <a:off x="0" y="990720"/>
            <a:ext cx="8839080" cy="5570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227360" y="605304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ne/CO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rid ethanol modified values"/>
          <p:cNvPicPr/>
          <p:nvPr/>
        </p:nvPicPr>
        <p:blipFill>
          <a:blip r:embed="rId1"/>
          <a:stretch/>
        </p:blipFill>
        <p:spPr>
          <a:xfrm>
            <a:off x="304920" y="887400"/>
            <a:ext cx="8381880" cy="5283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7162200" y="563868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ratio (ppt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-685800" y="-552600"/>
          <a:ext cx="9829800" cy="741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-552600"/>
                    <a:ext cx="9829800" cy="741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Line 3"/>
          <p:cNvSpPr/>
          <p:nvPr/>
        </p:nvSpPr>
        <p:spPr>
          <a:xfrm flipH="1" flipV="1">
            <a:off x="5943600" y="3809520"/>
            <a:ext cx="17524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127280" y="5181480"/>
            <a:ext cx="201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ulare cou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H="1">
            <a:off x="4572000" y="990720"/>
            <a:ext cx="3808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789440" y="368280"/>
            <a:ext cx="21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erced cou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362320" y="914400"/>
            <a:ext cx="99036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147680" y="380880"/>
            <a:ext cx="25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tanislaus cou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647960" y="3733560"/>
            <a:ext cx="5331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939200" y="5854680"/>
            <a:ext cx="181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Harris Ra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, ARCTAS T1 and 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grid and flights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4792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99760" y="1143000"/>
            <a:ext cx="74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campaigns conducted within one week of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4 oxyge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hart 3" descr=""/>
          <p:cNvPicPr/>
          <p:nvPr/>
        </p:nvPicPr>
        <p:blipFill>
          <a:blip r:embed="rId1"/>
          <a:stretch/>
        </p:blipFill>
        <p:spPr>
          <a:xfrm>
            <a:off x="762120" y="1146240"/>
            <a:ext cx="72421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19:07Z</dcterms:created>
  <dc:creator>Melissa Yang</dc:creator>
  <dc:description/>
  <dc:language>en-US</dc:language>
  <cp:lastModifiedBy>Owner</cp:lastModifiedBy>
  <dcterms:modified xsi:type="dcterms:W3CDTF">2009-01-05T22:41:57Z</dcterms:modified>
  <cp:revision>115</cp:revision>
  <dc:subject/>
  <dc:title>The Development of a Dairy Gas Fingerprint: The Characterization of the Emissions from the Various Components of a Dairy Farm</dc:title>
</cp:coreProperties>
</file>