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FA10-2A73-46AE-85F2-3A5FD91B3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827-E986-45DE-94EF-5CFA872D0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09B-7100-4F7C-9C08-07B260EA9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05D-C5BA-476C-9520-5365AF295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037-DFBF-456E-BE74-C0AC0C0F3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4DC1-1097-4442-8121-D3AE5EE33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83A-FFA6-48DB-9361-C3D10EDAF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CF6B99-09C4-46FC-B16E-8E89F6062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8FA-9091-4546-A7F1-72F27E739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224-29AA-4844-AE80-3903A18B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C50-0530-4134-A853-EF80462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73A-EA91-4C2B-81D9-1EF645E5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CBF-53A7-4092-BB67-6AFABBB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200-0F84-4679-89C3-ABF9E64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C69-130D-4849-8067-AD54D15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3DE-0276-4E82-B658-64AA31A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B58-53D9-4C7F-BDA5-4563E52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830-1285-4BE6-90B0-3021D26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F86-E3F3-4CAC-8C0C-6CFC97E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6BE-F1AA-4E91-B0B4-141935E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C64-28D5-4BB2-B379-57AA7A2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2683-CD7E-4097-B213-23E967C39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11872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al-time Air Quality Modeling System (RAQMS) Support for CALN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rcRect l="95004" t="0" r="0" b="20005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rcRect l="0" t="0" r="8294" b="11674"/>
          <a:stretch/>
        </p:blipFill>
        <p:spPr>
          <a:xfrm>
            <a:off x="1012680" y="-44280"/>
            <a:ext cx="142560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6934320" y="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7"/>
          <p:cNvSpPr/>
          <p:nvPr/>
        </p:nvSpPr>
        <p:spPr>
          <a:xfrm>
            <a:off x="76320" y="2133720"/>
            <a:ext cx="6705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global chemical and aerosol assimilation/forecasting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Wisconsin sigma-theta hybrid coordinate model (UW-Hybrid) dynamical c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stratosphere/troposphere chemical prediction scheme (LaRC-Combo) developed at NASA La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prediction scheme (GOCART) developed by Mian Chin (NASA GSFC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Digital Filter assimilation system developed by James Stobie (NASA/GFS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QMS has been used to support airborne field missions [Pierce et al, 2003, 2007, 2008], develop capabilities for assimilating satellite trace gas and aerosol retrievals [Fishman et al., 2008, Sunita et al., 2008] and assess the impact of global chemical analyses on regional air quality predictions [Song et al., 2008, Tang et al., 2008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2362320" y="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OMI_CO3________columns_OMI20061015"/>
          <p:cNvPicPr/>
          <p:nvPr/>
        </p:nvPicPr>
        <p:blipFill>
          <a:blip r:embed="rId6"/>
          <a:srcRect l="7694" t="4573" r="4616" b="10858"/>
          <a:stretch/>
        </p:blipFill>
        <p:spPr>
          <a:xfrm>
            <a:off x="4572000" y="-2666880"/>
            <a:ext cx="2514600" cy="24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006texaqs"/>
          <p:cNvPicPr/>
          <p:nvPr/>
        </p:nvPicPr>
        <p:blipFill>
          <a:blip r:embed="rId7"/>
          <a:stretch/>
        </p:blipFill>
        <p:spPr>
          <a:xfrm>
            <a:off x="6781680" y="3657600"/>
            <a:ext cx="2057400" cy="13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Brad Pierce\My Documents\ARCPAC\NOAABACK-2.jpg"/>
          <p:cNvPicPr/>
          <p:nvPr/>
        </p:nvPicPr>
        <p:blipFill>
          <a:blip r:embed="rId8"/>
          <a:stretch/>
        </p:blipFill>
        <p:spPr>
          <a:xfrm>
            <a:off x="6705720" y="5048280"/>
            <a:ext cx="2209680" cy="180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9"/>
          <a:srcRect l="0" t="0" r="37501" b="40020"/>
          <a:stretch/>
        </p:blipFill>
        <p:spPr>
          <a:xfrm>
            <a:off x="6781680" y="1905120"/>
            <a:ext cx="20574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10"/>
          <a:stretch/>
        </p:blipFill>
        <p:spPr>
          <a:xfrm>
            <a:off x="6781680" y="2133720"/>
            <a:ext cx="205740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8126" t="0" r="8126" b="0"/>
          <a:stretch/>
        </p:blipFill>
        <p:spPr>
          <a:xfrm>
            <a:off x="0" y="685800"/>
            <a:ext cx="642132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1" name="Straight Arrow Connector 5"/>
          <p:cNvCxnSpPr/>
          <p:nvPr/>
        </p:nvCxnSpPr>
        <p:spPr>
          <a:xfrm>
            <a:off x="5714640" y="2817360"/>
            <a:ext cx="1067400" cy="2520"/>
          </a:xfrm>
          <a:prstGeom prst="straightConnector1">
            <a:avLst/>
          </a:prstGeom>
          <a:ln w="50760">
            <a:solidFill>
              <a:srgbClr val="4337db"/>
            </a:solidFill>
            <a:miter/>
            <a:tailEnd len="med" type="arrow" w="med"/>
          </a:ln>
        </p:spPr>
      </p:cxnSp>
      <p:sp>
        <p:nvSpPr>
          <p:cNvPr id="62" name="TextBox 7"/>
          <p:cNvSpPr/>
          <p:nvPr/>
        </p:nvSpPr>
        <p:spPr>
          <a:xfrm>
            <a:off x="6789600" y="2568600"/>
            <a:ext cx="2120760" cy="642600"/>
          </a:xfrm>
          <a:prstGeom prst="rect">
            <a:avLst/>
          </a:prstGeom>
          <a:solidFill>
            <a:srgbClr val="0ee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da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/Chem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8"/>
          <p:cNvCxnSpPr/>
          <p:nvPr/>
        </p:nvCxnSpPr>
        <p:spPr>
          <a:xfrm flipH="1">
            <a:off x="7619760" y="3254040"/>
            <a:ext cx="2160" cy="762840"/>
          </a:xfrm>
          <a:prstGeom prst="straightConnector1">
            <a:avLst/>
          </a:prstGeom>
          <a:ln w="50760">
            <a:solidFill>
              <a:srgbClr val="4337db"/>
            </a:solidFill>
            <a:miter/>
            <a:tailEnd len="med" type="arrow" w="med"/>
          </a:ln>
        </p:spPr>
      </p:cxnSp>
      <p:sp>
        <p:nvSpPr>
          <p:cNvPr id="64" name="TextBox 11"/>
          <p:cNvSpPr/>
          <p:nvPr/>
        </p:nvSpPr>
        <p:spPr>
          <a:xfrm>
            <a:off x="6781680" y="4016520"/>
            <a:ext cx="2210040" cy="1465560"/>
          </a:xfrm>
          <a:prstGeom prst="rect">
            <a:avLst/>
          </a:prstGeom>
          <a:solidFill>
            <a:srgbClr val="0ee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day forward trajectories from TES Step&amp;Stare observations sample RAQMS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27840" y="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QMS 2008 IPY O3 Assimilation/Predi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79160" y="5638680"/>
            <a:ext cx="57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2 degree Global online strat/trop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ospheric Halogen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/photolysis feedba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Digital Filter (SDF) univariate OI assimi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8126" t="0" r="8126" b="0"/>
          <a:stretch/>
        </p:blipFill>
        <p:spPr>
          <a:xfrm>
            <a:off x="0" y="685800"/>
            <a:ext cx="6477120" cy="483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8" name="Straight Arrow Connector 3"/>
          <p:cNvCxnSpPr/>
          <p:nvPr/>
        </p:nvCxnSpPr>
        <p:spPr>
          <a:xfrm>
            <a:off x="5105520" y="2437920"/>
            <a:ext cx="1676880" cy="2520"/>
          </a:xfrm>
          <a:prstGeom prst="straightConnector1">
            <a:avLst/>
          </a:prstGeom>
          <a:ln w="50760">
            <a:solidFill>
              <a:srgbClr val="4337db"/>
            </a:solidFill>
            <a:miter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6787800" y="2133720"/>
            <a:ext cx="2286720" cy="642600"/>
          </a:xfrm>
          <a:prstGeom prst="rect">
            <a:avLst/>
          </a:prstGeom>
          <a:solidFill>
            <a:srgbClr val="0ee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da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/Aerosol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5"/>
          <p:cNvCxnSpPr/>
          <p:nvPr/>
        </p:nvCxnSpPr>
        <p:spPr>
          <a:xfrm flipH="1">
            <a:off x="7619760" y="2819520"/>
            <a:ext cx="2160" cy="762480"/>
          </a:xfrm>
          <a:prstGeom prst="straightConnector1">
            <a:avLst/>
          </a:prstGeom>
          <a:ln w="50760">
            <a:solidFill>
              <a:srgbClr val="4337db"/>
            </a:solidFill>
            <a:miter/>
            <a:tailEnd len="med" type="arrow" w="med"/>
          </a:ln>
        </p:spPr>
      </p:cxnSp>
      <p:sp>
        <p:nvSpPr>
          <p:cNvPr id="71" name="TextBox 6"/>
          <p:cNvSpPr/>
          <p:nvPr/>
        </p:nvSpPr>
        <p:spPr>
          <a:xfrm>
            <a:off x="6781680" y="3581280"/>
            <a:ext cx="2133720" cy="2014200"/>
          </a:xfrm>
          <a:prstGeom prst="rect">
            <a:avLst/>
          </a:prstGeom>
          <a:solidFill>
            <a:srgbClr val="0ee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day forward trajectories from CALIPSO expedited observations sample RAQMS aeros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79160" y="5638680"/>
            <a:ext cx="572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2 degree Global online aerosol (GOCA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Digital Filter (SDF) univariate OI assimi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ed to SO4, Dust, BC, OC (not Sea Sal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21000" y="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QMS 2008 IPY AOD Assimilation/Predi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Brad Pierce\My Documents\CALNEX\tes_co_curtain_20080615_22_10_18.7446.png"/>
          <p:cNvPicPr/>
          <p:nvPr/>
        </p:nvPicPr>
        <p:blipFill>
          <a:blip r:embed="rId1"/>
          <a:stretch/>
        </p:blipFill>
        <p:spPr>
          <a:xfrm>
            <a:off x="0" y="0"/>
            <a:ext cx="4800600" cy="384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2057400" y="2362320"/>
            <a:ext cx="119160" cy="149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Documents and Settings\Brad Pierce\My Documents\CALNEX\TES_SS_forwardtrajectories_2008061500_01.144hr.BL.7446.png"/>
          <p:cNvPicPr/>
          <p:nvPr/>
        </p:nvPicPr>
        <p:blipFill>
          <a:blip r:embed="rId2"/>
          <a:stretch/>
        </p:blipFill>
        <p:spPr>
          <a:xfrm>
            <a:off x="5200560" y="0"/>
            <a:ext cx="3759120" cy="419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Brad Pierce\My Documents\CALNEX\TES_forwardtraject_chemistry_2008061500_01.BL.7446.png"/>
          <p:cNvPicPr/>
          <p:nvPr/>
        </p:nvPicPr>
        <p:blipFill>
          <a:blip r:embed="rId3"/>
          <a:srcRect l="0" t="51594" r="52343" b="2550"/>
          <a:stretch/>
        </p:blipFill>
        <p:spPr>
          <a:xfrm>
            <a:off x="457200" y="4276800"/>
            <a:ext cx="3639960" cy="2581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Brad Pierce\My Documents\CALNEX\ts_20080606-20080626_410050004_6440_OR.jpg"/>
          <p:cNvPicPr/>
          <p:nvPr/>
        </p:nvPicPr>
        <p:blipFill>
          <a:blip r:embed="rId4"/>
          <a:srcRect l="0" t="0" r="0" b="10315"/>
          <a:stretch/>
        </p:blipFill>
        <p:spPr>
          <a:xfrm>
            <a:off x="4724280" y="4083120"/>
            <a:ext cx="4419720" cy="2774880"/>
          </a:xfrm>
          <a:prstGeom prst="rect">
            <a:avLst/>
          </a:prstGeom>
          <a:ln w="0">
            <a:noFill/>
          </a:ln>
        </p:spPr>
      </p:pic>
      <p:cxnSp>
        <p:nvCxnSpPr>
          <p:cNvPr id="79" name="Straight Arrow Connector 11"/>
          <p:cNvCxnSpPr>
            <a:stCxn id="75" idx="2"/>
          </p:cNvCxnSpPr>
          <p:nvPr/>
        </p:nvCxnSpPr>
        <p:spPr>
          <a:xfrm flipH="1">
            <a:off x="1676160" y="2511360"/>
            <a:ext cx="442080" cy="3813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Straight Arrow Connector 13"/>
          <p:cNvCxnSpPr>
            <a:stCxn id="75" idx="2"/>
          </p:cNvCxnSpPr>
          <p:nvPr/>
        </p:nvCxnSpPr>
        <p:spPr>
          <a:xfrm>
            <a:off x="2117880" y="2511000"/>
            <a:ext cx="4131360" cy="38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" name="Straight Arrow Connector 15"/>
          <p:cNvCxnSpPr/>
          <p:nvPr/>
        </p:nvCxnSpPr>
        <p:spPr>
          <a:xfrm flipV="1">
            <a:off x="2742840" y="6019560"/>
            <a:ext cx="4725000" cy="3052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>
            <a:off x="6553080" y="3047760"/>
            <a:ext cx="915120" cy="2896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83" name="Rectangle 18"/>
          <p:cNvSpPr/>
          <p:nvPr/>
        </p:nvSpPr>
        <p:spPr>
          <a:xfrm>
            <a:off x="2700360" y="6175440"/>
            <a:ext cx="119160" cy="149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6477120" y="2975040"/>
            <a:ext cx="118800" cy="149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04920" y="0"/>
            <a:ext cx="3213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S CO 22Z June 15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5181480" y="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QMS Boundary Layer Traject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718920" y="4076640"/>
            <a:ext cx="337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jectory Altitude (PBL height= 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2819520" y="2914560"/>
            <a:ext cx="27432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QMS trajectory forecasts link remote satellite measurements to local surface measu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7626960" y="5029200"/>
            <a:ext cx="112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d=RAQ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=AIR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C:\Documents and Settings\Brad Pierce\My Documents\CALNEX\RAQMS_obs_20080618_h9m53s24Z-h10m6s53Z_Extinction_BCOC_with_extinction_2x2_MLS50mb_OMI_MODIS_100ppmv_H2O_v7ems.global.track.png"/>
          <p:cNvPicPr/>
          <p:nvPr/>
        </p:nvPicPr>
        <p:blipFill>
          <a:blip r:embed="rId1"/>
          <a:srcRect l="5557" t="15929" r="30002" b="8518"/>
          <a:stretch/>
        </p:blipFill>
        <p:spPr>
          <a:xfrm>
            <a:off x="3429000" y="4876920"/>
            <a:ext cx="518148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Brad Pierce\My Documents\CALNEX\RAQMS_obs_20080618_h9m53s24Z-h10m6s53Z_Extinction_Total_with_extinction_2x2_MLS50mb_OMI_MODIS_100ppmv_H2O_v7ems.global.track.png"/>
          <p:cNvPicPr/>
          <p:nvPr/>
        </p:nvPicPr>
        <p:blipFill>
          <a:blip r:embed="rId2"/>
          <a:srcRect l="4073" t="14446" r="30002" b="7041"/>
          <a:stretch/>
        </p:blipFill>
        <p:spPr>
          <a:xfrm>
            <a:off x="3276720" y="2895480"/>
            <a:ext cx="53337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Brad Pierce\My Documents\CALNEX\09-53-27_gif_1_1.png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Brad Pierce\My Documents\CALNEX\09-53-27_map_1.png"/>
          <p:cNvPicPr/>
          <p:nvPr/>
        </p:nvPicPr>
        <p:blipFill>
          <a:blip r:embed="rId4"/>
          <a:stretch/>
        </p:blipFill>
        <p:spPr>
          <a:xfrm>
            <a:off x="0" y="35568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Brad Pierce\My Documents\CALNEX\RAQMS_obs_20080615_h11m1s16Z-h11m14s45Z_Extinction_Total_with_extinction_2x2_MLS50mb_OMI_MODIS_100ppmv_H2O_v7ems.global.track.png"/>
          <p:cNvPicPr/>
          <p:nvPr/>
        </p:nvPicPr>
        <p:blipFill>
          <a:blip r:embed="rId5"/>
          <a:srcRect l="0" t="91496" r="9575" b="-4248"/>
          <a:stretch/>
        </p:blipFill>
        <p:spPr>
          <a:xfrm>
            <a:off x="2666880" y="4648320"/>
            <a:ext cx="647712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3733920" y="1371600"/>
            <a:ext cx="4876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11"/>
          <p:cNvCxnSpPr/>
          <p:nvPr/>
        </p:nvCxnSpPr>
        <p:spPr>
          <a:xfrm flipH="1">
            <a:off x="6627600" y="2592000"/>
            <a:ext cx="3600" cy="1220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>
            <a:stCxn id="98" idx="1"/>
          </p:cNvCxnSpPr>
          <p:nvPr/>
        </p:nvCxnSpPr>
        <p:spPr>
          <a:xfrm>
            <a:off x="1295280" y="1270080"/>
            <a:ext cx="2439000" cy="25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Right Brace 15"/>
          <p:cNvSpPr/>
          <p:nvPr/>
        </p:nvSpPr>
        <p:spPr>
          <a:xfrm>
            <a:off x="990720" y="96516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09480"/>
              <a:gd name="textAreaBottom" fmla="*/ 601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Documents and Settings\Brad Pierce\My Documents\CALNEX\RAQMS_obs_20080615_h11m1s16Z-h11m14s45Z_Extinction_Dust_with_extinction_2x2_MLS50mb_OMI_MODIS_100ppmv_H2O_v7ems.global.track.png"/>
          <p:cNvPicPr/>
          <p:nvPr/>
        </p:nvPicPr>
        <p:blipFill>
          <a:blip r:embed="rId6"/>
          <a:srcRect l="0" t="91762" r="9277" b="-2058"/>
          <a:stretch/>
        </p:blipFill>
        <p:spPr>
          <a:xfrm>
            <a:off x="2590920" y="6477120"/>
            <a:ext cx="65530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0"/>
          <p:cNvSpPr/>
          <p:nvPr/>
        </p:nvSpPr>
        <p:spPr>
          <a:xfrm>
            <a:off x="6855120" y="3200400"/>
            <a:ext cx="1750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QMS Total 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6789240" y="5105520"/>
            <a:ext cx="180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QMS BCOC 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457200" y="2590920"/>
            <a:ext cx="2743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QMS aerosol speciation  aids interpretation of satellite aerosol optical measu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409440" y="685800"/>
            <a:ext cx="2082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PSO Backsca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26"/>
          <p:cNvCxnSpPr/>
          <p:nvPr/>
        </p:nvCxnSpPr>
        <p:spPr>
          <a:xfrm flipH="1">
            <a:off x="6629040" y="4343040"/>
            <a:ext cx="2160" cy="15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05" name="Picture 7" descr="C:\Documents and Settings\Brad Pierce\My Documents\CALNEX\modL_20080618.png"/>
          <p:cNvPicPr/>
          <p:nvPr/>
        </p:nvPicPr>
        <p:blipFill>
          <a:blip r:embed="rId7"/>
          <a:stretch/>
        </p:blipFill>
        <p:spPr>
          <a:xfrm>
            <a:off x="0" y="3922560"/>
            <a:ext cx="3200400" cy="293544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28"/>
          <p:cNvSpPr/>
          <p:nvPr/>
        </p:nvSpPr>
        <p:spPr>
          <a:xfrm flipH="1">
            <a:off x="228240" y="4648320"/>
            <a:ext cx="609480" cy="1828800"/>
          </a:xfrm>
          <a:prstGeom prst="line">
            <a:avLst/>
          </a:prstGeom>
          <a:ln w="381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30"/>
          <p:cNvCxnSpPr/>
          <p:nvPr/>
        </p:nvCxnSpPr>
        <p:spPr>
          <a:xfrm flipH="1" flipV="1">
            <a:off x="532800" y="5867280"/>
            <a:ext cx="602028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6324480" y="860400"/>
            <a:ext cx="2549520" cy="3406680"/>
            <a:chOff x="6324480" y="860400"/>
            <a:chExt cx="2549520" cy="3406680"/>
          </a:xfrm>
        </p:grpSpPr>
        <p:pic>
          <p:nvPicPr>
            <p:cNvPr id="109" name="Picture 3" descr="co"/>
            <p:cNvPicPr/>
            <p:nvPr/>
          </p:nvPicPr>
          <p:blipFill>
            <a:blip r:embed="rId1"/>
            <a:srcRect l="11113" t="15646" r="12889" b="3381"/>
            <a:stretch/>
          </p:blipFill>
          <p:spPr>
            <a:xfrm>
              <a:off x="6324480" y="860400"/>
              <a:ext cx="2549520" cy="34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6765480" y="1088640"/>
              <a:ext cx="17960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nalyzed Eastern Pacific CO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5" descr=""/>
          <p:cNvPicPr/>
          <p:nvPr/>
        </p:nvPicPr>
        <p:blipFill>
          <a:blip r:embed="rId2"/>
          <a:srcRect l="38567" t="9026" r="11411" b="7144"/>
          <a:stretch/>
        </p:blipFill>
        <p:spPr>
          <a:xfrm>
            <a:off x="3581280" y="1295280"/>
            <a:ext cx="1924200" cy="2676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3200400" y="990720"/>
            <a:ext cx="251460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n O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Difference (ppbv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QMS-BC – Fixed-B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113480" y="0"/>
            <a:ext cx="64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 of Global BC on regional AQ Predicti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3"/>
          <a:srcRect l="0" t="92862" r="10116" b="0"/>
          <a:stretch/>
        </p:blipFill>
        <p:spPr>
          <a:xfrm>
            <a:off x="3048120" y="3886200"/>
            <a:ext cx="3124080" cy="20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3810240" y="399168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 O3 biases (ppb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34280" y="404640"/>
            <a:ext cx="677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essment using pre-operational NOAA/NWS NAM-CMAQ 12km foreca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1-August 5, 200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6320" y="4343400"/>
            <a:ext cx="6095880" cy="2012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QMS lateral Boundary Conditions (BC) show enhanced O3 and CO between the Sub-tropical and Polar Je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QMS lateral Boundary Conditions lead to 10-15 ppbv reductions in off-shore surface ozone and 5-10 ppbv increases in surface ozone over mountain regions of the western 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rison with EPA AIRNow surface ozone west of -11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 shows improved slope and correlations but increased positive bia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6320" y="6400800"/>
            <a:ext cx="893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ng, Y., et al., (2008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The impact of chemical lateral boundary conditions on CMAQ predictions of tropospheric ozone over the continental United States”, Environ Fluid Mech, August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257960" y="5002200"/>
          <a:ext cx="1657440" cy="120348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of -11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0.804 R=0.691 MB=4.7 ppb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0.914 R=0.703 MB=7.1 ppb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23"/>
          <p:cNvSpPr/>
          <p:nvPr/>
        </p:nvSpPr>
        <p:spPr>
          <a:xfrm>
            <a:off x="6244560" y="46479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-CMAQ vs AIRN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6254640" y="5425920"/>
            <a:ext cx="85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tic B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AQMS B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6267600" y="528948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6267600" y="574668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228600" y="838080"/>
            <a:ext cx="2562120" cy="3429000"/>
            <a:chOff x="228600" y="838080"/>
            <a:chExt cx="2562120" cy="3429000"/>
          </a:xfrm>
        </p:grpSpPr>
        <p:pic>
          <p:nvPicPr>
            <p:cNvPr id="125" name="Picture 28" descr="o3"/>
            <p:cNvPicPr/>
            <p:nvPr/>
          </p:nvPicPr>
          <p:blipFill>
            <a:blip r:embed="rId4"/>
            <a:srcRect l="11111" t="15642" r="12887" b="3024"/>
            <a:stretch/>
          </p:blipFill>
          <p:spPr>
            <a:xfrm>
              <a:off x="228600" y="838080"/>
              <a:ext cx="2562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9"/>
            <p:cNvSpPr/>
            <p:nvPr/>
          </p:nvSpPr>
          <p:spPr>
            <a:xfrm>
              <a:off x="733320" y="1066680"/>
              <a:ext cx="1752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nalyzed Eastern Pacific O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otential NESDIS/STAR activities for CALN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real-time RAQMS chemical and aerosol analyses and forecasts for WRF-CHEM BCs and Flight plan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near-real-time CALIPSO and TES forward trajectories sampling RAQMS chemical and aerosol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fire emissions based on MODIS/WF-ABBA fir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8686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 </cp:lastModifiedBy>
  <dcterms:modified xsi:type="dcterms:W3CDTF">2009-01-04T20:05:23Z</dcterms:modified>
  <cp:revision>4</cp:revision>
  <dc:subject/>
  <dc:title>Slide 1</dc:title>
</cp:coreProperties>
</file>