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4DD-B76B-45F5-8283-B38E0ECD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0E2-5DA6-40F4-BF59-852E27A6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CAF-3C81-4F99-AC74-8F51DE3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61D-3F83-49A8-B370-F2B2D7BC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174-1452-4E48-A8F9-A9E48CF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309-A78C-48D7-A687-C00AF4CC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64D-E84D-4AAC-9366-B543E49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DA0-83D3-417E-850F-E6D2934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06A-67FC-422A-9D96-03D8B83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93E-FDEE-46B2-9F36-E4CCE95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F17-CBB5-4F04-B224-FB5B0EF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C1F-A418-4392-BA63-B69AA327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5B8-1BD1-41FE-9125-256DD77A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5240" y="99072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Nex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/ATDD Energy Balance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60480" y="2209680"/>
            <a:ext cx="41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Element: Spatial Variabil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Meteorological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4520" y="3657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-to-gri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gri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9534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89120" y="68580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457200"/>
          <a:ext cx="6095880" cy="5796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M. Young Model 05103 Wind Moni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Wind Speed, Mean Wind Direction, Sigma Theta, Sigma_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500 Temperature and Relative Humidity- Naturally Aspir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Temperature, Sigma_T,Relative Humid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ight Obstruction Light – model 8600-1R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par Model 151100 Lightning Master Strike prot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TS-P Precision Infrared Temperature- Rotating 2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4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urface Tempera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or LI7500 Open Path Infrared Gas Analy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C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lux, H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fl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p and Zonen SP Lite Silicon Pyrn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One Motor Aspirated Temperature Shiled Model 076B/7308 with 3 PRT’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and 10 met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Temperature, Sigma_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DD Custom 1-Meter Soil Temperature Pro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Temperature (2,5,10,50,100 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 Technologies Ozone Moni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DD Fast Response Ozone Moni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one Fl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DD Denuder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N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O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a, 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p and Zonen 4-Wave Net Radio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In, Global Out, Longwave in, Longwave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M. Young Model 81000 VRE Ultrasonic Anemometer (3 and 10 me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,V,W,Sigma_u, Sigma_v, Sigma_w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, Sigma_T, uw, uT, uw , (unrotated, rota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6858000" cy="529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61040" y="189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 Air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79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981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228600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59092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95480"/>
            <a:ext cx="228600" cy="2286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200400"/>
            <a:ext cx="22860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360" y="281952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7360" y="25146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8360" y="2209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332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360" y="3124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7239240" cy="559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33000" y="3808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Model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868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217332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47824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2782800"/>
            <a:ext cx="228600" cy="2286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3087720"/>
            <a:ext cx="22860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31520" y="270684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880" y="24019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1880" y="20970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6480" y="17924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50880" y="3011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6:13:47Z</dcterms:created>
  <dc:creator>Will</dc:creator>
  <dc:description/>
  <dc:language>en-US</dc:language>
  <cp:lastModifiedBy>Will</cp:lastModifiedBy>
  <dcterms:modified xsi:type="dcterms:W3CDTF">2009-01-04T23:11:15Z</dcterms:modified>
  <cp:revision>8</cp:revision>
  <dc:subject/>
  <dc:title>Slide 1</dc:title>
</cp:coreProperties>
</file>