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8D4D-63EB-4805-8C73-E0B421779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– second phase of flights – what can we do to support CalNex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NO! 2) YES!  3) not at 10 km resolution ev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– second phase of flights – what can we do to support CalNex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NO! 2) YES!  3) not at 10 km resolution ev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Scott Engineering, LBL, and UC Davis 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ssna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was to fly close to and around sources in the Bay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short due to wildfires; will continue with second set of flights in January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ities between allt he flights – certain area always contributes to the signal (nw california, oreg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F6E-8D33-48A1-A980-68E0C212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80F-9009-446B-96DF-9904E6E9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B24-1F8E-4918-9A40-A53078A8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CC4-8ED3-4798-AAB2-B01CB090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8D2-FA36-4972-91F1-36A536B1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0E2-C6D5-47B7-8392-2437F749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82F2-72BE-4201-9192-7D52208A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523-256B-4D12-9E61-85B874DF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67C-EE98-418B-8215-81B4C35D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DD9-4F46-4D67-801C-65EF7E02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B39-6AB4-4FD7-8E32-B692454A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B26-C890-4781-BCF0-5E5AC0BE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FB75-5596-4BF4-83F6-ED1A1DDBC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une 2008 Light Aircraft Flights in San Francisco Bay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na Kar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lm Swee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AA/ESRL/G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bon Cycle and Greenhous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2040" y="6093000"/>
            <a:ext cx="238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alNex 2010 Planning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5 January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939" descr="allwithtime_0624_lessbold"/>
          <p:cNvPicPr/>
          <p:nvPr/>
        </p:nvPicPr>
        <p:blipFill>
          <a:blip r:embed="rId1"/>
          <a:stretch/>
        </p:blipFill>
        <p:spPr>
          <a:xfrm>
            <a:off x="76320" y="1828800"/>
            <a:ext cx="5333760" cy="3733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133720" y="1981080"/>
            <a:ext cx="914400" cy="3353040"/>
          </a:xfrm>
          <a:prstGeom prst="ellips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mass Burning: Continuous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909" descr="sig_ch4_coastal_062408"/>
          <p:cNvPicPr/>
          <p:nvPr/>
        </p:nvPicPr>
        <p:blipFill>
          <a:blip r:embed="rId2"/>
          <a:stretch/>
        </p:blipFill>
        <p:spPr>
          <a:xfrm>
            <a:off x="5105520" y="3827520"/>
            <a:ext cx="4038480" cy="303048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5105520" y="990720"/>
            <a:ext cx="4038480" cy="3028680"/>
            <a:chOff x="5105520" y="990720"/>
            <a:chExt cx="4038480" cy="3028680"/>
          </a:xfrm>
        </p:grpSpPr>
        <p:pic>
          <p:nvPicPr>
            <p:cNvPr id="132" name="Picture 2938" descr="sig_co_coastal_062408"/>
            <p:cNvPicPr/>
            <p:nvPr/>
          </p:nvPicPr>
          <p:blipFill>
            <a:blip r:embed="rId3"/>
            <a:stretch/>
          </p:blipFill>
          <p:spPr>
            <a:xfrm>
              <a:off x="5105520" y="990720"/>
              <a:ext cx="4038480" cy="30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172200" y="9907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Box 13"/>
          <p:cNvSpPr/>
          <p:nvPr/>
        </p:nvSpPr>
        <p:spPr>
          <a:xfrm>
            <a:off x="1845720" y="5343480"/>
            <a:ext cx="197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(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 rot="16200000">
            <a:off x="-93240" y="2304720"/>
            <a:ext cx="852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 rot="16200000">
            <a:off x="-275760" y="3404880"/>
            <a:ext cx="10620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 rot="16200000">
            <a:off x="-155520" y="4498920"/>
            <a:ext cx="771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2900520"/>
            <a:ext cx="2057400" cy="714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/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0 ppm/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15000" y="4114800"/>
            <a:ext cx="2057400" cy="714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3 ppm/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omass Burning: Flask Samples</a:t>
            </a:r>
            <a:br>
              <a:rPr sz="4000"/>
            </a:b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R</a:t>
            </a:r>
            <a:r>
              <a:rPr b="1" lang="en-US" sz="4000" spc="-1" strike="noStrike" baseline="30000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 &gt; 0.85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slope error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Arial"/>
              </a:rPr>
              <a:t>±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 1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5181480"/>
            <a:ext cx="2120760" cy="1589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24280" y="1687680"/>
            <a:ext cx="2121120" cy="158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023240" y="1687680"/>
            <a:ext cx="2120760" cy="1589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023240" y="3440160"/>
            <a:ext cx="2120760" cy="1589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4724280" y="3440160"/>
            <a:ext cx="2121120" cy="1589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2438280" y="3440160"/>
            <a:ext cx="2121120" cy="1589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0" y="3440160"/>
            <a:ext cx="2120760" cy="1589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2362320" y="1687680"/>
            <a:ext cx="2120760" cy="1589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0" y="1687680"/>
            <a:ext cx="2120760" cy="1589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2590920" y="5181480"/>
            <a:ext cx="2120760" cy="1589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5105520" y="5181480"/>
            <a:ext cx="2120760" cy="1589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073520" y="2604960"/>
            <a:ext cx="100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: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48520" y="55990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ll vs. 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7480" y="25909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22440" y="25146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H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32120" y="25146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H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21480" y="434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3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36800" y="419112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3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6120" y="4267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3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32120" y="43434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6H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6095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Pent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61722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But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12040" y="61722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ability of Light Aircraft Fl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hey be used to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qualita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dentify regional-scale sources and sink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[YES, but not quantitativ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hey be used to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quan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urces at small sc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[Y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s/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et of flights planned for March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known source 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flask measurements in a targeted source/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ssess bottom-up estimates in a pinpointed 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rrelations for individual flight se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912" descr="sig_modesto_0619"/>
          <p:cNvPicPr/>
          <p:nvPr/>
        </p:nvPicPr>
        <p:blipFill>
          <a:blip r:embed="rId1"/>
          <a:stretch/>
        </p:blipFill>
        <p:spPr>
          <a:xfrm>
            <a:off x="609480" y="4106880"/>
            <a:ext cx="3463920" cy="259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911" descr="sig_inland_0618"/>
          <p:cNvPicPr/>
          <p:nvPr/>
        </p:nvPicPr>
        <p:blipFill>
          <a:blip r:embed="rId2"/>
          <a:stretch/>
        </p:blipFill>
        <p:spPr>
          <a:xfrm>
            <a:off x="609480" y="1371600"/>
            <a:ext cx="3463920" cy="2598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910" descr="sig_coastal_0619"/>
          <p:cNvPicPr/>
          <p:nvPr/>
        </p:nvPicPr>
        <p:blipFill>
          <a:blip r:embed="rId3"/>
          <a:stretch/>
        </p:blipFill>
        <p:spPr>
          <a:xfrm>
            <a:off x="4876920" y="1371600"/>
            <a:ext cx="3463920" cy="2598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909" descr="sig_ch4_coastal_062408"/>
          <p:cNvPicPr/>
          <p:nvPr/>
        </p:nvPicPr>
        <p:blipFill>
          <a:blip r:embed="rId4"/>
          <a:stretch/>
        </p:blipFill>
        <p:spPr>
          <a:xfrm>
            <a:off x="4876920" y="4106880"/>
            <a:ext cx="3463920" cy="2598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43960" y="5675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22200" y="441972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ai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27360" y="3124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r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8360" y="30481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rban, mix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883" descr="path_0619"/>
          <p:cNvPicPr/>
          <p:nvPr/>
        </p:nvPicPr>
        <p:blipFill>
          <a:blip r:embed="rId1"/>
          <a:stretch/>
        </p:blipFill>
        <p:spPr>
          <a:xfrm>
            <a:off x="0" y="1795320"/>
            <a:ext cx="4616280" cy="3462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885" descr="sig_all_0619"/>
          <p:cNvPicPr/>
          <p:nvPr/>
        </p:nvPicPr>
        <p:blipFill>
          <a:blip r:embed="rId2"/>
          <a:stretch/>
        </p:blipFill>
        <p:spPr>
          <a:xfrm>
            <a:off x="4344840" y="1811160"/>
            <a:ext cx="4799160" cy="3598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/19/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/22/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533840" cy="3400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343400" y="1658880"/>
            <a:ext cx="4800600" cy="3598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08040" y="345924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78600" y="220968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20960" y="228600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nut G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97640" y="358128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927" descr="ch4_profile_plume_062408"/>
          <p:cNvPicPr/>
          <p:nvPr/>
        </p:nvPicPr>
        <p:blipFill>
          <a:blip r:embed="rId1"/>
          <a:stretch/>
        </p:blipFill>
        <p:spPr>
          <a:xfrm>
            <a:off x="304920" y="3862440"/>
            <a:ext cx="3619440" cy="27162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928"/>
          <p:cNvSpPr/>
          <p:nvPr/>
        </p:nvSpPr>
        <p:spPr>
          <a:xfrm>
            <a:off x="1674720" y="3581280"/>
            <a:ext cx="988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(pp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924" descr="co_profile_plume_062408"/>
          <p:cNvPicPr/>
          <p:nvPr/>
        </p:nvPicPr>
        <p:blipFill>
          <a:blip r:embed="rId2"/>
          <a:stretch/>
        </p:blipFill>
        <p:spPr>
          <a:xfrm>
            <a:off x="4572000" y="3762360"/>
            <a:ext cx="4022640" cy="3019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2928"/>
          <p:cNvSpPr/>
          <p:nvPr/>
        </p:nvSpPr>
        <p:spPr>
          <a:xfrm>
            <a:off x="6172200" y="350532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Arial"/>
              </a:rPr>
              <a:t>CO (pp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llabo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 Fischer (Lawrence Berkeley Lab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 Investig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lScott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AA/ESRL/G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Cycl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n Faloona (UC Dav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ability of Light Aircraft Fl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hey be used to identify regional-scale sources and sink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hey be used to quantify sources at small sc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79960" y="763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4239720" y="5029200"/>
            <a:ext cx="1017720" cy="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71480" y="4836960"/>
            <a:ext cx="304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icarro (CO</a:t>
            </a:r>
            <a:r>
              <a:rPr b="1" lang="en-US" sz="18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/CH</a:t>
            </a:r>
            <a:r>
              <a:rPr b="1" lang="en-US" sz="18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) 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359240" y="4154400"/>
            <a:ext cx="898560" cy="49392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38720" y="451008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low controller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304920" cy="38088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00" y="533520"/>
            <a:ext cx="1514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gas cy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962520" y="3580920"/>
            <a:ext cx="1295280" cy="38124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809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rack-mount compressor package for P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4571640" y="2971800"/>
            <a:ext cx="685800" cy="45720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3244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UV-CO analyzer (AL5002) (UC Dav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Cessna 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9680" y="57150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aboration between LBL, KalScott, UC Davis, and NOAA/ESR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8120" y="2284560"/>
            <a:ext cx="6095880" cy="4573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81480" cy="388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7010280" y="3276720"/>
            <a:ext cx="763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9800" y="2786040"/>
            <a:ext cx="20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GC t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5600" y="40968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-wing in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047760" y="380520"/>
            <a:ext cx="25146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verage Footprint for Each Flight 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. Zhao &amp; M. Fisc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3208320" cy="2404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895480" y="2166840"/>
            <a:ext cx="3208320" cy="2405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3208320" cy="2404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2120" y="1828800"/>
            <a:ext cx="1676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/17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8006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ckground signal passes over multiple sources before reaching Bay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1905120"/>
            <a:ext cx="1676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/19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182880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/24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560" y="6324480"/>
            <a:ext cx="81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generated using WRF high-resolution wind data and STILT particle traj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7620120" cy="6819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975400" y="6033960"/>
            <a:ext cx="43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lnut Grove Towe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3885840" y="5638320"/>
            <a:ext cx="304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80120" y="28260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d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371600" y="533160"/>
            <a:ext cx="45720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85800"/>
            <a:ext cx="2895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8464320" y="1252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p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105520" y="302904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838080"/>
            <a:ext cx="2971800" cy="381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8539200" y="41875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p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69560" y="39600"/>
            <a:ext cx="7369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62800" y="3048120"/>
            <a:ext cx="7185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0736000">
            <a:off x="7162920" y="2604600"/>
            <a:ext cx="128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ong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549400">
            <a:off x="7315200" y="5638320"/>
            <a:ext cx="128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ong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59600">
            <a:off x="5328360" y="5562000"/>
            <a:ext cx="1070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a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765800">
            <a:off x="5334480" y="2437920"/>
            <a:ext cx="1070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a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800600" y="4952880"/>
            <a:ext cx="266688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: 6/17/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7680" y="5121360"/>
            <a:ext cx="725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stinct signatures are apparent when flying over different types of 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95680" y="131436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055960" y="430524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8320" y="305604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44840" y="442764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8520" y="106668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42840" y="1371600"/>
            <a:ext cx="1523880" cy="53352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1371600"/>
            <a:ext cx="685800" cy="45720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1240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gri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791320" y="2362320"/>
            <a:ext cx="144756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04080" y="4546440"/>
            <a:ext cx="18446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814200" y="2716560"/>
            <a:ext cx="16761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p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67440" y="313200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lnut Gr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581280" y="3352680"/>
            <a:ext cx="1524240" cy="152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152280"/>
            <a:ext cx="8229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/ C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orrelation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ce Paddy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913" descr="sig_rice_0617"/>
          <p:cNvPicPr/>
          <p:nvPr/>
        </p:nvPicPr>
        <p:blipFill>
          <a:blip r:embed="rId2"/>
          <a:stretch/>
        </p:blipFill>
        <p:spPr>
          <a:xfrm>
            <a:off x="4724280" y="2133720"/>
            <a:ext cx="4419720" cy="3316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19316400">
            <a:off x="1600200" y="1809720"/>
            <a:ext cx="914400" cy="2819520"/>
          </a:xfrm>
          <a:prstGeom prst="ellipse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21" idx="7"/>
            <a:endCxn id="120" idx="0"/>
          </p:cNvCxnSpPr>
          <p:nvPr/>
        </p:nvCxnSpPr>
        <p:spPr>
          <a:xfrm flipH="1" flipV="1" rot="5400000">
            <a:off x="4265640" y="-444960"/>
            <a:ext cx="91080" cy="5247360"/>
          </a:xfrm>
          <a:prstGeom prst="curvedConnector5">
            <a:avLst>
              <a:gd name="adj1" fmla="val 690873"/>
              <a:gd name="adj2" fmla="val 49996"/>
              <a:gd name="adj3" fmla="val 690873"/>
            </a:avLst>
          </a:prstGeom>
          <a:ln w="28440">
            <a:solidFill>
              <a:srgbClr val="ff33cc"/>
            </a:solidFill>
            <a:miter/>
            <a:tailEnd len="lg" type="triangle" w="lg"/>
          </a:ln>
        </p:spPr>
      </p:cxnSp>
      <p:sp>
        <p:nvSpPr>
          <p:cNvPr id="123" name="TextBox 9"/>
          <p:cNvSpPr/>
          <p:nvPr/>
        </p:nvSpPr>
        <p:spPr>
          <a:xfrm>
            <a:off x="5895720" y="5181480"/>
            <a:ext cx="191196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1371600" y="5272200"/>
            <a:ext cx="22096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 rot="16200000">
            <a:off x="-605160" y="3539160"/>
            <a:ext cx="179316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p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 rot="16200000">
            <a:off x="3740760" y="3435480"/>
            <a:ext cx="2117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5:56:27Z</dcterms:created>
  <dc:creator>Anna Karion</dc:creator>
  <dc:description/>
  <dc:language>en-US</dc:language>
  <cp:lastModifiedBy>Anna Karion</cp:lastModifiedBy>
  <dcterms:modified xsi:type="dcterms:W3CDTF">2009-01-05T20:55:59Z</dcterms:modified>
  <cp:revision>247</cp:revision>
  <dc:subject/>
  <dc:title>June 2008 Bay Area Flights</dc:title>
</cp:coreProperties>
</file>