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284-4024-4654-9ED5-380146D4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2BF-2523-4E67-964B-AE7057D1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8C1-8E53-4D6B-B600-21DF3C15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5B3-4522-414C-BB9B-A41B82C3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88A-294F-4643-B540-D54989B9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114-801A-4E63-9FC4-5D0D1CB7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F3B-FEC6-4A1B-BA53-E7B71DC7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226-8830-4491-BD52-681A02CD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180-26E9-43DD-ADCB-6B45EEED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6A2-713D-4E36-907B-88685BAA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9C6-ED0F-442D-BCA5-485B9A8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DCD-66E4-49E0-9D3E-649C80C5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BEE97-5CE7-4228-905F-D7DDC9F6FBB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53861-90D4-45E2-881C-B639507479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240920" y="223920"/>
            <a:ext cx="6662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Surface Site in the Central Va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Ozone Chemistry and Agricultural E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llen Goldstein and Ron Co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33520" y="2371680"/>
            <a:ext cx="8076960" cy="2227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 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has the decrease in ozone in the Central Valley been less than in the South Coast bas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agricultural emissions of VOCs and NOx, and what is their role in regional ozone form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779840" y="228600"/>
            <a:ext cx="56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e of the Sites Under Consid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" descr="headerpic1.jpg"/>
          <p:cNvPicPr/>
          <p:nvPr/>
        </p:nvPicPr>
        <p:blipFill>
          <a:blip r:embed="rId1"/>
          <a:stretch/>
        </p:blipFill>
        <p:spPr>
          <a:xfrm>
            <a:off x="1981080" y="838080"/>
            <a:ext cx="6997680" cy="2621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4962240" y="2536920"/>
            <a:ext cx="39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fter Research &amp; Extension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versity of Califor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riculture and Natura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hafter.jpg"/>
          <p:cNvPicPr/>
          <p:nvPr/>
        </p:nvPicPr>
        <p:blipFill>
          <a:blip r:embed="rId2"/>
          <a:stretch/>
        </p:blipFill>
        <p:spPr>
          <a:xfrm>
            <a:off x="166680" y="2536920"/>
            <a:ext cx="4708440" cy="4168800"/>
          </a:xfrm>
          <a:prstGeom prst="rect">
            <a:avLst/>
          </a:prstGeom>
          <a:ln w="0">
            <a:noFill/>
          </a:ln>
        </p:spPr>
      </p:pic>
      <p:cxnSp>
        <p:nvCxnSpPr>
          <p:cNvPr id="47" name="Straight Arrow Connector 6"/>
          <p:cNvCxnSpPr/>
          <p:nvPr/>
        </p:nvCxnSpPr>
        <p:spPr>
          <a:xfrm flipH="1">
            <a:off x="1523160" y="5105520"/>
            <a:ext cx="1296360" cy="7624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48" name="TextBox 7"/>
          <p:cNvSpPr/>
          <p:nvPr/>
        </p:nvSpPr>
        <p:spPr>
          <a:xfrm>
            <a:off x="677160" y="57913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af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889560" y="228600"/>
            <a:ext cx="73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asurements Planned for the Central Valley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1141200" y="1066680"/>
            <a:ext cx="686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Gas-Ph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, CO2, ozon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ariou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Goldstei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UC Berke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OC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C-M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Goldstei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UC Berke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2, alkyl nitrates, PAN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F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Cohe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UC Berke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H, HO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F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Brun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Penn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lyox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sphorescenc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Keutsc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Wiscon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N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IM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Thornt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Washing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NO3, acids, peroxide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IM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Wennber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Cal Te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Aerosol-Ph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rganic aerosol speci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D-TA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Goldstei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UC Berke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52:47Z</dcterms:created>
  <dc:creator>Joost deGouw</dc:creator>
  <dc:description/>
  <dc:language>en-US</dc:language>
  <cp:lastModifiedBy>Joost deGouw</cp:lastModifiedBy>
  <dcterms:modified xsi:type="dcterms:W3CDTF">2009-01-05T00:00:31Z</dcterms:modified>
  <cp:revision>29</cp:revision>
  <dc:subject/>
  <dc:title>Slide 1</dc:title>
</cp:coreProperties>
</file>