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6EE-A995-4CA9-818D-77209F02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2EDC-135A-4301-95D4-7CF4F36D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583-A16B-420A-957D-4B905D20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F16-D3F3-4FD0-8DD3-276F59FA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5FE-5062-48FA-885D-BDDC336B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C46-6635-41A6-90BB-64C321BD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0EC-5624-4D61-BD9C-76C0985A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14F-F9D4-4177-B3E9-3F85F98C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9BF-AC74-4FDD-87A6-C027E8D3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098B-6742-45F7-A781-D51EF1B7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E76-B5A7-4269-ACA2-76C58D88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8B0-27F9-419D-9879-3BC143A7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9FDF1-4DDE-4F03-AE12-E03D5712DEB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67CA8-AF2E-497F-80B4-D4AD51E8D9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12000" y="223920"/>
            <a:ext cx="7919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Secondary Organic Aerosol Formation in Los Ange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Joost de Gouw and Jose Jimen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894400" y="1859040"/>
            <a:ext cx="3354840" cy="1557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utli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ned measu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o exp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108520" y="228600"/>
            <a:ext cx="49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What to Expect: Results from Milag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GasesDiurnal.jpg"/>
          <p:cNvPicPr/>
          <p:nvPr/>
        </p:nvPicPr>
        <p:blipFill>
          <a:blip r:embed="rId1"/>
          <a:stretch/>
        </p:blipFill>
        <p:spPr>
          <a:xfrm>
            <a:off x="228600" y="914400"/>
            <a:ext cx="5969160" cy="5334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243000" y="6248520"/>
            <a:ext cx="24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De Gouw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[ACPD 2008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6197760" y="914400"/>
            <a:ext cx="29462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urnal variations of gas-phase and aerosol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imary species peak in early mo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ary species peak or remain high in the aftern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108520" y="228600"/>
            <a:ext cx="49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What to Expect: Results from Milag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Gases_CO.jpg"/>
          <p:cNvPicPr/>
          <p:nvPr/>
        </p:nvPicPr>
        <p:blipFill>
          <a:blip r:embed="rId1"/>
          <a:stretch/>
        </p:blipFill>
        <p:spPr>
          <a:xfrm>
            <a:off x="228600" y="914400"/>
            <a:ext cx="5423040" cy="53211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243000" y="6235560"/>
            <a:ext cx="24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De Gouw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[ACPD 2008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651640" y="914400"/>
            <a:ext cx="3492360" cy="29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verage emission ratios of gas-phase and aerosol species versus CO (and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do emissions of SOA precursors compare with other reg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2108520" y="228600"/>
            <a:ext cx="49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What to Expect: Results from Milag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OCbudget.jpg"/>
          <p:cNvPicPr/>
          <p:nvPr/>
        </p:nvPicPr>
        <p:blipFill>
          <a:blip r:embed="rId1"/>
          <a:stretch/>
        </p:blipFill>
        <p:spPr>
          <a:xfrm>
            <a:off x="228600" y="914400"/>
            <a:ext cx="6070680" cy="4305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243000" y="5219640"/>
            <a:ext cx="24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De Gouw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[ACPD 2008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6299280" y="914400"/>
            <a:ext cx="28447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does composition of organics change during the da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does LA compare to other reg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rom aircraft data: how does this chemistry continue downwi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108520" y="228600"/>
            <a:ext cx="49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What to Expect: Results from Milag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639720" y="762120"/>
            <a:ext cx="786600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What is new during CalNex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proved speciation of semi-volatil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hat are the emissions?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How efficiently are they remov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proved speciation of organic aeroso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hat is the diurnal variation of different compon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itioning of semi-volatiles and aci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Does it agree with partitioning theor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erosol formation potential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an it be explained by measured VOCs and SVO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Coordination with other platfor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nald H. Brown: characterize the inflow of air into LA ba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craft: characterize the SOA chemistry downwind from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805400" y="228600"/>
            <a:ext cx="55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Motivation: The Importance of Urban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2" descr="Zhang.jpg"/>
          <p:cNvPicPr/>
          <p:nvPr/>
        </p:nvPicPr>
        <p:blipFill>
          <a:blip r:embed="rId1"/>
          <a:stretch/>
        </p:blipFill>
        <p:spPr>
          <a:xfrm>
            <a:off x="488880" y="838080"/>
            <a:ext cx="816624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357840" y="6091200"/>
            <a:ext cx="84283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arge fraction of aerosol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rgan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urban and remote 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622560" y="54100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Zhang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[GRL 2007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03280" y="5410080"/>
            <a:ext cx="44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lobal aerosol measurements using 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805400" y="228600"/>
            <a:ext cx="55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Motivation: The Importance of Urban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Docherty.jpg"/>
          <p:cNvPicPr/>
          <p:nvPr/>
        </p:nvPicPr>
        <p:blipFill>
          <a:blip r:embed="rId1"/>
          <a:stretch/>
        </p:blipFill>
        <p:spPr>
          <a:xfrm>
            <a:off x="316080" y="838080"/>
            <a:ext cx="851184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6371640" y="5410080"/>
            <a:ext cx="24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Docherty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[ES&amp;T 2008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589040" y="6095880"/>
            <a:ext cx="59659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arge fraction of organic aerosol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25440" y="5410080"/>
            <a:ext cx="38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erosol apportionment at River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805400" y="228600"/>
            <a:ext cx="55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Motivation: The Importance of Urban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724320" y="6091200"/>
            <a:ext cx="769536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aytime formation of SOA in urban atmosphere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a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" descr="Takegawa.jpg"/>
          <p:cNvPicPr/>
          <p:nvPr/>
        </p:nvPicPr>
        <p:blipFill>
          <a:blip r:embed="rId1"/>
          <a:stretch/>
        </p:blipFill>
        <p:spPr>
          <a:xfrm>
            <a:off x="698400" y="838080"/>
            <a:ext cx="469908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5398560" y="546732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Takegawa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[GRL 2006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5397480" y="83808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easurements at a surface site downwind from Toky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805400" y="228600"/>
            <a:ext cx="55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Motivation: The Importance of Urban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900000" y="5486400"/>
            <a:ext cx="734364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rmation of urban SOA is muc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gher than mode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" descr="Volkamer.jpg"/>
          <p:cNvPicPr/>
          <p:nvPr/>
        </p:nvPicPr>
        <p:blipFill>
          <a:blip r:embed="rId1"/>
          <a:stretch/>
        </p:blipFill>
        <p:spPr>
          <a:xfrm>
            <a:off x="985680" y="838080"/>
            <a:ext cx="717264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785920" y="449568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Volkamer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[GRL 2006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985680" y="4495680"/>
            <a:ext cx="40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ummary of 4 field studies in Mexico City, U.K., eastern U.S. and east A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805400" y="228600"/>
            <a:ext cx="55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Motivation: The Importance of Urban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77800" y="914400"/>
            <a:ext cx="798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Why is urban SOA formation much higher (10×) than model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issions of semi-volatiles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obinso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Science 2007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mog-chamber yields too low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Ng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ACP 2007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le of biogenic VOC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eb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JGR 2007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3" descr="Zonal4.jpg"/>
          <p:cNvPicPr/>
          <p:nvPr/>
        </p:nvPicPr>
        <p:blipFill>
          <a:blip r:embed="rId1"/>
          <a:stretch/>
        </p:blipFill>
        <p:spPr>
          <a:xfrm>
            <a:off x="395280" y="2971800"/>
            <a:ext cx="4816440" cy="3200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5392800" y="2971800"/>
            <a:ext cx="352260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lving the discrepancy is important for loca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lobal air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2388240" y="617220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De Gouw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[in preparatio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5392800" y="4602240"/>
            <a:ext cx="35226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will SOA respond to emissions control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will SOA respond to climate chang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236880" y="838080"/>
            <a:ext cx="867024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Summa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large fraction of aerosol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organic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n urban and remote 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large fraction of organic aerosol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daytime formation of SOA in urban atmospheres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ra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ormation of urban SOA is muc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higher than model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emissions of semi-volatile organic compounds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smog-chamber yields too low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ole of biogenic VO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Surface site in LA during CalNex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asure SOA and its precursors downtown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udy emissions and the early stages of SOA 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llow the later stages using research airc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136240" y="228600"/>
            <a:ext cx="48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lanned SOA Study at LA Surfac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0" descr="scl4"/>
          <p:cNvPicPr/>
          <p:nvPr/>
        </p:nvPicPr>
        <p:blipFill>
          <a:blip r:embed="rId1"/>
          <a:stretch/>
        </p:blipFill>
        <p:spPr>
          <a:xfrm>
            <a:off x="1176480" y="1081080"/>
            <a:ext cx="6777000" cy="37972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72" name="Oval 51"/>
          <p:cNvSpPr/>
          <p:nvPr/>
        </p:nvSpPr>
        <p:spPr>
          <a:xfrm>
            <a:off x="5519880" y="2471760"/>
            <a:ext cx="228600" cy="22860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52"/>
          <p:cNvSpPr/>
          <p:nvPr/>
        </p:nvSpPr>
        <p:spPr>
          <a:xfrm>
            <a:off x="4267080" y="2362320"/>
            <a:ext cx="119160" cy="11880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Group 53"/>
          <p:cNvGrpSpPr/>
          <p:nvPr/>
        </p:nvGrpSpPr>
        <p:grpSpPr>
          <a:xfrm>
            <a:off x="3067200" y="1253520"/>
            <a:ext cx="4890600" cy="2728080"/>
            <a:chOff x="3067200" y="1253520"/>
            <a:chExt cx="4890600" cy="2728080"/>
          </a:xfrm>
        </p:grpSpPr>
        <p:pic>
          <p:nvPicPr>
            <p:cNvPr id="75" name="Picture 54" descr=""/>
            <p:cNvPicPr/>
            <p:nvPr/>
          </p:nvPicPr>
          <p:blipFill>
            <a:blip r:embed="rId2"/>
            <a:stretch/>
          </p:blipFill>
          <p:spPr>
            <a:xfrm>
              <a:off x="4600800" y="3971880"/>
              <a:ext cx="9360" cy="9720"/>
            </a:xfrm>
            <a:prstGeom prst="rect">
              <a:avLst/>
            </a:prstGeom>
            <a:ln w="25560">
              <a:solidFill>
                <a:srgbClr val="ffffff"/>
              </a:solidFill>
              <a:miter/>
            </a:ln>
          </p:spPr>
        </p:pic>
        <p:pic>
          <p:nvPicPr>
            <p:cNvPr id="76" name="Picture 55" descr=""/>
            <p:cNvPicPr/>
            <p:nvPr/>
          </p:nvPicPr>
          <p:blipFill>
            <a:blip r:embed="rId3"/>
            <a:stretch/>
          </p:blipFill>
          <p:spPr>
            <a:xfrm>
              <a:off x="4600800" y="3971880"/>
              <a:ext cx="9360" cy="9720"/>
            </a:xfrm>
            <a:prstGeom prst="rect">
              <a:avLst/>
            </a:prstGeom>
            <a:ln w="25560">
              <a:solidFill>
                <a:srgbClr val="ffffff"/>
              </a:solidFill>
              <a:miter/>
            </a:ln>
          </p:spPr>
        </p:pic>
        <p:sp>
          <p:nvSpPr>
            <p:cNvPr id="77" name="Line 56"/>
            <p:cNvSpPr/>
            <p:nvPr/>
          </p:nvSpPr>
          <p:spPr>
            <a:xfrm>
              <a:off x="3081600" y="2452680"/>
              <a:ext cx="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Line 57"/>
            <p:cNvSpPr/>
            <p:nvPr/>
          </p:nvSpPr>
          <p:spPr>
            <a:xfrm>
              <a:off x="3067200" y="2419200"/>
              <a:ext cx="0" cy="76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58"/>
            <p:cNvSpPr/>
            <p:nvPr/>
          </p:nvSpPr>
          <p:spPr>
            <a:xfrm flipV="1">
              <a:off x="3067560" y="2295000"/>
              <a:ext cx="218520" cy="132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59"/>
            <p:cNvSpPr/>
            <p:nvPr/>
          </p:nvSpPr>
          <p:spPr>
            <a:xfrm flipV="1">
              <a:off x="3277800" y="2288160"/>
              <a:ext cx="210600" cy="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60"/>
            <p:cNvSpPr/>
            <p:nvPr/>
          </p:nvSpPr>
          <p:spPr>
            <a:xfrm>
              <a:off x="3488040" y="2176560"/>
              <a:ext cx="0" cy="109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61"/>
            <p:cNvSpPr/>
            <p:nvPr/>
          </p:nvSpPr>
          <p:spPr>
            <a:xfrm>
              <a:off x="3484080" y="2177280"/>
              <a:ext cx="74520" cy="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62"/>
            <p:cNvSpPr/>
            <p:nvPr/>
          </p:nvSpPr>
          <p:spPr>
            <a:xfrm>
              <a:off x="3554640" y="2103480"/>
              <a:ext cx="0" cy="76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63"/>
            <p:cNvSpPr/>
            <p:nvPr/>
          </p:nvSpPr>
          <p:spPr>
            <a:xfrm>
              <a:off x="3125160" y="1263960"/>
              <a:ext cx="430200" cy="834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64"/>
            <p:cNvSpPr/>
            <p:nvPr/>
          </p:nvSpPr>
          <p:spPr>
            <a:xfrm flipV="1">
              <a:off x="3120120" y="1254600"/>
              <a:ext cx="1978560" cy="8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65"/>
            <p:cNvSpPr/>
            <p:nvPr/>
          </p:nvSpPr>
          <p:spPr>
            <a:xfrm>
              <a:off x="5092200" y="1253520"/>
              <a:ext cx="7200" cy="458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"/>
            <p:cNvSpPr/>
            <p:nvPr/>
          </p:nvSpPr>
          <p:spPr>
            <a:xfrm flipV="1">
              <a:off x="5100120" y="1690200"/>
              <a:ext cx="1028520" cy="9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7"/>
            <p:cNvSpPr/>
            <p:nvPr/>
          </p:nvSpPr>
          <p:spPr>
            <a:xfrm flipH="1">
              <a:off x="5190480" y="3438360"/>
              <a:ext cx="36720" cy="66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8"/>
            <p:cNvSpPr/>
            <p:nvPr/>
          </p:nvSpPr>
          <p:spPr>
            <a:xfrm flipH="1">
              <a:off x="5214960" y="3420720"/>
              <a:ext cx="122400" cy="19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9"/>
            <p:cNvSpPr/>
            <p:nvPr/>
          </p:nvSpPr>
          <p:spPr>
            <a:xfrm flipH="1">
              <a:off x="5326920" y="3355920"/>
              <a:ext cx="36720" cy="66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70"/>
            <p:cNvSpPr/>
            <p:nvPr/>
          </p:nvSpPr>
          <p:spPr>
            <a:xfrm flipH="1">
              <a:off x="5354280" y="3350520"/>
              <a:ext cx="236160" cy="9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71"/>
            <p:cNvSpPr/>
            <p:nvPr/>
          </p:nvSpPr>
          <p:spPr>
            <a:xfrm flipH="1" flipV="1">
              <a:off x="5582160" y="3382560"/>
              <a:ext cx="218160" cy="9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72"/>
            <p:cNvSpPr/>
            <p:nvPr/>
          </p:nvSpPr>
          <p:spPr>
            <a:xfrm>
              <a:off x="5585400" y="3349440"/>
              <a:ext cx="2160" cy="27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73"/>
            <p:cNvSpPr/>
            <p:nvPr/>
          </p:nvSpPr>
          <p:spPr>
            <a:xfrm flipH="1">
              <a:off x="5799600" y="3467160"/>
              <a:ext cx="295560" cy="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4"/>
            <p:cNvSpPr/>
            <p:nvPr/>
          </p:nvSpPr>
          <p:spPr>
            <a:xfrm flipH="1">
              <a:off x="6103080" y="3471120"/>
              <a:ext cx="1854720" cy="1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75"/>
            <p:cNvSpPr/>
            <p:nvPr/>
          </p:nvSpPr>
          <p:spPr>
            <a:xfrm>
              <a:off x="6103080" y="3462480"/>
              <a:ext cx="2160" cy="27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76"/>
            <p:cNvSpPr/>
            <p:nvPr/>
          </p:nvSpPr>
          <p:spPr>
            <a:xfrm flipH="1">
              <a:off x="6134040" y="1681200"/>
              <a:ext cx="720" cy="241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77"/>
            <p:cNvSpPr/>
            <p:nvPr/>
          </p:nvSpPr>
          <p:spPr>
            <a:xfrm>
              <a:off x="6138360" y="1909800"/>
              <a:ext cx="1819080" cy="9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Picture 78" descr="scl6"/>
          <p:cNvPicPr/>
          <p:nvPr/>
        </p:nvPicPr>
        <p:blipFill>
          <a:blip r:embed="rId4"/>
          <a:srcRect l="8233" t="51298" r="90567" b="43970"/>
          <a:stretch/>
        </p:blipFill>
        <p:spPr>
          <a:xfrm>
            <a:off x="4562640" y="3900600"/>
            <a:ext cx="80640" cy="179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9"/>
          <p:cNvSpPr/>
          <p:nvPr/>
        </p:nvSpPr>
        <p:spPr>
          <a:xfrm>
            <a:off x="1427040" y="4419720"/>
            <a:ext cx="24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pollutant emiss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34"/>
          <p:cNvSpPr/>
          <p:nvPr/>
        </p:nvSpPr>
        <p:spPr>
          <a:xfrm>
            <a:off x="3202560" y="29988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Why Downtown L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35"/>
          <p:cNvSpPr/>
          <p:nvPr/>
        </p:nvSpPr>
        <p:spPr>
          <a:xfrm>
            <a:off x="3583800" y="19922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town 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36"/>
          <p:cNvSpPr/>
          <p:nvPr/>
        </p:nvSpPr>
        <p:spPr>
          <a:xfrm>
            <a:off x="5265720" y="26668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ver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37"/>
          <p:cNvSpPr/>
          <p:nvPr/>
        </p:nvSpPr>
        <p:spPr>
          <a:xfrm>
            <a:off x="1095480" y="518148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AR study in 2005: Organic aerosol at Riverside quite a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stry is happening further upw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723960" y="685800"/>
            <a:ext cx="7691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Aerosol-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rganic aerosol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R-ToF-AM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Jimenez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CU Boul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erosol volatility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mal denuder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Jimenez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CU Boul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erosol potential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M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Jimenez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CU Boul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C cor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P2-AM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Worsnop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Aerody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erosol speciatio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AG-AM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Worsnop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Aerody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erosol speciatio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AG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Goldstei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UC Berke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C, E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-hour Sunset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Weber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GA T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SO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ILS-TO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Weber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GA T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SOC &amp; WSO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ILS-M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Laski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PNN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-14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ccelerator M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Prevot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P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Gas-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OC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C-M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de Gouw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NOA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OC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TR-TOF-M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Holzinger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Utrecht Uni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rganic acid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IM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Robert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NOA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lyoxal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ight absorptio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Brow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NOA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VOC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I-M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Kroll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M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2136240" y="228600"/>
            <a:ext cx="48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lanned SOA Study at LA Surfac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1859400" y="6400800"/>
            <a:ext cx="542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These measurements are specific for the SOA go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6:05:12Z</dcterms:created>
  <dc:creator>Joost deGouw</dc:creator>
  <dc:description/>
  <dc:language>en-US</dc:language>
  <cp:lastModifiedBy>Joost deGouw</cp:lastModifiedBy>
  <dcterms:modified xsi:type="dcterms:W3CDTF">2009-01-05T20:05:19Z</dcterms:modified>
  <cp:revision>25</cp:revision>
  <dc:subject/>
  <dc:title>Slide 1</dc:title>
</cp:coreProperties>
</file>