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A61-89AE-49ED-B7F7-CF767FA8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C86-E9AB-4D0B-A5F2-964089BF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029-972F-4DA0-90DF-F2467EE9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FCC-B1ED-4CDF-9A4C-801B18EE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EE1-216C-4FAC-91BC-FA7BD2F5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C47-8369-4E40-9EC4-54AABEC9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572-AB30-4CC7-9227-786D688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D01-2C9C-48CD-B568-51FF9D95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8B2-252B-45C6-A199-062C0E7F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C19-0F20-4EC9-B73E-7887156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726-3C1A-4F1C-979A-26FCAE1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7DA-5D21-420F-8052-0B1F0B90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1AA9-ACC0-477D-91C0-CB1E97948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Remote Sen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Nex 2010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Wilczak – NOAA/ES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4790" r="0" b="4096"/>
          <a:stretch/>
        </p:blipFill>
        <p:spPr>
          <a:xfrm>
            <a:off x="1447920" y="533520"/>
            <a:ext cx="6858000" cy="6248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27720" y="5256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PBL Depth   15 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912200">
            <a:off x="4334040" y="1280880"/>
            <a:ext cx="925200" cy="410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485" t="13192" r="17373" b="67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76840" y="327672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29480" y="44658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0574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5146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0630" t="5669" r="11416" b="5511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4560" y="380880"/>
            <a:ext cx="415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5 MHz wind prof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(~100m – 3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S (~100m – 70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L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et (10m winds, 2m T, T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, precip, SW and net rad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0600" y="4724280"/>
            <a:ext cx="24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9 MHz wind prof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(~200m – 8 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L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067680" cy="6800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152280"/>
            <a:ext cx="4419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COS 2000 Profil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41116"/>
          <a:stretch/>
        </p:blipFill>
        <p:spPr>
          <a:xfrm>
            <a:off x="0" y="254160"/>
            <a:ext cx="9144000" cy="5384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105520"/>
            <a:ext cx="79246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952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8886" b="48892"/>
          <a:stretch/>
        </p:blipFill>
        <p:spPr>
          <a:xfrm>
            <a:off x="228600" y="685800"/>
            <a:ext cx="7543800" cy="4232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91118" t="7776" r="0" b="13332"/>
          <a:stretch/>
        </p:blipFill>
        <p:spPr>
          <a:xfrm>
            <a:off x="7924680" y="533520"/>
            <a:ext cx="609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85840" y="209520"/>
            <a:ext cx="4972320" cy="64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85840" y="206280"/>
            <a:ext cx="4972320" cy="64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-500m vertically averaged RASS potential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18432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1843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62480" y="62118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L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29560" y="61358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3 L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4790" r="0" b="4096"/>
          <a:stretch/>
        </p:blipFill>
        <p:spPr>
          <a:xfrm>
            <a:off x="1447920" y="533520"/>
            <a:ext cx="6858000" cy="624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727720" y="52560"/>
            <a:ext cx="48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PBL Depth  11 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20:38:17Z</dcterms:created>
  <dc:creator>jwilczak</dc:creator>
  <dc:description/>
  <dc:language>en-US</dc:language>
  <cp:lastModifiedBy>jwilczak</cp:lastModifiedBy>
  <dcterms:modified xsi:type="dcterms:W3CDTF">2009-01-05T20:09:55Z</dcterms:modified>
  <cp:revision>27</cp:revision>
  <dc:subject/>
  <dc:title>Slide 1</dc:title>
</cp:coreProperties>
</file>