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23.png" ContentType="image/png"/>
  <Override PartName="/ppt/media/image9.pct" ContentType="image/x-pict"/>
  <Override PartName="/ppt/media/image19.jpeg" ContentType="image/jpeg"/>
  <Override PartName="/ppt/media/image8.pct" ContentType="image/x-pict"/>
  <Override PartName="/ppt/media/image6.jpeg" ContentType="image/jpeg"/>
  <Override PartName="/ppt/media/image12.pct" ContentType="image/x-pict"/>
  <Override PartName="/ppt/media/image1.png" ContentType="image/png"/>
  <Override PartName="/ppt/media/image24.png" ContentType="image/png"/>
  <Override PartName="/ppt/media/image7.pct" ContentType="image/x-pict"/>
  <Override PartName="/ppt/media/image10.pct" ContentType="image/x-pict"/>
  <Override PartName="/ppt/media/image22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25.png" ContentType="image/png"/>
  <Override PartName="/ppt/media/image21.png" ContentType="image/png"/>
  <Override PartName="/ppt/media/image20.jpeg" ContentType="image/jpeg"/>
  <Override PartName="/ppt/media/image18.pct" ContentType="image/x-pict"/>
  <Override PartName="/ppt/media/image2.jpeg" ContentType="image/jpeg"/>
  <Override PartName="/ppt/media/image29.png" ContentType="image/png"/>
  <Override PartName="/ppt/media/image17.pct" ContentType="image/x-pict"/>
  <Override PartName="/ppt/media/image14.jpeg" ContentType="image/jpe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3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73C9-4F61-41A1-A2AF-F8EF5B0E8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83CE-8879-4A16-A235-36DBA0FFA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336C-5CDA-4A84-8846-41A02058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A098-B965-4D37-B374-2858D773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ACFE-6FEB-4387-8957-0BAAF8C2B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3C9D-5CBB-4A0B-87A3-5B4714FF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18D7-3C0F-4541-B80A-89E7C10D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3802-8A3A-4AC5-96A0-A95E3D58B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FCBB-A708-4075-A701-BCCEC727C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F929-5DC8-4D5E-956D-21687729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56B3-7C50-4401-BB4E-822F8F2F6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F952-39BD-44E5-A016-1545E151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9BC9-4C0E-43C8-8F38-B916CC73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68B1-0C25-44F5-AA8F-5221321C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E9CA-F30C-4A55-9B47-58C5AFC7E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381-C331-494F-BAFF-6BE2849E2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3F7A-A57A-4C61-90AD-763F78C4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814C-8EB8-4F8A-A1AE-8FDCFF5E5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48B-FBC7-4DF6-BB10-6A775B97C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578A-4533-4D84-BFD4-9E96DA1D4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60C2-89E0-4849-AE65-7BCE8041C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4923-854B-43EA-83D0-4770CB9D5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A69-FC4C-49C9-B541-E6FF32C7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733-8C34-4B65-A6F6-221BA1D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6B6-30C6-48A3-ABC1-FD99B585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182-C139-406B-86AF-39EF8511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071-F55B-472B-A384-7ED58771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C26-58D4-4827-BF52-6B1F3996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F37-B92A-49B6-AEE7-91CC1C04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3D8-9F26-4ABA-83FB-7260D15C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5E6-7770-4047-933F-15DE00AD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A3B-BDF8-41BA-9F2F-20FADAA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F89-97C4-479B-8F35-50ACCD11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D77-B47E-4449-9491-91A2547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D8C0-8DF1-4106-9A08-71BC24540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ct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ct"/><Relationship Id="rId9" Type="http://schemas.openxmlformats.org/officeDocument/2006/relationships/oleObject" Target="../embeddings/oleObject3.bin"/><Relationship Id="rId10" Type="http://schemas.openxmlformats.org/officeDocument/2006/relationships/image" Target="../media/image9.pct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0.pct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1.pct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2.pct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0.pct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Rectangle 14"/>
          <p:cNvSpPr/>
          <p:nvPr/>
        </p:nvSpPr>
        <p:spPr>
          <a:xfrm>
            <a:off x="309600" y="2548080"/>
            <a:ext cx="37418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DAVID PARRI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NOAA/ESR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Chemical Sciences Divis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79200" y="5719680"/>
            <a:ext cx="4054680" cy="9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010 CalNex mobile platform/remote sensing planning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nuary 5-6, 2009, Boulder, C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3" descr="Layout0.png"/>
          <p:cNvPicPr/>
          <p:nvPr/>
        </p:nvPicPr>
        <p:blipFill>
          <a:blip r:embed="rId1"/>
          <a:srcRect l="3664" t="1498" r="4885" b="4495"/>
          <a:stretch/>
        </p:blipFill>
        <p:spPr>
          <a:xfrm>
            <a:off x="90360" y="2208240"/>
            <a:ext cx="4606920" cy="3859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NOAA"/>
          <p:cNvPicPr/>
          <p:nvPr/>
        </p:nvPicPr>
        <p:blipFill>
          <a:blip r:embed="rId3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4"/>
          <p:cNvSpPr/>
          <p:nvPr/>
        </p:nvSpPr>
        <p:spPr>
          <a:xfrm>
            <a:off x="50760" y="1052640"/>
            <a:ext cx="48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n-C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Greenhouse Gas Emis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00160" y="154620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measurements tell u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9" descr=""/>
          <p:cNvPicPr/>
          <p:nvPr/>
        </p:nvPicPr>
        <p:blipFill>
          <a:blip r:embed="rId4"/>
          <a:srcRect l="14160" t="1814" r="7417" b="10883"/>
          <a:stretch/>
        </p:blipFill>
        <p:spPr>
          <a:xfrm>
            <a:off x="4994280" y="1035000"/>
            <a:ext cx="4143240" cy="3429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0"/>
          <p:cNvSpPr/>
          <p:nvPr/>
        </p:nvSpPr>
        <p:spPr>
          <a:xfrm>
            <a:off x="5027760" y="3886200"/>
            <a:ext cx="11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mi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en, 20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2"/>
          <p:cNvGrpSpPr/>
          <p:nvPr/>
        </p:nvGrpSpPr>
        <p:grpSpPr>
          <a:xfrm>
            <a:off x="4686480" y="4959360"/>
            <a:ext cx="4423680" cy="1741680"/>
            <a:chOff x="4686480" y="4959360"/>
            <a:chExt cx="4423680" cy="1741680"/>
          </a:xfrm>
        </p:grpSpPr>
        <p:sp>
          <p:nvSpPr>
            <p:cNvPr id="262" name="Rectangle 13"/>
            <p:cNvSpPr/>
            <p:nvPr/>
          </p:nvSpPr>
          <p:spPr>
            <a:xfrm>
              <a:off x="4686480" y="4959360"/>
              <a:ext cx="44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warming potential of greenhouse gases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14"/>
            <p:cNvGrpSpPr/>
            <p:nvPr/>
          </p:nvGrpSpPr>
          <p:grpSpPr>
            <a:xfrm>
              <a:off x="4941720" y="5302440"/>
              <a:ext cx="3820320" cy="1398600"/>
              <a:chOff x="4941720" y="5302440"/>
              <a:chExt cx="3820320" cy="1398600"/>
            </a:xfrm>
          </p:grpSpPr>
          <p:sp>
            <p:nvSpPr>
              <p:cNvPr id="264" name="Line 15"/>
              <p:cNvSpPr/>
              <p:nvPr/>
            </p:nvSpPr>
            <p:spPr>
              <a:xfrm>
                <a:off x="4962240" y="53024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6"/>
              <p:cNvSpPr/>
              <p:nvPr/>
            </p:nvSpPr>
            <p:spPr>
              <a:xfrm>
                <a:off x="5124240" y="5313240"/>
                <a:ext cx="3467880" cy="13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WP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4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2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FC-134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3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10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7"/>
              <p:cNvSpPr/>
              <p:nvPr/>
            </p:nvSpPr>
            <p:spPr>
              <a:xfrm>
                <a:off x="4957200" y="56750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8"/>
              <p:cNvSpPr/>
              <p:nvPr/>
            </p:nvSpPr>
            <p:spPr>
              <a:xfrm>
                <a:off x="4941720" y="663876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Rectangle 19"/>
          <p:cNvSpPr/>
          <p:nvPr/>
        </p:nvSpPr>
        <p:spPr>
          <a:xfrm>
            <a:off x="8225280" y="378288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5124960" y="218124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1"/>
          <p:cNvSpPr/>
          <p:nvPr/>
        </p:nvSpPr>
        <p:spPr>
          <a:xfrm>
            <a:off x="5715360" y="246384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5510520" y="1371600"/>
            <a:ext cx="5389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3"/>
          <p:cNvSpPr/>
          <p:nvPr/>
        </p:nvSpPr>
        <p:spPr>
          <a:xfrm>
            <a:off x="7436880" y="101448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GW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es 4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6235560" y="1228680"/>
            <a:ext cx="3193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5"/>
          <p:cNvSpPr/>
          <p:nvPr/>
        </p:nvSpPr>
        <p:spPr>
          <a:xfrm>
            <a:off x="6111000" y="1039680"/>
            <a:ext cx="54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6"/>
          <p:cNvSpPr/>
          <p:nvPr/>
        </p:nvSpPr>
        <p:spPr>
          <a:xfrm>
            <a:off x="6710400" y="1106640"/>
            <a:ext cx="57312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 flipH="1">
            <a:off x="7054920" y="12938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6945120" y="1298520"/>
            <a:ext cx="10620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5255640" y="437040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greenhouse gas emi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9"/>
          <p:cNvSpPr/>
          <p:nvPr/>
        </p:nvSpPr>
        <p:spPr>
          <a:xfrm>
            <a:off x="3144960" y="2367000"/>
            <a:ext cx="1290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 May 200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5" descr=""/>
          <p:cNvPicPr/>
          <p:nvPr/>
        </p:nvPicPr>
        <p:blipFill>
          <a:blip r:embed="rId1"/>
          <a:srcRect l="14160" t="1814" r="7417" b="10883"/>
          <a:stretch/>
        </p:blipFill>
        <p:spPr>
          <a:xfrm>
            <a:off x="4994280" y="1035000"/>
            <a:ext cx="4143240" cy="3429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26"/>
          <p:cNvSpPr/>
          <p:nvPr/>
        </p:nvSpPr>
        <p:spPr>
          <a:xfrm>
            <a:off x="5027760" y="3886200"/>
            <a:ext cx="11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mi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en, 20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8225280" y="378288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6"/>
          <p:cNvSpPr/>
          <p:nvPr/>
        </p:nvSpPr>
        <p:spPr>
          <a:xfrm>
            <a:off x="5124960" y="218124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5715360" y="246384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8"/>
          <p:cNvSpPr/>
          <p:nvPr/>
        </p:nvSpPr>
        <p:spPr>
          <a:xfrm>
            <a:off x="5510520" y="1371600"/>
            <a:ext cx="5389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9"/>
          <p:cNvSpPr/>
          <p:nvPr/>
        </p:nvSpPr>
        <p:spPr>
          <a:xfrm>
            <a:off x="7436880" y="101448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GW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es 4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0"/>
          <p:cNvSpPr/>
          <p:nvPr/>
        </p:nvSpPr>
        <p:spPr>
          <a:xfrm>
            <a:off x="6235560" y="1228680"/>
            <a:ext cx="3193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1"/>
          <p:cNvSpPr/>
          <p:nvPr/>
        </p:nvSpPr>
        <p:spPr>
          <a:xfrm>
            <a:off x="6111000" y="1039680"/>
            <a:ext cx="54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2"/>
          <p:cNvSpPr/>
          <p:nvPr/>
        </p:nvSpPr>
        <p:spPr>
          <a:xfrm>
            <a:off x="6710400" y="1106640"/>
            <a:ext cx="57312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3"/>
          <p:cNvSpPr/>
          <p:nvPr/>
        </p:nvSpPr>
        <p:spPr>
          <a:xfrm flipH="1">
            <a:off x="7054920" y="12938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4"/>
          <p:cNvSpPr/>
          <p:nvPr/>
        </p:nvSpPr>
        <p:spPr>
          <a:xfrm flipH="1">
            <a:off x="6945120" y="1298520"/>
            <a:ext cx="10620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2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NOAA"/>
          <p:cNvPicPr/>
          <p:nvPr/>
        </p:nvPicPr>
        <p:blipFill>
          <a:blip r:embed="rId3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7"/>
          <p:cNvSpPr/>
          <p:nvPr/>
        </p:nvSpPr>
        <p:spPr>
          <a:xfrm>
            <a:off x="50760" y="1052640"/>
            <a:ext cx="48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n-C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Greenhouse Gas Emis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200160" y="154620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measurements tell u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17" descr=""/>
          <p:cNvPicPr/>
          <p:nvPr/>
        </p:nvPicPr>
        <p:blipFill>
          <a:blip r:embed="rId4"/>
          <a:srcRect l="0" t="70637" r="58891" b="0"/>
          <a:stretch/>
        </p:blipFill>
        <p:spPr>
          <a:xfrm>
            <a:off x="128520" y="1495440"/>
            <a:ext cx="4060800" cy="33717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8"/>
          <p:cNvSpPr/>
          <p:nvPr/>
        </p:nvSpPr>
        <p:spPr>
          <a:xfrm>
            <a:off x="2352600" y="2824200"/>
            <a:ext cx="3054600" cy="7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4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 = 7.1 E-3 (mole/mole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WP(CH4) = 23*16/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WP(CH4)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4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 = 0.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138240" y="655164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ysis by M. Train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21"/>
          <p:cNvSpPr/>
          <p:nvPr/>
        </p:nvSpPr>
        <p:spPr>
          <a:xfrm>
            <a:off x="5451480" y="1322280"/>
            <a:ext cx="639720" cy="676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12"/>
          <p:cNvGrpSpPr/>
          <p:nvPr/>
        </p:nvGrpSpPr>
        <p:grpSpPr>
          <a:xfrm>
            <a:off x="4686480" y="4959360"/>
            <a:ext cx="4423680" cy="1741680"/>
            <a:chOff x="4686480" y="4959360"/>
            <a:chExt cx="4423680" cy="1741680"/>
          </a:xfrm>
        </p:grpSpPr>
        <p:sp>
          <p:nvSpPr>
            <p:cNvPr id="303" name="Rectangle 13"/>
            <p:cNvSpPr/>
            <p:nvPr/>
          </p:nvSpPr>
          <p:spPr>
            <a:xfrm>
              <a:off x="4686480" y="4959360"/>
              <a:ext cx="44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warming potential of greenhouse gases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4941720" y="5302440"/>
              <a:ext cx="3820320" cy="1398600"/>
              <a:chOff x="4941720" y="5302440"/>
              <a:chExt cx="3820320" cy="1398600"/>
            </a:xfrm>
          </p:grpSpPr>
          <p:sp>
            <p:nvSpPr>
              <p:cNvPr id="305" name="Line 15"/>
              <p:cNvSpPr/>
              <p:nvPr/>
            </p:nvSpPr>
            <p:spPr>
              <a:xfrm>
                <a:off x="4962240" y="53024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6"/>
              <p:cNvSpPr/>
              <p:nvPr/>
            </p:nvSpPr>
            <p:spPr>
              <a:xfrm>
                <a:off x="5124240" y="5313240"/>
                <a:ext cx="3467880" cy="13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WP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4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2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FC-134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3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10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4957200" y="56750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8"/>
              <p:cNvSpPr/>
              <p:nvPr/>
            </p:nvSpPr>
            <p:spPr>
              <a:xfrm>
                <a:off x="4941720" y="663876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Rectangle 11"/>
          <p:cNvSpPr/>
          <p:nvPr/>
        </p:nvSpPr>
        <p:spPr>
          <a:xfrm>
            <a:off x="5255640" y="437040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greenhouse gas emi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138240" y="4626000"/>
            <a:ext cx="1358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 May 2002 WP-3D fligh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Angel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236520" y="5445000"/>
            <a:ext cx="43354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Provide more extensive data s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patial vari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gricultural contrib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4" descr=""/>
          <p:cNvPicPr/>
          <p:nvPr/>
        </p:nvPicPr>
        <p:blipFill>
          <a:blip r:embed="rId1"/>
          <a:srcRect l="14160" t="1814" r="7417" b="10883"/>
          <a:stretch/>
        </p:blipFill>
        <p:spPr>
          <a:xfrm>
            <a:off x="4994280" y="1035000"/>
            <a:ext cx="414324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5"/>
          <p:cNvSpPr/>
          <p:nvPr/>
        </p:nvSpPr>
        <p:spPr>
          <a:xfrm>
            <a:off x="5027760" y="3886200"/>
            <a:ext cx="11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mi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en, 20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8225280" y="378288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35"/>
          <p:cNvSpPr/>
          <p:nvPr/>
        </p:nvSpPr>
        <p:spPr>
          <a:xfrm>
            <a:off x="5124960" y="218124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6"/>
          <p:cNvSpPr/>
          <p:nvPr/>
        </p:nvSpPr>
        <p:spPr>
          <a:xfrm>
            <a:off x="5715360" y="246384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7"/>
          <p:cNvSpPr/>
          <p:nvPr/>
        </p:nvSpPr>
        <p:spPr>
          <a:xfrm>
            <a:off x="5510520" y="1371600"/>
            <a:ext cx="5389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8"/>
          <p:cNvSpPr/>
          <p:nvPr/>
        </p:nvSpPr>
        <p:spPr>
          <a:xfrm>
            <a:off x="7436880" y="101448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GW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es 4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9"/>
          <p:cNvSpPr/>
          <p:nvPr/>
        </p:nvSpPr>
        <p:spPr>
          <a:xfrm>
            <a:off x="6235560" y="1228680"/>
            <a:ext cx="3193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0"/>
          <p:cNvSpPr/>
          <p:nvPr/>
        </p:nvSpPr>
        <p:spPr>
          <a:xfrm>
            <a:off x="6111000" y="1039680"/>
            <a:ext cx="54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1"/>
          <p:cNvSpPr/>
          <p:nvPr/>
        </p:nvSpPr>
        <p:spPr>
          <a:xfrm>
            <a:off x="6710400" y="1106640"/>
            <a:ext cx="57312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42"/>
          <p:cNvSpPr/>
          <p:nvPr/>
        </p:nvSpPr>
        <p:spPr>
          <a:xfrm flipH="1">
            <a:off x="7054920" y="12938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43"/>
          <p:cNvSpPr/>
          <p:nvPr/>
        </p:nvSpPr>
        <p:spPr>
          <a:xfrm flipH="1">
            <a:off x="6945120" y="1298520"/>
            <a:ext cx="10620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NOAA"/>
          <p:cNvPicPr/>
          <p:nvPr/>
        </p:nvPicPr>
        <p:blipFill>
          <a:blip r:embed="rId3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8"/>
          <p:cNvSpPr/>
          <p:nvPr/>
        </p:nvSpPr>
        <p:spPr>
          <a:xfrm>
            <a:off x="200160" y="154620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measurements tell u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9" descr=""/>
          <p:cNvPicPr/>
          <p:nvPr/>
        </p:nvPicPr>
        <p:blipFill>
          <a:blip r:embed="rId4"/>
          <a:srcRect l="0" t="70637" r="58891" b="0"/>
          <a:stretch/>
        </p:blipFill>
        <p:spPr>
          <a:xfrm>
            <a:off x="128520" y="1452600"/>
            <a:ext cx="4132440" cy="34322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7"/>
          <p:cNvSpPr/>
          <p:nvPr/>
        </p:nvSpPr>
        <p:spPr>
          <a:xfrm>
            <a:off x="50760" y="1052640"/>
            <a:ext cx="48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n-C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Greenhouse Gas Emis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2352600" y="2824200"/>
            <a:ext cx="3251160" cy="94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F-134a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 = 5E-6 (mole/mole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WP(HCF-134a) = 1300*102/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WP(HCF-134a)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F-134a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= 0.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138240" y="65530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ysis by M. Train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44"/>
          <p:cNvSpPr/>
          <p:nvPr/>
        </p:nvSpPr>
        <p:spPr>
          <a:xfrm>
            <a:off x="7296120" y="1003320"/>
            <a:ext cx="1459080" cy="676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9"/>
          <p:cNvSpPr/>
          <p:nvPr/>
        </p:nvSpPr>
        <p:spPr>
          <a:xfrm>
            <a:off x="138240" y="4626000"/>
            <a:ext cx="1358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 May 2002 WP-3D fligh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Angel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2"/>
          <p:cNvGrpSpPr/>
          <p:nvPr/>
        </p:nvGrpSpPr>
        <p:grpSpPr>
          <a:xfrm>
            <a:off x="4686480" y="4959360"/>
            <a:ext cx="4423680" cy="1741680"/>
            <a:chOff x="4686480" y="4959360"/>
            <a:chExt cx="4423680" cy="1741680"/>
          </a:xfrm>
        </p:grpSpPr>
        <p:sp>
          <p:nvSpPr>
            <p:cNvPr id="336" name="Rectangle 13"/>
            <p:cNvSpPr/>
            <p:nvPr/>
          </p:nvSpPr>
          <p:spPr>
            <a:xfrm>
              <a:off x="4686480" y="4959360"/>
              <a:ext cx="44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warming potential of greenhouse gases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Group 14"/>
            <p:cNvGrpSpPr/>
            <p:nvPr/>
          </p:nvGrpSpPr>
          <p:grpSpPr>
            <a:xfrm>
              <a:off x="4941720" y="5302440"/>
              <a:ext cx="3820320" cy="1398600"/>
              <a:chOff x="4941720" y="5302440"/>
              <a:chExt cx="3820320" cy="1398600"/>
            </a:xfrm>
          </p:grpSpPr>
          <p:sp>
            <p:nvSpPr>
              <p:cNvPr id="338" name="Line 15"/>
              <p:cNvSpPr/>
              <p:nvPr/>
            </p:nvSpPr>
            <p:spPr>
              <a:xfrm>
                <a:off x="4962240" y="53024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6"/>
              <p:cNvSpPr/>
              <p:nvPr/>
            </p:nvSpPr>
            <p:spPr>
              <a:xfrm>
                <a:off x="5124240" y="5313240"/>
                <a:ext cx="3467880" cy="13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WP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4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2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FC-134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3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10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17"/>
              <p:cNvSpPr/>
              <p:nvPr/>
            </p:nvSpPr>
            <p:spPr>
              <a:xfrm>
                <a:off x="4957200" y="56750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8"/>
              <p:cNvSpPr/>
              <p:nvPr/>
            </p:nvSpPr>
            <p:spPr>
              <a:xfrm>
                <a:off x="4941720" y="663876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Rectangle 11"/>
          <p:cNvSpPr/>
          <p:nvPr/>
        </p:nvSpPr>
        <p:spPr>
          <a:xfrm>
            <a:off x="5255640" y="437040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greenhouse gas emi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92160" y="4826160"/>
            <a:ext cx="4572000" cy="196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rovide more extensive data s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Investigate spatial vari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dd N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O to measurement cap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ollaborate with others doing similar analyses with different perspectiv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4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6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mical Trans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37"/>
          <p:cNvSpPr/>
          <p:nvPr/>
        </p:nvSpPr>
        <p:spPr>
          <a:xfrm>
            <a:off x="1158480" y="501480"/>
            <a:ext cx="77000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m to understand on a process leve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914400" y="1969920"/>
            <a:ext cx="731520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vestigat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ondary organic aerosol 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hotochemistry; ozone 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o</a:t>
            </a:r>
            <a:r>
              <a:rPr b="1" lang="en-US" sz="2800" spc="-1" strike="noStrike">
                <a:solidFill>
                  <a:srgbClr val="0000ff"/>
                </a:solidFill>
                <a:latin typeface="Arial (Headings)"/>
                <a:ea typeface="Arial (Headings)"/>
              </a:rPr>
              <a:t>le of nighttime chemist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 (Headings)"/>
              </a:rPr>
              <a:t>Halogen activ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5"/>
          <p:cNvSpPr/>
          <p:nvPr/>
        </p:nvSpPr>
        <p:spPr>
          <a:xfrm>
            <a:off x="0" y="911160"/>
            <a:ext cx="9144000" cy="5946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2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4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36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mical Trans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7"/>
          <p:cNvSpPr/>
          <p:nvPr/>
        </p:nvSpPr>
        <p:spPr>
          <a:xfrm>
            <a:off x="1158480" y="501480"/>
            <a:ext cx="77000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m to understand on a process leve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2152080" y="981000"/>
            <a:ext cx="48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ources of Organic Aerosol in Polluted Ai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13"/>
          <p:cNvGrpSpPr/>
          <p:nvPr/>
        </p:nvGrpSpPr>
        <p:grpSpPr>
          <a:xfrm>
            <a:off x="87480" y="1317600"/>
            <a:ext cx="6008040" cy="2711160"/>
            <a:chOff x="87480" y="1317600"/>
            <a:chExt cx="6008040" cy="2711160"/>
          </a:xfrm>
        </p:grpSpPr>
        <p:sp>
          <p:nvSpPr>
            <p:cNvPr id="356" name="AutoShape 3"/>
            <p:cNvSpPr/>
            <p:nvPr/>
          </p:nvSpPr>
          <p:spPr>
            <a:xfrm>
              <a:off x="2774880" y="2684160"/>
              <a:ext cx="632880" cy="370080"/>
            </a:xfrm>
            <a:prstGeom prst="rightArrow">
              <a:avLst>
                <a:gd name="adj1" fmla="val 50000"/>
                <a:gd name="adj2" fmla="val 427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4"/>
            <p:cNvSpPr/>
            <p:nvPr/>
          </p:nvSpPr>
          <p:spPr>
            <a:xfrm>
              <a:off x="344520" y="131760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t time of emissio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5"/>
            <p:cNvSpPr/>
            <p:nvPr/>
          </p:nvSpPr>
          <p:spPr>
            <a:xfrm>
              <a:off x="4063320" y="131760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fter 2 day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9" name="Picture 7" descr="Pie1"/>
            <p:cNvPicPr/>
            <p:nvPr/>
          </p:nvPicPr>
          <p:blipFill>
            <a:blip r:embed="rId3"/>
            <a:srcRect l="8331" t="6669" r="8331" b="20000"/>
            <a:stretch/>
          </p:blipFill>
          <p:spPr>
            <a:xfrm>
              <a:off x="87480" y="1709640"/>
              <a:ext cx="2634840" cy="23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8" descr="Pie2"/>
            <p:cNvPicPr/>
            <p:nvPr/>
          </p:nvPicPr>
          <p:blipFill>
            <a:blip r:embed="rId4"/>
            <a:srcRect l="8331" t="6669" r="8331" b="20000"/>
            <a:stretch/>
          </p:blipFill>
          <p:spPr>
            <a:xfrm>
              <a:off x="3460680" y="1709640"/>
              <a:ext cx="2634840" cy="23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Text Box 14"/>
          <p:cNvSpPr/>
          <p:nvPr/>
        </p:nvSpPr>
        <p:spPr>
          <a:xfrm>
            <a:off x="6172200" y="169056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 2 day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position chang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ie shrinks: species not measured? Deposition? [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e Gouw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JGR 2005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A formation &gt;&gt; calculated from known precurso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17"/>
          <p:cNvGrpSpPr/>
          <p:nvPr/>
        </p:nvGrpSpPr>
        <p:grpSpPr>
          <a:xfrm>
            <a:off x="101520" y="4110120"/>
            <a:ext cx="8923320" cy="2665440"/>
            <a:chOff x="101520" y="4110120"/>
            <a:chExt cx="8923320" cy="2665440"/>
          </a:xfrm>
        </p:grpSpPr>
        <p:pic>
          <p:nvPicPr>
            <p:cNvPr id="363" name="Picture 11" descr="VolkamerFig2"/>
            <p:cNvPicPr/>
            <p:nvPr/>
          </p:nvPicPr>
          <p:blipFill>
            <a:blip r:embed="rId5"/>
            <a:stretch/>
          </p:blipFill>
          <p:spPr>
            <a:xfrm>
              <a:off x="3540240" y="4110120"/>
              <a:ext cx="54846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 Box 12"/>
            <p:cNvSpPr/>
            <p:nvPr/>
          </p:nvSpPr>
          <p:spPr>
            <a:xfrm>
              <a:off x="101520" y="4241880"/>
              <a:ext cx="3353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OA growth &gt;&gt; expected: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emi-volatile precursors? [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Robinson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, Science 2007]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echanisms poorly understood?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iogenic precursors in urban plumes?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6"/>
            <p:cNvSpPr/>
            <p:nvPr/>
          </p:nvSpPr>
          <p:spPr>
            <a:xfrm>
              <a:off x="872280" y="632448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Volkamer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, GRL 2006]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Rectangle 16"/>
          <p:cNvSpPr/>
          <p:nvPr/>
        </p:nvSpPr>
        <p:spPr>
          <a:xfrm>
            <a:off x="103320" y="4653000"/>
            <a:ext cx="3851280" cy="192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Investigate early stages of SOA formation at central LA si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oordinate with all platforms to build as complete a picture as possi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2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port and Meteor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3"/>
          <p:cNvSpPr/>
          <p:nvPr/>
        </p:nvSpPr>
        <p:spPr>
          <a:xfrm>
            <a:off x="1130040" y="501480"/>
            <a:ext cx="7598160" cy="44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standing is critical for characterizing 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PM levels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914400" y="1919160"/>
            <a:ext cx="7305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vestigat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rographic ventilation and recirculation of pollution in the atmospheric boundary laye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ter-regional transpor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fshore recirculation and marine boundary layer phenomen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onger-range transpor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9"/>
          <p:cNvSpPr/>
          <p:nvPr/>
        </p:nvSpPr>
        <p:spPr>
          <a:xfrm>
            <a:off x="50760" y="1052640"/>
            <a:ext cx="72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port of emissions into, within, and out of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port and Meteor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130040" y="501480"/>
            <a:ext cx="7598160" cy="44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standing is critical for characterizing 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PM levels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13" descr=""/>
          <p:cNvPicPr/>
          <p:nvPr/>
        </p:nvPicPr>
        <p:blipFill>
          <a:blip r:embed="rId3"/>
          <a:srcRect l="868" t="2028" r="6941" b="607"/>
          <a:stretch/>
        </p:blipFill>
        <p:spPr>
          <a:xfrm>
            <a:off x="46080" y="1754280"/>
            <a:ext cx="452592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8" name="Rectangle 39"/>
          <p:cNvSpPr/>
          <p:nvPr/>
        </p:nvSpPr>
        <p:spPr>
          <a:xfrm>
            <a:off x="123480" y="6265800"/>
            <a:ext cx="4382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ley et al., JGR, 113, 10.1029/2007JG000625,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9"/>
          <p:cNvSpPr/>
          <p:nvPr/>
        </p:nvSpPr>
        <p:spPr>
          <a:xfrm>
            <a:off x="2341800" y="1763640"/>
            <a:ext cx="1985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ymbo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ymbol"/>
              </a:rPr>
              <a:t>C in annual grass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23"/>
          <p:cNvGrpSpPr/>
          <p:nvPr/>
        </p:nvGrpSpPr>
        <p:grpSpPr>
          <a:xfrm>
            <a:off x="4725360" y="1504800"/>
            <a:ext cx="4228200" cy="4348440"/>
            <a:chOff x="4725360" y="1504800"/>
            <a:chExt cx="4228200" cy="4348440"/>
          </a:xfrm>
        </p:grpSpPr>
        <p:pic>
          <p:nvPicPr>
            <p:cNvPr id="381" name="Picture 16" descr="Layout0.png"/>
            <p:cNvPicPr/>
            <p:nvPr/>
          </p:nvPicPr>
          <p:blipFill>
            <a:blip r:embed="rId4"/>
            <a:srcRect l="10992" t="2666" r="6107" b="10666"/>
            <a:stretch/>
          </p:blipFill>
          <p:spPr>
            <a:xfrm>
              <a:off x="4725360" y="1803960"/>
              <a:ext cx="422820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9"/>
            <p:cNvSpPr/>
            <p:nvPr/>
          </p:nvSpPr>
          <p:spPr>
            <a:xfrm>
              <a:off x="4730760" y="1504800"/>
              <a:ext cx="4187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r average of maximum daily max 8-hr av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39"/>
            <p:cNvSpPr/>
            <p:nvPr/>
          </p:nvSpPr>
          <p:spPr>
            <a:xfrm>
              <a:off x="7776360" y="1841040"/>
              <a:ext cx="114984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5-200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Rectangle 16"/>
          <p:cNvSpPr/>
          <p:nvPr/>
        </p:nvSpPr>
        <p:spPr>
          <a:xfrm>
            <a:off x="2286000" y="5807160"/>
            <a:ext cx="62578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Investigate transport mechanisms so that we can understand differences in observed patterns of anthropogenic emissions and ozon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9"/>
          <p:cNvSpPr/>
          <p:nvPr/>
        </p:nvSpPr>
        <p:spPr>
          <a:xfrm>
            <a:off x="50760" y="1052640"/>
            <a:ext cx="72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port of emissions into, within, and out of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2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port and Meteor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33"/>
          <p:cNvSpPr/>
          <p:nvPr/>
        </p:nvSpPr>
        <p:spPr>
          <a:xfrm>
            <a:off x="1130040" y="501480"/>
            <a:ext cx="7598160" cy="44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standing is critical for characterizing 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PM levels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344760" y="5862600"/>
            <a:ext cx="54993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Investigate export of California emissions to test reality of such modelin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" descr="Slide2"/>
          <p:cNvPicPr/>
          <p:nvPr/>
        </p:nvPicPr>
        <p:blipFill>
          <a:blip r:embed="rId3"/>
          <a:srcRect l="4001" t="14669" r="36006" b="13335"/>
          <a:stretch/>
        </p:blipFill>
        <p:spPr>
          <a:xfrm>
            <a:off x="369720" y="1930320"/>
            <a:ext cx="3880080" cy="34466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9"/>
          <p:cNvSpPr/>
          <p:nvPr/>
        </p:nvSpPr>
        <p:spPr>
          <a:xfrm>
            <a:off x="211320" y="1549440"/>
            <a:ext cx="422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yr average of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ighest daily max 8-hr av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9"/>
          <p:cNvSpPr/>
          <p:nvPr/>
        </p:nvSpPr>
        <p:spPr>
          <a:xfrm>
            <a:off x="210600" y="5543640"/>
            <a:ext cx="2271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 Moore, WRAP, 2008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9"/>
          <p:cNvSpPr/>
          <p:nvPr/>
        </p:nvSpPr>
        <p:spPr>
          <a:xfrm>
            <a:off x="2522160" y="1895400"/>
            <a:ext cx="1149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-20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25"/>
          <p:cNvGrpSpPr/>
          <p:nvPr/>
        </p:nvGrpSpPr>
        <p:grpSpPr>
          <a:xfrm>
            <a:off x="4280040" y="1536840"/>
            <a:ext cx="4728960" cy="3943080"/>
            <a:chOff x="4280040" y="1536840"/>
            <a:chExt cx="4728960" cy="3943080"/>
          </a:xfrm>
        </p:grpSpPr>
        <p:pic>
          <p:nvPicPr>
            <p:cNvPr id="396" name="Picture 19" descr=""/>
            <p:cNvPicPr/>
            <p:nvPr/>
          </p:nvPicPr>
          <p:blipFill>
            <a:blip r:embed="rId4"/>
            <a:srcRect l="9351" t="7774" r="40523" b="31094"/>
            <a:stretch/>
          </p:blipFill>
          <p:spPr>
            <a:xfrm>
              <a:off x="4280040" y="1990080"/>
              <a:ext cx="3567240" cy="348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20"/>
            <p:cNvSpPr/>
            <p:nvPr/>
          </p:nvSpPr>
          <p:spPr>
            <a:xfrm>
              <a:off x="4572720" y="1536840"/>
              <a:ext cx="29919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RAP 2018 regional modelin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Picture 19" descr=""/>
            <p:cNvPicPr/>
            <p:nvPr/>
          </p:nvPicPr>
          <p:blipFill>
            <a:blip r:embed="rId5"/>
            <a:srcRect l="73259" t="1943" r="12469" b="48585"/>
            <a:stretch/>
          </p:blipFill>
          <p:spPr>
            <a:xfrm>
              <a:off x="7826040" y="2072520"/>
              <a:ext cx="1182960" cy="3287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2"/>
          <p:cNvSpPr/>
          <p:nvPr/>
        </p:nvSpPr>
        <p:spPr>
          <a:xfrm>
            <a:off x="1322280" y="0"/>
            <a:ext cx="707076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erosol Properties and Radiative Effec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33"/>
          <p:cNvSpPr/>
          <p:nvPr/>
        </p:nvSpPr>
        <p:spPr>
          <a:xfrm>
            <a:off x="1475640" y="501480"/>
            <a:ext cx="66560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m to reduce uncertainty of aerosol radiative forc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914400" y="242892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vestigat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rect radiative effec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erosol-cloud interactions (Indirect effec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7"/>
          <p:cNvSpPr/>
          <p:nvPr/>
        </p:nvSpPr>
        <p:spPr>
          <a:xfrm>
            <a:off x="0" y="1004760"/>
            <a:ext cx="60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s Angeles plume advected into offshore stratus deck provides excellent laboratory to study aerosol indirect effect on climat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20" descr="GW_VS_SW"/>
          <p:cNvPicPr/>
          <p:nvPr/>
        </p:nvPicPr>
        <p:blipFill>
          <a:blip r:embed="rId3"/>
          <a:srcRect l="0" t="0" r="40697" b="7200"/>
          <a:stretch/>
        </p:blipFill>
        <p:spPr>
          <a:xfrm>
            <a:off x="236520" y="2149560"/>
            <a:ext cx="4046400" cy="330336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22"/>
          <p:cNvGrpSpPr/>
          <p:nvPr/>
        </p:nvGrpSpPr>
        <p:grpSpPr>
          <a:xfrm>
            <a:off x="4564080" y="4083120"/>
            <a:ext cx="4572000" cy="2727360"/>
            <a:chOff x="4564080" y="4083120"/>
            <a:chExt cx="4572000" cy="2727360"/>
          </a:xfrm>
        </p:grpSpPr>
        <p:pic>
          <p:nvPicPr>
            <p:cNvPr id="409" name="Picture 23" descr=""/>
            <p:cNvPicPr/>
            <p:nvPr/>
          </p:nvPicPr>
          <p:blipFill>
            <a:blip r:embed="rId4"/>
            <a:srcRect l="36445" t="38358" r="8866" b="20825"/>
            <a:stretch/>
          </p:blipFill>
          <p:spPr>
            <a:xfrm>
              <a:off x="5240160" y="4160880"/>
              <a:ext cx="3895920" cy="261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24" descr=""/>
            <p:cNvPicPr/>
            <p:nvPr/>
          </p:nvPicPr>
          <p:blipFill>
            <a:blip r:embed="rId5"/>
            <a:srcRect l="3940" t="38358" r="87663" b="20277"/>
            <a:stretch/>
          </p:blipFill>
          <p:spPr>
            <a:xfrm>
              <a:off x="4659480" y="4162680"/>
              <a:ext cx="59832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Line 25"/>
            <p:cNvSpPr/>
            <p:nvPr/>
          </p:nvSpPr>
          <p:spPr>
            <a:xfrm>
              <a:off x="5222880" y="4205520"/>
              <a:ext cx="38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6"/>
            <p:cNvSpPr/>
            <p:nvPr/>
          </p:nvSpPr>
          <p:spPr>
            <a:xfrm>
              <a:off x="4564080" y="4121280"/>
              <a:ext cx="282600" cy="10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7"/>
            <p:cNvSpPr/>
            <p:nvPr/>
          </p:nvSpPr>
          <p:spPr>
            <a:xfrm flipV="1">
              <a:off x="5184720" y="4083120"/>
              <a:ext cx="394164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4" name="Picture 21" descr=""/>
          <p:cNvPicPr/>
          <p:nvPr/>
        </p:nvPicPr>
        <p:blipFill>
          <a:blip r:embed="rId6"/>
          <a:srcRect l="18754" t="24733" r="33393" b="27482"/>
          <a:stretch/>
        </p:blipFill>
        <p:spPr>
          <a:xfrm>
            <a:off x="5943600" y="1066680"/>
            <a:ext cx="3067200" cy="30574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28"/>
          <p:cNvSpPr/>
          <p:nvPr/>
        </p:nvSpPr>
        <p:spPr>
          <a:xfrm rot="16200000">
            <a:off x="4041720" y="532260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itude (km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9"/>
          <p:cNvSpPr/>
          <p:nvPr/>
        </p:nvSpPr>
        <p:spPr>
          <a:xfrm flipH="1">
            <a:off x="5285880" y="3500280"/>
            <a:ext cx="1760760" cy="32353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0"/>
          <p:cNvSpPr/>
          <p:nvPr/>
        </p:nvSpPr>
        <p:spPr>
          <a:xfrm flipH="1">
            <a:off x="7197480" y="3510000"/>
            <a:ext cx="1778040" cy="323676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1"/>
          <p:cNvSpPr/>
          <p:nvPr/>
        </p:nvSpPr>
        <p:spPr>
          <a:xfrm>
            <a:off x="5628600" y="43005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PART transport mod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2"/>
          <p:cNvSpPr/>
          <p:nvPr/>
        </p:nvSpPr>
        <p:spPr>
          <a:xfrm>
            <a:off x="230400" y="478296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ES Visib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June 200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2"/>
          <p:cNvSpPr/>
          <p:nvPr/>
        </p:nvSpPr>
        <p:spPr>
          <a:xfrm>
            <a:off x="1322280" y="0"/>
            <a:ext cx="707076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erosol Properties and Radiative Effec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3"/>
          <p:cNvSpPr/>
          <p:nvPr/>
        </p:nvSpPr>
        <p:spPr>
          <a:xfrm>
            <a:off x="1475640" y="501480"/>
            <a:ext cx="66560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m to reduce uncertainty of aerosol radiative forc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31920" y="1962000"/>
            <a:ext cx="38606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7ea"/>
                </a:solidFill>
                <a:latin typeface="Arial Narrow"/>
              </a:rPr>
              <a:t>toda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 to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CalNex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 to NOAA’s interests and platfor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oal of this mee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ience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91520" y="49482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7ea"/>
                </a:solidFill>
                <a:latin typeface="Arial"/>
              </a:rPr>
              <a:t>Why CalNex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79200" y="5719680"/>
            <a:ext cx="4054680" cy="9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010 CalNex mobile platform/remote sensing planning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nuary 5-6, 2009, Boulder, C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brown"/>
          <p:cNvPicPr/>
          <p:nvPr/>
        </p:nvPicPr>
        <p:blipFill>
          <a:blip r:embed="rId1"/>
          <a:srcRect l="10002" t="0" r="2000" b="0"/>
          <a:stretch/>
        </p:blipFill>
        <p:spPr>
          <a:xfrm>
            <a:off x="4394160" y="2395440"/>
            <a:ext cx="4749840" cy="4051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2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NOAA"/>
          <p:cNvPicPr/>
          <p:nvPr/>
        </p:nvPicPr>
        <p:blipFill>
          <a:blip r:embed="rId3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7"/>
          <p:cNvSpPr/>
          <p:nvPr/>
        </p:nvSpPr>
        <p:spPr>
          <a:xfrm>
            <a:off x="0" y="1004760"/>
            <a:ext cx="60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s Angeles plume advected into offshore stratus deck provides excellent laboratory to study aerosol indirect effect on climat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20" descr="GW_VS_SW"/>
          <p:cNvPicPr/>
          <p:nvPr/>
        </p:nvPicPr>
        <p:blipFill>
          <a:blip r:embed="rId4"/>
          <a:srcRect l="0" t="0" r="40697" b="7200"/>
          <a:stretch/>
        </p:blipFill>
        <p:spPr>
          <a:xfrm>
            <a:off x="236520" y="2149560"/>
            <a:ext cx="4046400" cy="33033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2"/>
          <p:cNvSpPr/>
          <p:nvPr/>
        </p:nvSpPr>
        <p:spPr>
          <a:xfrm>
            <a:off x="230400" y="478296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ES Visib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June 200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2"/>
          <p:cNvSpPr/>
          <p:nvPr/>
        </p:nvSpPr>
        <p:spPr>
          <a:xfrm>
            <a:off x="1322280" y="0"/>
            <a:ext cx="707076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erosol Properties and Radiative Effec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475640" y="501480"/>
            <a:ext cx="66560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m to reduce uncertainty of aerosol radiative forc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144360" y="5648400"/>
            <a:ext cx="42274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Contrast aerosol-cloud inter-actions with VOCALS results.  Urban emission plume vs. smel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1059840" y="19512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7ea"/>
                </a:solidFill>
                <a:latin typeface="Arial"/>
              </a:rPr>
              <a:t>Why CalNex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21"/>
          <p:cNvSpPr/>
          <p:nvPr/>
        </p:nvSpPr>
        <p:spPr>
          <a:xfrm>
            <a:off x="79200" y="5719680"/>
            <a:ext cx="4054680" cy="9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010 CalNex mobile platform/remote sensing planning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nuary 5-6, 2009, Boulder, C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9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4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138240" y="3013200"/>
            <a:ext cx="443376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oal of this mee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egin process of planning how to most effectively investigate the science issues collected in this docu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"/>
          <p:cNvSpPr/>
          <p:nvPr/>
        </p:nvSpPr>
        <p:spPr>
          <a:xfrm>
            <a:off x="612720" y="2165400"/>
            <a:ext cx="317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1)  Management and Mitigation Strategies for these 2 issues are strongly link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614520" y="3565440"/>
            <a:ext cx="311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2)  Sources and Processes for these 2 issues are the same (nearly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137240" y="509580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7ea"/>
                </a:solidFill>
                <a:latin typeface="Arial"/>
              </a:rPr>
              <a:t>Why Californi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8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109440" y="1860480"/>
            <a:ext cx="3911760" cy="3502440"/>
            <a:chOff x="109440" y="1860480"/>
            <a:chExt cx="3911760" cy="3502440"/>
          </a:xfrm>
        </p:grpSpPr>
        <p:sp>
          <p:nvSpPr>
            <p:cNvPr id="66" name="Text Box 8"/>
            <p:cNvSpPr/>
            <p:nvPr/>
          </p:nvSpPr>
          <p:spPr>
            <a:xfrm>
              <a:off x="128520" y="3170160"/>
              <a:ext cx="3848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0067ea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7ea"/>
                  </a:solidFill>
                  <a:latin typeface="Arial"/>
                </a:rPr>
                <a:t>California has recently taken the lead in beginning to address Climate Change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9"/>
            <p:cNvSpPr/>
            <p:nvPr/>
          </p:nvSpPr>
          <p:spPr>
            <a:xfrm>
              <a:off x="122040" y="2265120"/>
              <a:ext cx="3721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0067ea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7ea"/>
                  </a:solidFill>
                  <a:latin typeface="Arial"/>
                </a:rPr>
                <a:t>California has traditionally led the nation in addressing Air Quality issues. 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131760" y="4171680"/>
              <a:ext cx="388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0067ea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7ea"/>
                  </a:solidFill>
                  <a:latin typeface="Arial"/>
                </a:rPr>
                <a:t>NOAA is developing a new research initiative addressing Air Quality and Climate Change linkages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109440" y="1860480"/>
              <a:ext cx="210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67ea"/>
                  </a:solidFill>
                  <a:uFillTx/>
                  <a:latin typeface="Arial"/>
                </a:rPr>
                <a:t>Study Rational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Rectangle 12"/>
          <p:cNvSpPr/>
          <p:nvPr/>
        </p:nvSpPr>
        <p:spPr>
          <a:xfrm>
            <a:off x="137880" y="5459400"/>
            <a:ext cx="393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CalNex addresses NOAA’s 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California’s Science Interes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267120" y="626112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What are NOAA’s interest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2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0" y="0"/>
            <a:ext cx="9144000" cy="1389240"/>
            <a:chOff x="0" y="0"/>
            <a:chExt cx="9144000" cy="1389240"/>
          </a:xfrm>
        </p:grpSpPr>
        <p:pic>
          <p:nvPicPr>
            <p:cNvPr id="76" name="Picture 3" descr=""/>
            <p:cNvPicPr/>
            <p:nvPr/>
          </p:nvPicPr>
          <p:blipFill>
            <a:blip r:embed="rId1"/>
            <a:srcRect l="0" t="6240" r="0" b="47850"/>
            <a:stretch/>
          </p:blipFill>
          <p:spPr>
            <a:xfrm>
              <a:off x="0" y="0"/>
              <a:ext cx="914400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NOAA"/>
            <p:cNvPicPr/>
            <p:nvPr/>
          </p:nvPicPr>
          <p:blipFill>
            <a:blip r:embed="rId2"/>
            <a:stretch/>
          </p:blipFill>
          <p:spPr>
            <a:xfrm>
              <a:off x="281160" y="272880"/>
              <a:ext cx="82368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ext Box 5"/>
          <p:cNvSpPr/>
          <p:nvPr/>
        </p:nvSpPr>
        <p:spPr>
          <a:xfrm>
            <a:off x="571680" y="2602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AA/ESRL Regional Intens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emically and Meteorologically Diver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175520" cy="4722840"/>
          </a:xfrm>
          <a:prstGeom prst="rect">
            <a:avLst/>
          </a:prstGeom>
          <a:ln w="0">
            <a:noFill/>
          </a:ln>
        </p:spPr>
      </p:pic>
      <p:sp>
        <p:nvSpPr>
          <p:cNvPr id="80" name="Oval 7"/>
          <p:cNvSpPr/>
          <p:nvPr/>
        </p:nvSpPr>
        <p:spPr>
          <a:xfrm>
            <a:off x="4248000" y="4459320"/>
            <a:ext cx="789120" cy="1008000"/>
          </a:xfrm>
          <a:prstGeom prst="ellipse">
            <a:avLst/>
          </a:prstGeom>
          <a:solidFill>
            <a:srgbClr val="bbe0e3">
              <a:alpha val="50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 rot="342000">
            <a:off x="5114520" y="3655800"/>
            <a:ext cx="1636920" cy="1296720"/>
          </a:xfrm>
          <a:prstGeom prst="ellipse">
            <a:avLst/>
          </a:prstGeom>
          <a:solidFill>
            <a:srgbClr val="bbe0e3">
              <a:alpha val="60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 rot="1140000">
            <a:off x="6860880" y="1765080"/>
            <a:ext cx="1239840" cy="1887480"/>
          </a:xfrm>
          <a:prstGeom prst="ellipse">
            <a:avLst/>
          </a:prstGeom>
          <a:solidFill>
            <a:srgbClr val="bbe0e3">
              <a:alpha val="51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54160" y="4503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iforni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454640" y="5450040"/>
            <a:ext cx="1512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st Texa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000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00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500880" y="4449600"/>
            <a:ext cx="1579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thea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995, 199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688160" y="3200400"/>
            <a:ext cx="14558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w Engl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993, 2002, 2004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00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4"/>
          <p:cNvSpPr/>
          <p:nvPr/>
        </p:nvSpPr>
        <p:spPr>
          <a:xfrm rot="20628000">
            <a:off x="765000" y="2746440"/>
            <a:ext cx="792360" cy="1752480"/>
          </a:xfrm>
          <a:prstGeom prst="ellipse">
            <a:avLst/>
          </a:prstGeom>
          <a:solidFill>
            <a:srgbClr val="bbe0e3">
              <a:alpha val="51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723960" y="32004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CT 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852480" y="36482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COS 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5079960" y="5899320"/>
            <a:ext cx="34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7ea"/>
                </a:solidFill>
                <a:latin typeface="Arial"/>
              </a:rPr>
              <a:t>What will NOAA contribute to CalNex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395280" y="5149800"/>
            <a:ext cx="28144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Air Quality and Climate Change Issues through a Series of Regional Intensiv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112160" y="255096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A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513400" y="414972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30720" y="4797360"/>
            <a:ext cx="8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A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4000" cy="1389240"/>
            <a:chOff x="0" y="0"/>
            <a:chExt cx="9144000" cy="1389240"/>
          </a:xfrm>
        </p:grpSpPr>
        <p:pic>
          <p:nvPicPr>
            <p:cNvPr id="96" name="Picture 3" descr=""/>
            <p:cNvPicPr/>
            <p:nvPr/>
          </p:nvPicPr>
          <p:blipFill>
            <a:blip r:embed="rId1"/>
            <a:srcRect l="0" t="6240" r="0" b="47850"/>
            <a:stretch/>
          </p:blipFill>
          <p:spPr>
            <a:xfrm>
              <a:off x="0" y="0"/>
              <a:ext cx="914400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NOAA"/>
            <p:cNvPicPr/>
            <p:nvPr/>
          </p:nvPicPr>
          <p:blipFill>
            <a:blip r:embed="rId2"/>
            <a:stretch/>
          </p:blipFill>
          <p:spPr>
            <a:xfrm>
              <a:off x="281160" y="272880"/>
              <a:ext cx="82368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5"/>
          <p:cNvSpPr/>
          <p:nvPr/>
        </p:nvSpPr>
        <p:spPr>
          <a:xfrm>
            <a:off x="1116000" y="53352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7ea"/>
                </a:solidFill>
                <a:latin typeface="Arial"/>
              </a:rPr>
              <a:t>NOAA’s Asse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3"/>
          <a:srcRect l="0" t="24504" r="0" b="12252"/>
          <a:stretch/>
        </p:blipFill>
        <p:spPr>
          <a:xfrm>
            <a:off x="4294080" y="1622520"/>
            <a:ext cx="4694400" cy="198108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6908760" y="1693800"/>
            <a:ext cx="190188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 WP-3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P7250015"/>
          <p:cNvPicPr/>
          <p:nvPr/>
        </p:nvPicPr>
        <p:blipFill>
          <a:blip r:embed="rId4"/>
          <a:srcRect l="0" t="12000" r="0" b="24000"/>
          <a:stretch/>
        </p:blipFill>
        <p:spPr>
          <a:xfrm>
            <a:off x="114480" y="2987640"/>
            <a:ext cx="4555800" cy="218772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sp>
        <p:nvSpPr>
          <p:cNvPr id="102" name="Text Box 10"/>
          <p:cNvSpPr/>
          <p:nvPr/>
        </p:nvSpPr>
        <p:spPr>
          <a:xfrm>
            <a:off x="474840" y="4863960"/>
            <a:ext cx="359388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 R/V Ronald H. Brow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4"/>
          <p:cNvSpPr/>
          <p:nvPr/>
        </p:nvSpPr>
        <p:spPr>
          <a:xfrm>
            <a:off x="8439120" y="5097600"/>
            <a:ext cx="4680" cy="220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5"/>
          <p:cNvSpPr/>
          <p:nvPr/>
        </p:nvSpPr>
        <p:spPr>
          <a:xfrm>
            <a:off x="8404200" y="5079960"/>
            <a:ext cx="4680" cy="219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7"/>
          <p:cNvSpPr/>
          <p:nvPr/>
        </p:nvSpPr>
        <p:spPr>
          <a:xfrm>
            <a:off x="8480520" y="5338800"/>
            <a:ext cx="61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37"/>
          <p:cNvSpPr/>
          <p:nvPr/>
        </p:nvSpPr>
        <p:spPr>
          <a:xfrm>
            <a:off x="8529480" y="5337000"/>
            <a:ext cx="648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43"/>
          <p:cNvGrpSpPr/>
          <p:nvPr/>
        </p:nvGrpSpPr>
        <p:grpSpPr>
          <a:xfrm>
            <a:off x="4734000" y="4379760"/>
            <a:ext cx="4290480" cy="2322360"/>
            <a:chOff x="4734000" y="4379760"/>
            <a:chExt cx="4290480" cy="2322360"/>
          </a:xfrm>
        </p:grpSpPr>
        <p:sp>
          <p:nvSpPr>
            <p:cNvPr id="108" name="Rectangle 38"/>
            <p:cNvSpPr/>
            <p:nvPr/>
          </p:nvSpPr>
          <p:spPr>
            <a:xfrm>
              <a:off x="4734000" y="4379760"/>
              <a:ext cx="4290480" cy="232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70"/>
            <p:cNvSpPr/>
            <p:nvPr/>
          </p:nvSpPr>
          <p:spPr>
            <a:xfrm>
              <a:off x="8258760" y="6218640"/>
              <a:ext cx="83520" cy="400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71"/>
            <p:cNvSpPr/>
            <p:nvPr/>
          </p:nvSpPr>
          <p:spPr>
            <a:xfrm>
              <a:off x="8244000" y="6216840"/>
              <a:ext cx="27720" cy="40212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8247960" y="6188400"/>
              <a:ext cx="22320" cy="3852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8270280" y="6188400"/>
              <a:ext cx="72360" cy="60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74"/>
            <p:cNvSpPr/>
            <p:nvPr/>
          </p:nvSpPr>
          <p:spPr>
            <a:xfrm>
              <a:off x="8104680" y="6056280"/>
              <a:ext cx="7560" cy="40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75"/>
            <p:cNvSpPr/>
            <p:nvPr/>
          </p:nvSpPr>
          <p:spPr>
            <a:xfrm>
              <a:off x="8085960" y="6090840"/>
              <a:ext cx="40680" cy="24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8125200" y="6090840"/>
              <a:ext cx="16200" cy="140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8182800" y="6106680"/>
              <a:ext cx="38880" cy="4284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8162280" y="6094800"/>
              <a:ext cx="90720" cy="5220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8004240" y="6094800"/>
              <a:ext cx="172440" cy="522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80"/>
            <p:cNvSpPr/>
            <p:nvPr/>
          </p:nvSpPr>
          <p:spPr>
            <a:xfrm>
              <a:off x="7863120" y="6460560"/>
              <a:ext cx="44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1"/>
            <p:cNvSpPr/>
            <p:nvPr/>
          </p:nvSpPr>
          <p:spPr>
            <a:xfrm>
              <a:off x="7863120" y="6472800"/>
              <a:ext cx="44172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82"/>
            <p:cNvSpPr/>
            <p:nvPr/>
          </p:nvSpPr>
          <p:spPr>
            <a:xfrm>
              <a:off x="7863120" y="6495120"/>
              <a:ext cx="44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3"/>
            <p:cNvSpPr/>
            <p:nvPr/>
          </p:nvSpPr>
          <p:spPr>
            <a:xfrm>
              <a:off x="7863120" y="6485040"/>
              <a:ext cx="44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86"/>
            <p:cNvSpPr/>
            <p:nvPr/>
          </p:nvSpPr>
          <p:spPr>
            <a:xfrm>
              <a:off x="8225640" y="6137640"/>
              <a:ext cx="6840" cy="282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7"/>
            <p:cNvSpPr/>
            <p:nvPr/>
          </p:nvSpPr>
          <p:spPr>
            <a:xfrm>
              <a:off x="8212680" y="6131160"/>
              <a:ext cx="9000" cy="28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88"/>
            <p:cNvSpPr/>
            <p:nvPr/>
          </p:nvSpPr>
          <p:spPr>
            <a:xfrm>
              <a:off x="8186400" y="6116760"/>
              <a:ext cx="7560" cy="282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8017560" y="6094800"/>
              <a:ext cx="159480" cy="3636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8002800" y="6387480"/>
              <a:ext cx="174240" cy="3456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8129160" y="6116760"/>
              <a:ext cx="20160" cy="30492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8104680" y="6119280"/>
              <a:ext cx="20520" cy="30276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8075160" y="6121080"/>
              <a:ext cx="23760" cy="30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8048880" y="6125400"/>
              <a:ext cx="22320" cy="2966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8022960" y="6127560"/>
              <a:ext cx="23760" cy="29412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96"/>
            <p:cNvSpPr/>
            <p:nvPr/>
          </p:nvSpPr>
          <p:spPr>
            <a:xfrm>
              <a:off x="8281080" y="6446520"/>
              <a:ext cx="37080" cy="172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98"/>
            <p:cNvSpPr/>
            <p:nvPr/>
          </p:nvSpPr>
          <p:spPr>
            <a:xfrm>
              <a:off x="8301960" y="6456600"/>
              <a:ext cx="6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99"/>
            <p:cNvSpPr/>
            <p:nvPr/>
          </p:nvSpPr>
          <p:spPr>
            <a:xfrm>
              <a:off x="8255160" y="6466680"/>
              <a:ext cx="85320" cy="180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00"/>
            <p:cNvSpPr/>
            <p:nvPr/>
          </p:nvSpPr>
          <p:spPr>
            <a:xfrm>
              <a:off x="8257320" y="6478560"/>
              <a:ext cx="85320" cy="216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1"/>
            <p:cNvSpPr/>
            <p:nvPr/>
          </p:nvSpPr>
          <p:spPr>
            <a:xfrm>
              <a:off x="8255160" y="6491160"/>
              <a:ext cx="87480" cy="180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2"/>
            <p:cNvSpPr/>
            <p:nvPr/>
          </p:nvSpPr>
          <p:spPr>
            <a:xfrm>
              <a:off x="8257320" y="6503040"/>
              <a:ext cx="85320" cy="216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03"/>
            <p:cNvSpPr/>
            <p:nvPr/>
          </p:nvSpPr>
          <p:spPr>
            <a:xfrm>
              <a:off x="8513280" y="6381360"/>
              <a:ext cx="44640" cy="23760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04"/>
            <p:cNvSpPr/>
            <p:nvPr/>
          </p:nvSpPr>
          <p:spPr>
            <a:xfrm>
              <a:off x="8440920" y="6361200"/>
              <a:ext cx="90720" cy="25560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05"/>
            <p:cNvSpPr/>
            <p:nvPr/>
          </p:nvSpPr>
          <p:spPr>
            <a:xfrm>
              <a:off x="8528760" y="6359040"/>
              <a:ext cx="29160" cy="42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06"/>
            <p:cNvSpPr/>
            <p:nvPr/>
          </p:nvSpPr>
          <p:spPr>
            <a:xfrm>
              <a:off x="8448480" y="6391440"/>
              <a:ext cx="10800" cy="10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07"/>
            <p:cNvSpPr/>
            <p:nvPr/>
          </p:nvSpPr>
          <p:spPr>
            <a:xfrm>
              <a:off x="8506440" y="6393600"/>
              <a:ext cx="9000" cy="10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08"/>
            <p:cNvSpPr/>
            <p:nvPr/>
          </p:nvSpPr>
          <p:spPr>
            <a:xfrm>
              <a:off x="8363160" y="6409440"/>
              <a:ext cx="241200" cy="216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09"/>
            <p:cNvSpPr/>
            <p:nvPr/>
          </p:nvSpPr>
          <p:spPr>
            <a:xfrm>
              <a:off x="8370720" y="6432120"/>
              <a:ext cx="2264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10"/>
            <p:cNvSpPr/>
            <p:nvPr/>
          </p:nvSpPr>
          <p:spPr>
            <a:xfrm>
              <a:off x="8368560" y="6456600"/>
              <a:ext cx="22860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11"/>
            <p:cNvSpPr/>
            <p:nvPr/>
          </p:nvSpPr>
          <p:spPr>
            <a:xfrm>
              <a:off x="8372160" y="6476760"/>
              <a:ext cx="2228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8883360" y="6324480"/>
              <a:ext cx="31320" cy="324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13"/>
            <p:cNvSpPr/>
            <p:nvPr/>
          </p:nvSpPr>
          <p:spPr>
            <a:xfrm>
              <a:off x="8872200" y="6324480"/>
              <a:ext cx="16560" cy="3456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14"/>
            <p:cNvSpPr/>
            <p:nvPr/>
          </p:nvSpPr>
          <p:spPr>
            <a:xfrm>
              <a:off x="8840520" y="6346800"/>
              <a:ext cx="57600" cy="270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15"/>
            <p:cNvSpPr/>
            <p:nvPr/>
          </p:nvSpPr>
          <p:spPr>
            <a:xfrm>
              <a:off x="8896320" y="6346800"/>
              <a:ext cx="38520" cy="2700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16"/>
            <p:cNvSpPr/>
            <p:nvPr/>
          </p:nvSpPr>
          <p:spPr>
            <a:xfrm>
              <a:off x="8849880" y="6363000"/>
              <a:ext cx="9360" cy="13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17"/>
            <p:cNvSpPr/>
            <p:nvPr/>
          </p:nvSpPr>
          <p:spPr>
            <a:xfrm>
              <a:off x="8862840" y="6363000"/>
              <a:ext cx="9000" cy="13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8"/>
            <p:cNvSpPr/>
            <p:nvPr/>
          </p:nvSpPr>
          <p:spPr>
            <a:xfrm>
              <a:off x="8877960" y="6363000"/>
              <a:ext cx="9000" cy="13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9"/>
            <p:cNvSpPr/>
            <p:nvPr/>
          </p:nvSpPr>
          <p:spPr>
            <a:xfrm>
              <a:off x="8790120" y="6385680"/>
              <a:ext cx="15228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0"/>
            <p:cNvSpPr/>
            <p:nvPr/>
          </p:nvSpPr>
          <p:spPr>
            <a:xfrm>
              <a:off x="8792280" y="6409440"/>
              <a:ext cx="151920" cy="216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21"/>
            <p:cNvSpPr/>
            <p:nvPr/>
          </p:nvSpPr>
          <p:spPr>
            <a:xfrm>
              <a:off x="8790120" y="6440400"/>
              <a:ext cx="1562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22"/>
            <p:cNvSpPr/>
            <p:nvPr/>
          </p:nvSpPr>
          <p:spPr>
            <a:xfrm>
              <a:off x="8798040" y="6464880"/>
              <a:ext cx="13932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23"/>
            <p:cNvSpPr/>
            <p:nvPr/>
          </p:nvSpPr>
          <p:spPr>
            <a:xfrm>
              <a:off x="8760960" y="6417720"/>
              <a:ext cx="53640" cy="2012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24"/>
            <p:cNvSpPr/>
            <p:nvPr/>
          </p:nvSpPr>
          <p:spPr>
            <a:xfrm>
              <a:off x="8812800" y="6417720"/>
              <a:ext cx="37080" cy="1990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25"/>
            <p:cNvSpPr/>
            <p:nvPr/>
          </p:nvSpPr>
          <p:spPr>
            <a:xfrm>
              <a:off x="8729280" y="6168240"/>
              <a:ext cx="35280" cy="4510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26"/>
            <p:cNvSpPr/>
            <p:nvPr/>
          </p:nvSpPr>
          <p:spPr>
            <a:xfrm>
              <a:off x="8588160" y="6168240"/>
              <a:ext cx="146520" cy="451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27"/>
            <p:cNvSpPr/>
            <p:nvPr/>
          </p:nvSpPr>
          <p:spPr>
            <a:xfrm>
              <a:off x="8703000" y="6170040"/>
              <a:ext cx="9000" cy="4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28"/>
            <p:cNvSpPr/>
            <p:nvPr/>
          </p:nvSpPr>
          <p:spPr>
            <a:xfrm>
              <a:off x="8675280" y="6172200"/>
              <a:ext cx="900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9"/>
            <p:cNvSpPr/>
            <p:nvPr/>
          </p:nvSpPr>
          <p:spPr>
            <a:xfrm>
              <a:off x="8651160" y="6175800"/>
              <a:ext cx="9000" cy="44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30"/>
            <p:cNvSpPr/>
            <p:nvPr/>
          </p:nvSpPr>
          <p:spPr>
            <a:xfrm>
              <a:off x="8623080" y="6178320"/>
              <a:ext cx="11160" cy="43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31"/>
            <p:cNvSpPr/>
            <p:nvPr/>
          </p:nvSpPr>
          <p:spPr>
            <a:xfrm>
              <a:off x="8598960" y="6180120"/>
              <a:ext cx="9000" cy="43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32"/>
            <p:cNvSpPr/>
            <p:nvPr/>
          </p:nvSpPr>
          <p:spPr>
            <a:xfrm>
              <a:off x="8322120" y="6432120"/>
              <a:ext cx="72360" cy="18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33"/>
            <p:cNvSpPr/>
            <p:nvPr/>
          </p:nvSpPr>
          <p:spPr>
            <a:xfrm>
              <a:off x="8361360" y="6454440"/>
              <a:ext cx="6840" cy="6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34"/>
            <p:cNvSpPr/>
            <p:nvPr/>
          </p:nvSpPr>
          <p:spPr>
            <a:xfrm>
              <a:off x="8374320" y="6454440"/>
              <a:ext cx="6840" cy="6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35"/>
            <p:cNvSpPr/>
            <p:nvPr/>
          </p:nvSpPr>
          <p:spPr>
            <a:xfrm>
              <a:off x="8390880" y="6432120"/>
              <a:ext cx="50040" cy="1846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36"/>
            <p:cNvSpPr/>
            <p:nvPr/>
          </p:nvSpPr>
          <p:spPr>
            <a:xfrm>
              <a:off x="8331480" y="6454440"/>
              <a:ext cx="9000" cy="6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38"/>
            <p:cNvSpPr/>
            <p:nvPr/>
          </p:nvSpPr>
          <p:spPr>
            <a:xfrm>
              <a:off x="8258760" y="6464880"/>
              <a:ext cx="19116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39"/>
            <p:cNvSpPr/>
            <p:nvPr/>
          </p:nvSpPr>
          <p:spPr>
            <a:xfrm>
              <a:off x="8270280" y="6476760"/>
              <a:ext cx="1670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40"/>
            <p:cNvSpPr/>
            <p:nvPr/>
          </p:nvSpPr>
          <p:spPr>
            <a:xfrm>
              <a:off x="8258760" y="6491160"/>
              <a:ext cx="19692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41"/>
            <p:cNvSpPr/>
            <p:nvPr/>
          </p:nvSpPr>
          <p:spPr>
            <a:xfrm>
              <a:off x="8275680" y="6501240"/>
              <a:ext cx="1634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42"/>
            <p:cNvSpPr/>
            <p:nvPr/>
          </p:nvSpPr>
          <p:spPr>
            <a:xfrm>
              <a:off x="7948800" y="6527520"/>
              <a:ext cx="1060920" cy="166680"/>
            </a:xfrm>
            <a:prstGeom prst="pie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6205320" y="6056280"/>
            <a:ext cx="942120" cy="420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05320" y="6056280"/>
                      <a:ext cx="94212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6954480" y="6025680"/>
            <a:ext cx="997560" cy="40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54480" y="6025680"/>
                      <a:ext cx="99756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7266600" y="6318360"/>
            <a:ext cx="696960" cy="369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66600" y="6318360"/>
                      <a:ext cx="69696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4826520" y="6361200"/>
            <a:ext cx="972000" cy="326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26520" y="6361200"/>
                      <a:ext cx="97200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5789520" y="6106680"/>
            <a:ext cx="982440" cy="581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89520" y="6106680"/>
                      <a:ext cx="982440" cy="58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6488280" y="6316560"/>
            <a:ext cx="884520" cy="371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488280" y="6316560"/>
                      <a:ext cx="884520" cy="3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7950600" y="6320160"/>
            <a:ext cx="1059120" cy="367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950600" y="6320160"/>
                      <a:ext cx="1059120" cy="36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2" name="Picture 33" descr=""/>
            <p:cNvPicPr/>
            <p:nvPr/>
          </p:nvPicPr>
          <p:blipFill>
            <a:blip r:embed="rId19"/>
            <a:stretch/>
          </p:blipFill>
          <p:spPr>
            <a:xfrm flipH="1">
              <a:off x="4784040" y="4426560"/>
              <a:ext cx="2051280" cy="88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Group 34"/>
            <p:cNvGrpSpPr/>
            <p:nvPr/>
          </p:nvGrpSpPr>
          <p:grpSpPr>
            <a:xfrm>
              <a:off x="5677920" y="5131800"/>
              <a:ext cx="441720" cy="1369080"/>
              <a:chOff x="5677920" y="5131800"/>
              <a:chExt cx="441720" cy="1369080"/>
            </a:xfrm>
          </p:grpSpPr>
          <p:sp>
            <p:nvSpPr>
              <p:cNvPr id="194" name="Freeform 35"/>
              <p:cNvSpPr/>
              <p:nvPr/>
            </p:nvSpPr>
            <p:spPr>
              <a:xfrm>
                <a:off x="5677920" y="5131800"/>
                <a:ext cx="438480" cy="1296000"/>
              </a:xfrm>
              <a:prstGeom prst="pie">
                <a:avLst/>
              </a:prstGeom>
              <a:solidFill>
                <a:srgbClr val="ffff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36"/>
              <p:cNvSpPr/>
              <p:nvPr/>
            </p:nvSpPr>
            <p:spPr>
              <a:xfrm>
                <a:off x="5684760" y="6355080"/>
                <a:ext cx="434880" cy="145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39"/>
            <p:cNvGrpSpPr/>
            <p:nvPr/>
          </p:nvGrpSpPr>
          <p:grpSpPr>
            <a:xfrm>
              <a:off x="8247600" y="4521960"/>
              <a:ext cx="648360" cy="495360"/>
              <a:chOff x="8247600" y="4521960"/>
              <a:chExt cx="648360" cy="495360"/>
            </a:xfrm>
          </p:grpSpPr>
          <p:sp>
            <p:nvSpPr>
              <p:cNvPr id="197" name="Freeform 40"/>
              <p:cNvSpPr/>
              <p:nvPr/>
            </p:nvSpPr>
            <p:spPr>
              <a:xfrm flipH="1">
                <a:off x="8503200" y="4687920"/>
                <a:ext cx="209520" cy="221760"/>
              </a:xfrm>
              <a:prstGeom prst="pie">
                <a:avLst/>
              </a:pr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 flipH="1">
                <a:off x="8620560" y="4813920"/>
                <a:ext cx="936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 flipH="1">
                <a:off x="8491680" y="4703760"/>
                <a:ext cx="139680" cy="16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 flipH="1">
                <a:off x="8524800" y="4660560"/>
                <a:ext cx="4572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 flipH="1">
                <a:off x="8537400" y="4721040"/>
                <a:ext cx="3132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 flipH="1">
                <a:off x="8559360" y="4763520"/>
                <a:ext cx="255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 flipH="1">
                <a:off x="8579880" y="4797720"/>
                <a:ext cx="33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 flipH="1">
                <a:off x="8642880" y="4824000"/>
                <a:ext cx="1224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 flipH="1">
                <a:off x="8686440" y="4840200"/>
                <a:ext cx="828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 flipH="1">
                <a:off x="8772840" y="4811400"/>
                <a:ext cx="1116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 flipH="1">
                <a:off x="8730720" y="4833360"/>
                <a:ext cx="144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 flipH="1">
                <a:off x="8694720" y="4769280"/>
                <a:ext cx="8784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 flipH="1">
                <a:off x="8620560" y="4782960"/>
                <a:ext cx="71640" cy="3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 flipH="1">
                <a:off x="8331840" y="4538880"/>
                <a:ext cx="552600" cy="46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 flipH="1">
                <a:off x="8257320" y="4718880"/>
                <a:ext cx="335520" cy="28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 flipH="1">
                <a:off x="8283600" y="4870800"/>
                <a:ext cx="2772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 flipH="1">
                <a:off x="8278920" y="4916880"/>
                <a:ext cx="5076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57"/>
              <p:cNvSpPr/>
              <p:nvPr/>
            </p:nvSpPr>
            <p:spPr>
              <a:xfrm flipH="1">
                <a:off x="8442000" y="4563000"/>
                <a:ext cx="5904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58"/>
              <p:cNvSpPr/>
              <p:nvPr/>
            </p:nvSpPr>
            <p:spPr>
              <a:xfrm flipH="1">
                <a:off x="8826480" y="4852800"/>
                <a:ext cx="3816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59"/>
              <p:cNvSpPr/>
              <p:nvPr/>
            </p:nvSpPr>
            <p:spPr>
              <a:xfrm flipH="1">
                <a:off x="8842680" y="4914720"/>
                <a:ext cx="1800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60"/>
              <p:cNvSpPr/>
              <p:nvPr/>
            </p:nvSpPr>
            <p:spPr>
              <a:xfrm flipH="1">
                <a:off x="8705160" y="4888080"/>
                <a:ext cx="29520" cy="4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61"/>
              <p:cNvSpPr/>
              <p:nvPr/>
            </p:nvSpPr>
            <p:spPr>
              <a:xfrm flipH="1">
                <a:off x="8529120" y="4815720"/>
                <a:ext cx="52560" cy="4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62"/>
              <p:cNvSpPr/>
              <p:nvPr/>
            </p:nvSpPr>
            <p:spPr>
              <a:xfrm flipH="1">
                <a:off x="8267400" y="4521960"/>
                <a:ext cx="409320" cy="30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63"/>
              <p:cNvSpPr/>
              <p:nvPr/>
            </p:nvSpPr>
            <p:spPr>
              <a:xfrm flipH="1">
                <a:off x="8670600" y="4696920"/>
                <a:ext cx="1166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64"/>
              <p:cNvSpPr/>
              <p:nvPr/>
            </p:nvSpPr>
            <p:spPr>
              <a:xfrm flipH="1">
                <a:off x="8411040" y="4861800"/>
                <a:ext cx="191880" cy="14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65"/>
              <p:cNvSpPr/>
              <p:nvPr/>
            </p:nvSpPr>
            <p:spPr>
              <a:xfrm flipH="1">
                <a:off x="8247240" y="4830840"/>
                <a:ext cx="1738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66"/>
              <p:cNvSpPr/>
              <p:nvPr/>
            </p:nvSpPr>
            <p:spPr>
              <a:xfrm flipH="1">
                <a:off x="8602920" y="4809240"/>
                <a:ext cx="292680" cy="20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Text Box 67"/>
          <p:cNvSpPr/>
          <p:nvPr/>
        </p:nvSpPr>
        <p:spPr>
          <a:xfrm>
            <a:off x="7059600" y="5216400"/>
            <a:ext cx="1873440" cy="70380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 LIDAR Aircra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8"/>
          <p:cNvSpPr/>
          <p:nvPr/>
        </p:nvSpPr>
        <p:spPr>
          <a:xfrm>
            <a:off x="119160" y="5697360"/>
            <a:ext cx="4019400" cy="100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e with Others on fielding Ground-based Remote and In Situ Instrum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371520" y="1909800"/>
            <a:ext cx="34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7ea"/>
                </a:solidFill>
                <a:latin typeface="Arial"/>
              </a:rPr>
              <a:t>Goal of this meet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2" descr="camel.jpg"/>
          <p:cNvPicPr/>
          <p:nvPr/>
        </p:nvPicPr>
        <p:blipFill>
          <a:blip r:embed="rId1"/>
          <a:stretch/>
        </p:blipFill>
        <p:spPr>
          <a:xfrm>
            <a:off x="0" y="-4680"/>
            <a:ext cx="4282920" cy="4154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878040" y="4275000"/>
            <a:ext cx="24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 race horse buil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by committ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16"/>
          <p:cNvSpPr/>
          <p:nvPr/>
        </p:nvSpPr>
        <p:spPr>
          <a:xfrm flipV="1">
            <a:off x="1662120" y="3739680"/>
            <a:ext cx="185760" cy="669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23"/>
          <p:cNvGrpSpPr/>
          <p:nvPr/>
        </p:nvGrpSpPr>
        <p:grpSpPr>
          <a:xfrm>
            <a:off x="1214280" y="57240"/>
            <a:ext cx="7826400" cy="6765840"/>
            <a:chOff x="1214280" y="57240"/>
            <a:chExt cx="7826400" cy="6765840"/>
          </a:xfrm>
        </p:grpSpPr>
        <p:grpSp>
          <p:nvGrpSpPr>
            <p:cNvPr id="231" name="Group 11"/>
            <p:cNvGrpSpPr/>
            <p:nvPr/>
          </p:nvGrpSpPr>
          <p:grpSpPr>
            <a:xfrm>
              <a:off x="4290840" y="57240"/>
              <a:ext cx="4749840" cy="6765840"/>
              <a:chOff x="4290840" y="57240"/>
              <a:chExt cx="4749840" cy="6765840"/>
            </a:xfrm>
          </p:grpSpPr>
          <p:pic>
            <p:nvPicPr>
              <p:cNvPr id="232" name="Picture 12" descr="CalNexus_06_Oct_08.png"/>
              <p:cNvPicPr/>
              <p:nvPr/>
            </p:nvPicPr>
            <p:blipFill>
              <a:blip r:embed="rId2"/>
              <a:srcRect l="9805" t="2841" r="4903" b="7576"/>
              <a:stretch/>
            </p:blipFill>
            <p:spPr>
              <a:xfrm>
                <a:off x="4290840" y="57240"/>
                <a:ext cx="4749840" cy="64580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33" name="Text Box 23"/>
              <p:cNvSpPr/>
              <p:nvPr/>
            </p:nvSpPr>
            <p:spPr>
              <a:xfrm>
                <a:off x="4448880" y="6454800"/>
                <a:ext cx="447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http://esrl.noaa.gov/csd/calnex/scienceplan.pdf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7"/>
            <p:cNvSpPr/>
            <p:nvPr/>
          </p:nvSpPr>
          <p:spPr>
            <a:xfrm>
              <a:off x="1214280" y="5720400"/>
              <a:ext cx="287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A science plan built by committe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Straight Connector 19"/>
            <p:cNvSpPr/>
            <p:nvPr/>
          </p:nvSpPr>
          <p:spPr>
            <a:xfrm flipV="1">
              <a:off x="3197880" y="5079960"/>
              <a:ext cx="1096560" cy="73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16"/>
          <p:cNvSpPr/>
          <p:nvPr/>
        </p:nvSpPr>
        <p:spPr>
          <a:xfrm>
            <a:off x="138240" y="3440160"/>
            <a:ext cx="443376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oal of this mee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egin process of planning how to most effectively investigate the science issues collected in this docu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8"/>
          <p:cNvSpPr/>
          <p:nvPr/>
        </p:nvSpPr>
        <p:spPr>
          <a:xfrm>
            <a:off x="165240" y="4406760"/>
            <a:ext cx="34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erosol Properties and Radiative eff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58760" y="308304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Chemical Transformation and Climate Proc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52280" y="2635200"/>
            <a:ext cx="37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Emissions - top down te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62000" y="393696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Transport and Meteor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51560" y="201780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7ea"/>
                </a:solidFill>
                <a:uFillTx/>
                <a:latin typeface="Arial Narrow"/>
              </a:rPr>
              <a:t>Science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183320" y="59292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7ea"/>
                </a:solidFill>
                <a:latin typeface="Arial Narrow"/>
                <a:ea typeface="Arial Narrow"/>
              </a:rPr>
              <a:t>Some illustr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2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68120" y="525924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Forecast Model Eval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1031760" y="2301840"/>
            <a:ext cx="73152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p-down tests of emission inventorie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erosol and ozone precursors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eenhouse gases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lack carbon, of particular interes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2:16:26Z</dcterms:created>
  <dc:creator/>
  <dc:description/>
  <dc:language>en-US</dc:language>
  <cp:lastModifiedBy>David Parrish</cp:lastModifiedBy>
  <cp:lastPrinted>2008-09-12T18:03:28Z</cp:lastPrinted>
  <dcterms:modified xsi:type="dcterms:W3CDTF">2009-01-05T12:59:23Z</dcterms:modified>
  <cp:revision>172</cp:revision>
  <dc:subject/>
  <dc:title>PowerPoint Presentation</dc:title>
</cp:coreProperties>
</file>