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pct" ContentType="image/x-pict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ct" ContentType="image/x-pict"/>
  <Override PartName="/ppt/media/image9.png" ContentType="image/png"/>
  <Override PartName="/ppt/media/image7.pct" ContentType="image/x-pict"/>
  <Override PartName="/ppt/media/image1.png" ContentType="image/png"/>
  <Override PartName="/ppt/media/image12.pct" ContentType="image/x-pict"/>
  <Override PartName="/ppt/media/image10.jpeg" ContentType="image/jpeg"/>
  <Override PartName="/ppt/media/image5.png" ContentType="image/png"/>
  <Override PartName="/ppt/media/image8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BA8-C1AA-4806-85B2-5F5BA566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761-CD27-4A42-BDDB-92CD78C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B40-E3C1-4932-A458-BF568925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E5D-7AB7-4949-A1AC-E2468EFF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182-D00E-442B-B86C-4E636117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F03-9F0A-40B8-BF06-FAC60AE6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356-B85F-450C-8258-73F7ADB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CA4-00EA-4307-B228-FF119D2B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492-0625-4035-87E2-37E5E153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1C2-A955-44D9-B458-BDA5AF7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226-C71C-4D19-BE2B-E1427D0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1DE-D6A0-4E0B-BAB0-A0A5BC5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DA59-90FC-400A-9C96-18483DA24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ct"/><Relationship Id="rId7" Type="http://schemas.openxmlformats.org/officeDocument/2006/relationships/image" Target="../media/image13.jpeg"/><Relationship Id="rId8" Type="http://schemas.openxmlformats.org/officeDocument/2006/relationships/image" Target="../media/image14.pct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29120" y="288936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29120" y="28861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971800" y="0"/>
            <a:ext cx="617076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153280" y="5916600"/>
            <a:ext cx="990720" cy="94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22760" y="1614600"/>
            <a:ext cx="456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Nex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lder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971800"/>
            <a:ext cx="31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im of th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7600" y="5119560"/>
            <a:ext cx="3280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Fred Fehsenf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ropospheric Chemistr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hemical Scienc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07800" y="6097680"/>
            <a:ext cx="1216080" cy="608040"/>
            <a:chOff x="307800" y="6097680"/>
            <a:chExt cx="1216080" cy="608040"/>
          </a:xfrm>
        </p:grpSpPr>
        <p:sp>
          <p:nvSpPr>
            <p:cNvPr id="51" name=""/>
            <p:cNvSpPr/>
            <p:nvPr/>
          </p:nvSpPr>
          <p:spPr>
            <a:xfrm>
              <a:off x="307800" y="6097680"/>
              <a:ext cx="1216080" cy="60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348120" y="6118920"/>
              <a:ext cx="1155240" cy="56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7ff"/>
            </a:gs>
            <a:gs pos="50000">
              <a:srgbClr val="f9caff"/>
            </a:gs>
            <a:gs pos="100000">
              <a:srgbClr val="a1a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19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38080" y="5729400"/>
            <a:ext cx="56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 to Boul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7ff"/>
            </a:gs>
            <a:gs pos="50000">
              <a:srgbClr val="f9caff"/>
            </a:gs>
            <a:gs pos="100000">
              <a:srgbClr val="a1a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5067360" y="3348000"/>
            <a:ext cx="3848040" cy="3433680"/>
            <a:chOff x="5067360" y="3348000"/>
            <a:chExt cx="3848040" cy="3433680"/>
          </a:xfrm>
        </p:grpSpPr>
        <p:sp>
          <p:nvSpPr>
            <p:cNvPr id="56" name=""/>
            <p:cNvSpPr/>
            <p:nvPr/>
          </p:nvSpPr>
          <p:spPr>
            <a:xfrm>
              <a:off x="5067360" y="3348000"/>
              <a:ext cx="3848040" cy="34336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cience to Support Deci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5227560" y="3680640"/>
            <a:ext cx="3555000" cy="2865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27560" y="3680640"/>
                      <a:ext cx="3555000" cy="286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" name=""/>
          <p:cNvGrpSpPr/>
          <p:nvPr/>
        </p:nvGrpSpPr>
        <p:grpSpPr>
          <a:xfrm>
            <a:off x="380880" y="568440"/>
            <a:ext cx="4388040" cy="4232160"/>
            <a:chOff x="380880" y="568440"/>
            <a:chExt cx="4388040" cy="4232160"/>
          </a:xfrm>
        </p:grpSpPr>
        <p:sp>
          <p:nvSpPr>
            <p:cNvPr id="60" name=""/>
            <p:cNvSpPr/>
            <p:nvPr/>
          </p:nvSpPr>
          <p:spPr>
            <a:xfrm>
              <a:off x="380880" y="568440"/>
              <a:ext cx="4388040" cy="42321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436680" y="597600"/>
              <a:ext cx="4295160" cy="41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1096920" y="3276720"/>
            <a:ext cx="3200400" cy="3200400"/>
            <a:chOff x="1096920" y="3276720"/>
            <a:chExt cx="3200400" cy="3200400"/>
          </a:xfrm>
        </p:grpSpPr>
        <p:sp>
          <p:nvSpPr>
            <p:cNvPr id="63" name=""/>
            <p:cNvSpPr/>
            <p:nvPr/>
          </p:nvSpPr>
          <p:spPr>
            <a:xfrm>
              <a:off x="1096920" y="3276720"/>
              <a:ext cx="3200400" cy="3200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1172880" y="3353040"/>
              <a:ext cx="3048120" cy="30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457200" y="3013200"/>
            <a:ext cx="4724280" cy="3700440"/>
            <a:chOff x="457200" y="3013200"/>
            <a:chExt cx="4724280" cy="3700440"/>
          </a:xfrm>
        </p:grpSpPr>
        <p:grpSp>
          <p:nvGrpSpPr>
            <p:cNvPr id="66" name=""/>
            <p:cNvGrpSpPr/>
            <p:nvPr/>
          </p:nvGrpSpPr>
          <p:grpSpPr>
            <a:xfrm>
              <a:off x="457200" y="3013200"/>
              <a:ext cx="1806480" cy="1236600"/>
              <a:chOff x="457200" y="3013200"/>
              <a:chExt cx="1806480" cy="1236600"/>
            </a:xfrm>
          </p:grpSpPr>
          <p:pic>
            <p:nvPicPr>
              <p:cNvPr id="67" name="" descr=""/>
              <p:cNvPicPr/>
              <p:nvPr/>
            </p:nvPicPr>
            <p:blipFill>
              <a:blip r:embed="rId5">
                <a:lum bright="22000"/>
              </a:blip>
              <a:srcRect l="0" t="0" r="0" b="6000"/>
              <a:stretch/>
            </p:blipFill>
            <p:spPr>
              <a:xfrm>
                <a:off x="488880" y="3054240"/>
                <a:ext cx="1747800" cy="1166760"/>
              </a:xfrm>
              <a:prstGeom prst="rect">
                <a:avLst/>
              </a:prstGeom>
              <a:ln w="19080">
                <a:solidFill>
                  <a:srgbClr val="969696"/>
                </a:solidFill>
                <a:miter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457200" y="3013200"/>
                <a:ext cx="1806480" cy="1236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554120" y="5762520"/>
              <a:ext cx="2181240" cy="951120"/>
              <a:chOff x="1554120" y="5762520"/>
              <a:chExt cx="2181240" cy="951120"/>
            </a:xfrm>
          </p:grpSpPr>
          <p:pic>
            <p:nvPicPr>
              <p:cNvPr id="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554120" y="5769000"/>
                <a:ext cx="218124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1555560" y="5762520"/>
                <a:ext cx="2179800" cy="951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189240" y="3014640"/>
              <a:ext cx="1992240" cy="1328760"/>
              <a:chOff x="3189240" y="3014640"/>
              <a:chExt cx="1992240" cy="1328760"/>
            </a:xfrm>
          </p:grpSpPr>
          <p:pic>
            <p:nvPicPr>
              <p:cNvPr id="73" name="" descr=""/>
              <p:cNvPicPr/>
              <p:nvPr/>
            </p:nvPicPr>
            <p:blipFill>
              <a:blip r:embed="rId7"/>
              <a:srcRect l="0" t="9008" r="0" b="0"/>
              <a:stretch/>
            </p:blipFill>
            <p:spPr>
              <a:xfrm>
                <a:off x="3220920" y="3049560"/>
                <a:ext cx="1946520" cy="1293840"/>
              </a:xfrm>
              <a:prstGeom prst="rect">
                <a:avLst/>
              </a:prstGeom>
              <a:ln w="19080">
                <a:solidFill>
                  <a:srgbClr val="969696"/>
                </a:solidFill>
                <a:miter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3189240" y="3014640"/>
                <a:ext cx="1992240" cy="1328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4957920" y="609480"/>
            <a:ext cx="4114800" cy="3429000"/>
            <a:chOff x="4957920" y="609480"/>
            <a:chExt cx="4114800" cy="3429000"/>
          </a:xfrm>
        </p:grpSpPr>
        <p:grpSp>
          <p:nvGrpSpPr>
            <p:cNvPr id="76" name=""/>
            <p:cNvGrpSpPr/>
            <p:nvPr/>
          </p:nvGrpSpPr>
          <p:grpSpPr>
            <a:xfrm>
              <a:off x="4957920" y="609480"/>
              <a:ext cx="4114800" cy="3429000"/>
              <a:chOff x="4957920" y="609480"/>
              <a:chExt cx="4114800" cy="3429000"/>
            </a:xfrm>
          </p:grpSpPr>
          <p:sp>
            <p:nvSpPr>
              <p:cNvPr id="77" name=""/>
              <p:cNvSpPr/>
              <p:nvPr/>
            </p:nvSpPr>
            <p:spPr>
              <a:xfrm>
                <a:off x="4957920" y="609480"/>
                <a:ext cx="4114800" cy="342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5262840" y="838080"/>
                <a:ext cx="3519360" cy="3043080"/>
                <a:chOff x="5262840" y="838080"/>
                <a:chExt cx="3519360" cy="3043080"/>
              </a:xfrm>
            </p:grpSpPr>
            <p:pic>
              <p:nvPicPr>
                <p:cNvPr id="7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262840" y="838080"/>
                  <a:ext cx="3519360" cy="304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6908760" y="869760"/>
                  <a:ext cx="17928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2000" y="1101240"/>
                  <a:ext cx="180720" cy="18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910560" y="2020680"/>
                  <a:ext cx="178920" cy="18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912000" y="1560240"/>
                  <a:ext cx="180720" cy="18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912000" y="1331640"/>
                  <a:ext cx="180720" cy="18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915240" y="1793520"/>
                  <a:ext cx="17892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8298000" y="2711160"/>
                <a:ext cx="235080" cy="231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36080" y="2479680"/>
                <a:ext cx="234720" cy="2314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7839000" y="2666880"/>
              <a:ext cx="21600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94440" y="74520"/>
            <a:ext cx="81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 of This Meeting: Setting the Stage fo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50040" y="1042920"/>
            <a:ext cx="3372840" cy="2859840"/>
            <a:chOff x="5450040" y="1042920"/>
            <a:chExt cx="3372840" cy="2859840"/>
          </a:xfrm>
        </p:grpSpPr>
        <p:grpSp>
          <p:nvGrpSpPr>
            <p:cNvPr id="91" name=""/>
            <p:cNvGrpSpPr/>
            <p:nvPr/>
          </p:nvGrpSpPr>
          <p:grpSpPr>
            <a:xfrm>
              <a:off x="8017200" y="2685960"/>
              <a:ext cx="550800" cy="307080"/>
              <a:chOff x="8017200" y="2685960"/>
              <a:chExt cx="550800" cy="307080"/>
            </a:xfrm>
          </p:grpSpPr>
          <p:sp>
            <p:nvSpPr>
              <p:cNvPr id="92" name=""/>
              <p:cNvSpPr/>
              <p:nvPr/>
            </p:nvSpPr>
            <p:spPr>
              <a:xfrm>
                <a:off x="8248680" y="26859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017200" y="26859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7554960" y="1042920"/>
              <a:ext cx="324720" cy="767520"/>
              <a:chOff x="7554960" y="1042920"/>
              <a:chExt cx="324720" cy="767520"/>
            </a:xfrm>
          </p:grpSpPr>
          <p:sp>
            <p:nvSpPr>
              <p:cNvPr id="95" name=""/>
              <p:cNvSpPr/>
              <p:nvPr/>
            </p:nvSpPr>
            <p:spPr>
              <a:xfrm>
                <a:off x="7561080" y="1271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70800" y="10429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554960" y="15033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8479080" y="1743120"/>
              <a:ext cx="343800" cy="2159640"/>
              <a:chOff x="8479080" y="1743120"/>
              <a:chExt cx="343800" cy="2159640"/>
            </a:xfrm>
          </p:grpSpPr>
          <p:sp>
            <p:nvSpPr>
              <p:cNvPr id="99" name=""/>
              <p:cNvSpPr/>
              <p:nvPr/>
            </p:nvSpPr>
            <p:spPr>
              <a:xfrm>
                <a:off x="8514000" y="35956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79080" y="22050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499600" y="19764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488800" y="1743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94560" y="243684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494920" y="26780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485200" y="291312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505720" y="31338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96720" y="33735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454720" y="1741320"/>
              <a:ext cx="2417040" cy="1011960"/>
              <a:chOff x="5454720" y="1741320"/>
              <a:chExt cx="2417040" cy="10119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6859800" y="1741320"/>
                <a:ext cx="1011960" cy="313560"/>
                <a:chOff x="6859800" y="1741320"/>
                <a:chExt cx="1011960" cy="3135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859800" y="17478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90560" y="1741320"/>
                  <a:ext cx="31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562880" y="1744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29240" y="1744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454720" y="2436840"/>
                <a:ext cx="1240920" cy="316440"/>
                <a:chOff x="5454720" y="2436840"/>
                <a:chExt cx="1240920" cy="316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454720" y="24382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725440" y="2436840"/>
                  <a:ext cx="231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924520" y="24400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148440" y="2438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396120" y="244620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5450040" y="2678040"/>
              <a:ext cx="310320" cy="1223280"/>
              <a:chOff x="5450040" y="2678040"/>
              <a:chExt cx="310320" cy="1223280"/>
            </a:xfrm>
          </p:grpSpPr>
          <p:sp>
            <p:nvSpPr>
              <p:cNvPr id="121" name=""/>
              <p:cNvSpPr/>
              <p:nvPr/>
            </p:nvSpPr>
            <p:spPr>
              <a:xfrm>
                <a:off x="5466960" y="291924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51480" y="26780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50040" y="33465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00080" y="35942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51480" y="31273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929560" y="1287360"/>
              <a:ext cx="318240" cy="997920"/>
              <a:chOff x="5929560" y="1287360"/>
              <a:chExt cx="318240" cy="997920"/>
            </a:xfrm>
          </p:grpSpPr>
          <p:sp>
            <p:nvSpPr>
              <p:cNvPr id="127" name=""/>
              <p:cNvSpPr/>
              <p:nvPr/>
            </p:nvSpPr>
            <p:spPr>
              <a:xfrm>
                <a:off x="5938920" y="1978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929560" y="1287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32800" y="15159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929560" y="17413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02:38:45Z</dcterms:created>
  <dc:creator>Fred Fehsenfeld</dc:creator>
  <dc:description/>
  <dc:language>en-US</dc:language>
  <cp:lastModifiedBy>Fred Fehsenfeld</cp:lastModifiedBy>
  <dcterms:modified xsi:type="dcterms:W3CDTF">2009-01-05T05:40:52Z</dcterms:modified>
  <cp:revision>16</cp:revision>
  <dc:subject/>
  <dc:title>PowerPoint Presentation</dc:title>
</cp:coreProperties>
</file>