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ct" ContentType="image/x-pict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E13-F416-4FC5-867E-0DFE5F2D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F2B-D445-4178-AD92-131E3C0D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EC72-2A01-43F4-B18E-25FD107E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14A2-D899-47F7-A72B-80D2D0E8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6713-8FEE-480E-A43B-BCD35DE9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F6B-5B6B-4991-B3F9-0F8CD38E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725-816C-48DA-8DC3-8545AE9D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108-0B97-4232-9ABF-2D08E9FD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707-914F-4DA8-8ED2-821807EA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1FCE-8CB1-4720-B037-599B356F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302-0AF3-477C-8AC5-3F199014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2F6C-F11B-4782-87FE-A59C8666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DCB05-FBE7-4AF3-8814-42F017FE2F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253C9-C272-4957-BA0C-0223B0C69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P3_Denver_20080401.tiff"/>
          <p:cNvPicPr/>
          <p:nvPr/>
        </p:nvPicPr>
        <p:blipFill>
          <a:blip r:embed="rId1"/>
          <a:srcRect l="5833" t="7664" r="9167" b="0"/>
          <a:stretch/>
        </p:blipFill>
        <p:spPr>
          <a:xfrm>
            <a:off x="609480" y="1181160"/>
            <a:ext cx="7772400" cy="5095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2" name="TextBox 7"/>
          <p:cNvSpPr/>
          <p:nvPr/>
        </p:nvSpPr>
        <p:spPr>
          <a:xfrm>
            <a:off x="7199640" y="627696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. Cozic ph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166760" y="1143000"/>
            <a:ext cx="664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AA P-3 in CalNex 2010: payloads, dates, and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209680" y="228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lNex 2010 informational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oulder, Monday, April 6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95120" y="2025720"/>
            <a:ext cx="8447400" cy="2438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5075280" y="275904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316400" y="275904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2808360" y="275904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908440" y="3244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301920" y="3243240"/>
            <a:ext cx="15264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2362320" y="3513240"/>
            <a:ext cx="73080" cy="3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6424560" y="3309840"/>
            <a:ext cx="119160" cy="155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2971800" y="2757600"/>
            <a:ext cx="274680" cy="136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3468600" y="3397320"/>
            <a:ext cx="265320" cy="155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5254560" y="2760840"/>
            <a:ext cx="155520" cy="155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4648320" y="2766960"/>
            <a:ext cx="155520" cy="155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4495680" y="2766960"/>
            <a:ext cx="109800" cy="155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3276720" y="2101680"/>
            <a:ext cx="1295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8"/>
          <p:cNvSpPr/>
          <p:nvPr/>
        </p:nvSpPr>
        <p:spPr>
          <a:xfrm>
            <a:off x="3200400" y="4006800"/>
            <a:ext cx="1447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3429000" y="3625920"/>
            <a:ext cx="152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3276720" y="2254320"/>
            <a:ext cx="11430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3581280" y="1063800"/>
            <a:ext cx="5335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rc 33"/>
          <p:cNvSpPr/>
          <p:nvPr/>
        </p:nvSpPr>
        <p:spPr>
          <a:xfrm flipV="1">
            <a:off x="2133720" y="3562200"/>
            <a:ext cx="152280" cy="76320"/>
          </a:xfrm>
          <a:prstGeom prst="pie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5"/>
          <p:cNvSpPr/>
          <p:nvPr/>
        </p:nvSpPr>
        <p:spPr>
          <a:xfrm>
            <a:off x="2085840" y="3397320"/>
            <a:ext cx="55800" cy="55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7"/>
          <p:cNvSpPr/>
          <p:nvPr/>
        </p:nvSpPr>
        <p:spPr>
          <a:xfrm>
            <a:off x="4267080" y="3112920"/>
            <a:ext cx="55800" cy="558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9"/>
          <p:cNvSpPr/>
          <p:nvPr/>
        </p:nvSpPr>
        <p:spPr>
          <a:xfrm>
            <a:off x="5661000" y="3137040"/>
            <a:ext cx="55440" cy="55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3"/>
          <p:cNvSpPr/>
          <p:nvPr/>
        </p:nvSpPr>
        <p:spPr>
          <a:xfrm>
            <a:off x="3639600" y="1316160"/>
            <a:ext cx="4093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4"/>
          <p:cNvSpPr/>
          <p:nvPr/>
        </p:nvSpPr>
        <p:spPr>
          <a:xfrm>
            <a:off x="1428840" y="1887480"/>
            <a:ext cx="1425600" cy="50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5"/>
          <p:cNvSpPr/>
          <p:nvPr/>
        </p:nvSpPr>
        <p:spPr>
          <a:xfrm>
            <a:off x="157320" y="3573360"/>
            <a:ext cx="78840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L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6"/>
          <p:cNvSpPr/>
          <p:nvPr/>
        </p:nvSpPr>
        <p:spPr>
          <a:xfrm>
            <a:off x="415080" y="3990960"/>
            <a:ext cx="9702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sol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let (L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7"/>
          <p:cNvSpPr/>
          <p:nvPr/>
        </p:nvSpPr>
        <p:spPr>
          <a:xfrm>
            <a:off x="679320" y="4813200"/>
            <a:ext cx="7401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O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8"/>
          <p:cNvSpPr/>
          <p:nvPr/>
        </p:nvSpPr>
        <p:spPr>
          <a:xfrm>
            <a:off x="2133720" y="3473280"/>
            <a:ext cx="73080" cy="7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9"/>
          <p:cNvSpPr/>
          <p:nvPr/>
        </p:nvSpPr>
        <p:spPr>
          <a:xfrm>
            <a:off x="2662200" y="3257640"/>
            <a:ext cx="73080" cy="109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1"/>
          <p:cNvSpPr/>
          <p:nvPr/>
        </p:nvSpPr>
        <p:spPr>
          <a:xfrm>
            <a:off x="533520" y="5402160"/>
            <a:ext cx="2438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D-AES; PAS; PSAP; UH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2"/>
          <p:cNvSpPr/>
          <p:nvPr/>
        </p:nvSpPr>
        <p:spPr>
          <a:xfrm>
            <a:off x="2352960" y="4724280"/>
            <a:ext cx="1303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S; AMS; S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8"/>
          <p:cNvSpPr/>
          <p:nvPr/>
        </p:nvSpPr>
        <p:spPr>
          <a:xfrm>
            <a:off x="4419720" y="4414680"/>
            <a:ext cx="112500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9"/>
          <p:cNvSpPr/>
          <p:nvPr/>
        </p:nvSpPr>
        <p:spPr>
          <a:xfrm>
            <a:off x="5913720" y="4307040"/>
            <a:ext cx="9108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-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0"/>
          <p:cNvSpPr/>
          <p:nvPr/>
        </p:nvSpPr>
        <p:spPr>
          <a:xfrm>
            <a:off x="5875560" y="1820880"/>
            <a:ext cx="102348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 H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1"/>
          <p:cNvSpPr/>
          <p:nvPr/>
        </p:nvSpPr>
        <p:spPr>
          <a:xfrm>
            <a:off x="5870880" y="1415880"/>
            <a:ext cx="45036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2"/>
          <p:cNvSpPr/>
          <p:nvPr/>
        </p:nvSpPr>
        <p:spPr>
          <a:xfrm>
            <a:off x="4500360" y="1219320"/>
            <a:ext cx="107676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s, Cl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3"/>
          <p:cNvSpPr/>
          <p:nvPr/>
        </p:nvSpPr>
        <p:spPr>
          <a:xfrm>
            <a:off x="3159000" y="1773360"/>
            <a:ext cx="13716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S; N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AutoShape 65"/>
          <p:cNvCxnSpPr>
            <a:stCxn id="67" idx="0"/>
            <a:endCxn id="62" idx="4"/>
          </p:cNvCxnSpPr>
          <p:nvPr/>
        </p:nvCxnSpPr>
        <p:spPr>
          <a:xfrm flipV="1">
            <a:off x="3844440" y="1139400"/>
            <a:ext cx="39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AutoShape 66"/>
          <p:cNvCxnSpPr>
            <a:stCxn id="81" idx="2"/>
            <a:endCxn id="61" idx="0"/>
          </p:cNvCxnSpPr>
          <p:nvPr/>
        </p:nvCxnSpPr>
        <p:spPr>
          <a:xfrm>
            <a:off x="3843720" y="2057040"/>
            <a:ext cx="396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AutoShape 67"/>
          <p:cNvCxnSpPr>
            <a:stCxn id="68" idx="2"/>
            <a:endCxn id="48" idx="0"/>
          </p:cNvCxnSpPr>
          <p:nvPr/>
        </p:nvCxnSpPr>
        <p:spPr>
          <a:xfrm>
            <a:off x="2141280" y="2354400"/>
            <a:ext cx="743400" cy="40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AutoShape 68"/>
          <p:cNvCxnSpPr>
            <a:stCxn id="68" idx="2"/>
            <a:endCxn id="53" idx="0"/>
          </p:cNvCxnSpPr>
          <p:nvPr/>
        </p:nvCxnSpPr>
        <p:spPr>
          <a:xfrm>
            <a:off x="2141640" y="2354400"/>
            <a:ext cx="96912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AutoShape 77"/>
          <p:cNvCxnSpPr>
            <a:stCxn id="69" idx="3"/>
            <a:endCxn id="64" idx="1"/>
          </p:cNvCxnSpPr>
          <p:nvPr/>
        </p:nvCxnSpPr>
        <p:spPr>
          <a:xfrm flipV="1">
            <a:off x="950400" y="3404880"/>
            <a:ext cx="114372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AutoShape 82"/>
          <p:cNvCxnSpPr>
            <a:stCxn id="74" idx="0"/>
            <a:endCxn id="49" idx="2"/>
          </p:cNvCxnSpPr>
          <p:nvPr/>
        </p:nvCxnSpPr>
        <p:spPr>
          <a:xfrm flipV="1">
            <a:off x="1752480" y="3549240"/>
            <a:ext cx="1232280" cy="1853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AutoShape 84"/>
          <p:cNvCxnSpPr>
            <a:stCxn id="70" idx="3"/>
            <a:endCxn id="63" idx="3"/>
          </p:cNvCxnSpPr>
          <p:nvPr/>
        </p:nvCxnSpPr>
        <p:spPr>
          <a:xfrm flipV="1">
            <a:off x="1371240" y="3653640"/>
            <a:ext cx="76284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AutoShape 85"/>
          <p:cNvCxnSpPr>
            <a:stCxn id="71" idx="3"/>
            <a:endCxn id="51" idx="2"/>
          </p:cNvCxnSpPr>
          <p:nvPr/>
        </p:nvCxnSpPr>
        <p:spPr>
          <a:xfrm flipV="1">
            <a:off x="1413000" y="3548880"/>
            <a:ext cx="986400" cy="140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AutoShape 90"/>
          <p:cNvCxnSpPr>
            <a:stCxn id="77" idx="0"/>
            <a:endCxn id="52" idx="2"/>
          </p:cNvCxnSpPr>
          <p:nvPr/>
        </p:nvCxnSpPr>
        <p:spPr>
          <a:xfrm flipV="1">
            <a:off x="6369120" y="3465000"/>
            <a:ext cx="116640" cy="84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Rectangle 92"/>
          <p:cNvSpPr/>
          <p:nvPr/>
        </p:nvSpPr>
        <p:spPr>
          <a:xfrm>
            <a:off x="2240640" y="228600"/>
            <a:ext cx="43945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ft NOAA P-3 payload - CalNex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et of instruments with identified funding is sh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6"/>
          <p:cNvSpPr/>
          <p:nvPr/>
        </p:nvSpPr>
        <p:spPr>
          <a:xfrm>
            <a:off x="3733920" y="323676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7"/>
          <p:cNvSpPr/>
          <p:nvPr/>
        </p:nvSpPr>
        <p:spPr>
          <a:xfrm>
            <a:off x="5300640" y="2930400"/>
            <a:ext cx="109440" cy="109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9"/>
          <p:cNvSpPr/>
          <p:nvPr/>
        </p:nvSpPr>
        <p:spPr>
          <a:xfrm>
            <a:off x="3503520" y="4114800"/>
            <a:ext cx="628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112"/>
          <p:cNvCxnSpPr>
            <a:stCxn id="78" idx="1"/>
            <a:endCxn id="55" idx="0"/>
          </p:cNvCxnSpPr>
          <p:nvPr/>
        </p:nvCxnSpPr>
        <p:spPr>
          <a:xfrm flipH="1">
            <a:off x="5331960" y="1963800"/>
            <a:ext cx="535680" cy="79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AutoShape 113"/>
          <p:cNvCxnSpPr>
            <a:stCxn id="78" idx="1"/>
            <a:endCxn id="46" idx="0"/>
          </p:cNvCxnSpPr>
          <p:nvPr/>
        </p:nvCxnSpPr>
        <p:spPr>
          <a:xfrm flipH="1">
            <a:off x="5151240" y="1962000"/>
            <a:ext cx="716400" cy="79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AutoShape 114"/>
          <p:cNvCxnSpPr>
            <a:stCxn id="78" idx="1"/>
            <a:endCxn id="93" idx="3"/>
          </p:cNvCxnSpPr>
          <p:nvPr/>
        </p:nvCxnSpPr>
        <p:spPr>
          <a:xfrm flipH="1">
            <a:off x="5409720" y="1963800"/>
            <a:ext cx="457920" cy="10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Oval 123"/>
          <p:cNvSpPr/>
          <p:nvPr/>
        </p:nvSpPr>
        <p:spPr>
          <a:xfrm>
            <a:off x="3581280" y="5219640"/>
            <a:ext cx="5335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4"/>
          <p:cNvSpPr/>
          <p:nvPr/>
        </p:nvSpPr>
        <p:spPr>
          <a:xfrm>
            <a:off x="3531960" y="5705640"/>
            <a:ext cx="6487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AutoShape 126"/>
          <p:cNvCxnSpPr>
            <a:stCxn id="57" idx="0"/>
            <a:endCxn id="80" idx="2"/>
          </p:cNvCxnSpPr>
          <p:nvPr/>
        </p:nvCxnSpPr>
        <p:spPr>
          <a:xfrm flipV="1">
            <a:off x="4549680" y="1495440"/>
            <a:ext cx="489600" cy="1271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AutoShape 127"/>
          <p:cNvCxnSpPr>
            <a:stCxn id="94" idx="0"/>
            <a:endCxn id="92" idx="2"/>
          </p:cNvCxnSpPr>
          <p:nvPr/>
        </p:nvCxnSpPr>
        <p:spPr>
          <a:xfrm flipH="1" flipV="1">
            <a:off x="3809520" y="3541320"/>
            <a:ext cx="864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AutoShape 129"/>
          <p:cNvCxnSpPr>
            <a:stCxn id="103" idx="2"/>
            <a:endCxn id="76" idx="0"/>
          </p:cNvCxnSpPr>
          <p:nvPr/>
        </p:nvCxnSpPr>
        <p:spPr>
          <a:xfrm>
            <a:off x="4632480" y="3541320"/>
            <a:ext cx="351360" cy="87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Rectangle 130"/>
          <p:cNvSpPr/>
          <p:nvPr/>
        </p:nvSpPr>
        <p:spPr>
          <a:xfrm>
            <a:off x="5157720" y="3376440"/>
            <a:ext cx="182520" cy="155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1"/>
          <p:cNvSpPr/>
          <p:nvPr/>
        </p:nvSpPr>
        <p:spPr>
          <a:xfrm>
            <a:off x="5163480" y="3898800"/>
            <a:ext cx="714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AutoShape 132"/>
          <p:cNvCxnSpPr>
            <a:stCxn id="104" idx="2"/>
            <a:endCxn id="105" idx="0"/>
          </p:cNvCxnSpPr>
          <p:nvPr/>
        </p:nvCxnSpPr>
        <p:spPr>
          <a:xfrm>
            <a:off x="5248440" y="3532320"/>
            <a:ext cx="272160" cy="36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" name="Rectangle 133"/>
          <p:cNvSpPr/>
          <p:nvPr/>
        </p:nvSpPr>
        <p:spPr>
          <a:xfrm>
            <a:off x="4487760" y="313992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4"/>
          <p:cNvSpPr/>
          <p:nvPr/>
        </p:nvSpPr>
        <p:spPr>
          <a:xfrm>
            <a:off x="4556160" y="323676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35"/>
          <p:cNvSpPr/>
          <p:nvPr/>
        </p:nvSpPr>
        <p:spPr>
          <a:xfrm>
            <a:off x="3586320" y="5283360"/>
            <a:ext cx="5331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6"/>
          <p:cNvSpPr/>
          <p:nvPr/>
        </p:nvSpPr>
        <p:spPr>
          <a:xfrm>
            <a:off x="3581280" y="5162400"/>
            <a:ext cx="5335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8"/>
          <p:cNvCxnSpPr>
            <a:stCxn id="56" idx="0"/>
            <a:endCxn id="79" idx="1"/>
          </p:cNvCxnSpPr>
          <p:nvPr/>
        </p:nvCxnSpPr>
        <p:spPr>
          <a:xfrm flipV="1">
            <a:off x="4726080" y="1553400"/>
            <a:ext cx="1149840" cy="121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Straight Connector 83"/>
          <p:cNvSpPr/>
          <p:nvPr/>
        </p:nvSpPr>
        <p:spPr>
          <a:xfrm flipV="1">
            <a:off x="3005280" y="3547800"/>
            <a:ext cx="372960" cy="11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4"/>
          <p:cNvSpPr/>
          <p:nvPr/>
        </p:nvSpPr>
        <p:spPr>
          <a:xfrm flipH="1" flipV="1">
            <a:off x="3852360" y="5359320"/>
            <a:ext cx="324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1"/>
          <p:cNvSpPr/>
          <p:nvPr/>
        </p:nvSpPr>
        <p:spPr>
          <a:xfrm>
            <a:off x="234360" y="99072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5 scientist seats onl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t max takeoff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1"/>
          <p:cNvSpPr/>
          <p:nvPr/>
        </p:nvSpPr>
        <p:spPr>
          <a:xfrm>
            <a:off x="5380560" y="5307120"/>
            <a:ext cx="34419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Awaiting final ACCP funding decisions</a:t>
            </a:r>
            <a:r>
              <a:rPr b="0" i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0" lang="en-US" sz="14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14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CO</a:t>
            </a:r>
            <a:r>
              <a:rPr b="0" lang="en-US" sz="14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in whole air s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cloud condensation nuclei spectro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visible and IR irradia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1-Hz N</a:t>
            </a:r>
            <a:r>
              <a:rPr b="0" lang="en-US" sz="14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O, CH</a:t>
            </a:r>
            <a:r>
              <a:rPr b="0" lang="en-US" sz="14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, CO</a:t>
            </a:r>
            <a:r>
              <a:rPr b="0" lang="en-US" sz="14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, and 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72"/>
          <p:cNvSpPr/>
          <p:nvPr/>
        </p:nvSpPr>
        <p:spPr>
          <a:xfrm>
            <a:off x="943560" y="1062000"/>
            <a:ext cx="6378840" cy="56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strum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asurement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me re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zon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 monoxid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fur dioxid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se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 dioxide and methan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A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Cs, halocarbons, alkyl nitrat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/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RM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-VOCs, aromatics, acetonitri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HO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dehyd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, 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rogen oxid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s and Cl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xyacyl nitrates and nitryl chlorid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cturnal nitrogen oxid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ric ac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mon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T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rosol low turbulence inl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ASS/UHSAS/WLOP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04 to 8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aerosol size distribu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D-AE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erosol extinction as f(RH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AP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erosol absorption (filter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erosol absorption (photoacoustic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rosol black carb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rosol chemical compos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/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rosol chemical compos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-VIS spectromete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al actinic flux from 280-689 n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L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vapo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ud probe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 size and morpholog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and meteorolog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craft location, T, P, winds, et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3"/>
          <p:cNvSpPr/>
          <p:nvPr/>
        </p:nvSpPr>
        <p:spPr>
          <a:xfrm>
            <a:off x="720720" y="2209680"/>
            <a:ext cx="6308640" cy="609840"/>
          </a:xfrm>
          <a:prstGeom prst="rect">
            <a:avLst/>
          </a:prstGeom>
          <a:solidFill>
            <a:srgbClr val="0000ff">
              <a:alpha val="10000"/>
            </a:srgbClr>
          </a:solidFill>
          <a:ln w="648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4"/>
          <p:cNvSpPr/>
          <p:nvPr/>
        </p:nvSpPr>
        <p:spPr>
          <a:xfrm>
            <a:off x="720720" y="2819520"/>
            <a:ext cx="6308640" cy="1066680"/>
          </a:xfrm>
          <a:prstGeom prst="rect">
            <a:avLst/>
          </a:prstGeom>
          <a:solidFill>
            <a:srgbClr val="ff0000">
              <a:alpha val="10000"/>
            </a:srgbClr>
          </a:solidFill>
          <a:ln w="648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5"/>
          <p:cNvSpPr/>
          <p:nvPr/>
        </p:nvSpPr>
        <p:spPr>
          <a:xfrm>
            <a:off x="720720" y="3886200"/>
            <a:ext cx="6308640" cy="1736640"/>
          </a:xfrm>
          <a:prstGeom prst="rect">
            <a:avLst/>
          </a:prstGeom>
          <a:solidFill>
            <a:srgbClr val="008000">
              <a:alpha val="10000"/>
            </a:srgbClr>
          </a:solidFill>
          <a:ln w="648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6"/>
          <p:cNvSpPr/>
          <p:nvPr/>
        </p:nvSpPr>
        <p:spPr>
          <a:xfrm>
            <a:off x="720720" y="1363680"/>
            <a:ext cx="6308640" cy="846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8"/>
          <p:cNvSpPr/>
          <p:nvPr/>
        </p:nvSpPr>
        <p:spPr>
          <a:xfrm>
            <a:off x="7128360" y="1569960"/>
            <a:ext cx="16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zone and trac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9"/>
          <p:cNvSpPr/>
          <p:nvPr/>
        </p:nvSpPr>
        <p:spPr>
          <a:xfrm>
            <a:off x="7151760" y="232236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Cs and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0"/>
          <p:cNvSpPr/>
          <p:nvPr/>
        </p:nvSpPr>
        <p:spPr>
          <a:xfrm>
            <a:off x="7175880" y="314964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trogen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1"/>
          <p:cNvSpPr/>
          <p:nvPr/>
        </p:nvSpPr>
        <p:spPr>
          <a:xfrm>
            <a:off x="7129080" y="4284720"/>
            <a:ext cx="168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erosol siz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optical properti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nd compo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2"/>
          <p:cNvSpPr/>
          <p:nvPr/>
        </p:nvSpPr>
        <p:spPr>
          <a:xfrm>
            <a:off x="2240640" y="228600"/>
            <a:ext cx="43945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ft NOAA P-3 payload - CalNex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et of instruments with identified funding is sh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92"/>
          <p:cNvSpPr/>
          <p:nvPr/>
        </p:nvSpPr>
        <p:spPr>
          <a:xfrm>
            <a:off x="1132560" y="163440"/>
            <a:ext cx="6721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tative NOAA P-3 CalNex deployment dates and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2"/>
          <p:cNvSpPr/>
          <p:nvPr/>
        </p:nvSpPr>
        <p:spPr>
          <a:xfrm>
            <a:off x="561960" y="971640"/>
            <a:ext cx="776124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quested dates: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y 1 through June 30, 201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in Califor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3 return date will be dictated by hurrican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•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e hav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equested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205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flight hour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on N43RF for CalNex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the actual allocation, we may consider 1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s from Colorado prior to transiting to Califor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strument shakedown near home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- investigate transport downwind of Califor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stall in Tampa, likely beginning 1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week of March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 location: LA Basin, either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Ontario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Long Beach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ir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3 range is sufficient to base anywhere in th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-location with NOAA and CIRPAS Twin Otters is desir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avoid high/hot conditions to maximize flight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/7 operations, with no noise or takeoff restrictions after d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quested un-install at NCAR RAF facility in Colo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4"/>
          <p:cNvSpPr/>
          <p:nvPr/>
        </p:nvSpPr>
        <p:spPr>
          <a:xfrm>
            <a:off x="6819480" y="990720"/>
            <a:ext cx="22122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Basin si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tar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ly of thes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visits pl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13-15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nel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SD/AOC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lTech/CIR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ly co-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AA Twin 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AA WP-3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IRPAS Twin 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vy P-3s at Pt. Mug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14480" y="444600"/>
            <a:ext cx="666720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0"/>
          <p:cNvSpPr/>
          <p:nvPr/>
        </p:nvSpPr>
        <p:spPr>
          <a:xfrm>
            <a:off x="1173960" y="152280"/>
            <a:ext cx="611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he P-3 to address CalNex science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SciencePlan P102.pdf"/>
          <p:cNvPicPr/>
          <p:nvPr/>
        </p:nvPicPr>
        <p:blipFill>
          <a:blip r:embed="rId1"/>
          <a:srcRect l="51438" t="42779" r="11176" b="29179"/>
          <a:stretch/>
        </p:blipFill>
        <p:spPr>
          <a:xfrm>
            <a:off x="533520" y="1407960"/>
            <a:ext cx="4359240" cy="42307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121360" y="1600200"/>
            <a:ext cx="369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-3 research mission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+ hours end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0 nm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cluding vertical pro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e plan to repeatedly visit mos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lifornia, as science goals dic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not just an LA Basin experi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ve night f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flights with other airc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ights of ground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ights of Ron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815760" y="1600200"/>
            <a:ext cx="737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iting ACCP funding decisions prior to final payload and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3 instrument questionnaires will need to be filled out; due date 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nge flight safety training for those who will nee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b, classroom, and/or pool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going through training, 1 flight permitted as “obser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ussion and ques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209680" y="228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lNex 2010 informational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oulder, Monday, April 6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9:00:46Z</dcterms:created>
  <dc:creator>T R</dc:creator>
  <dc:description/>
  <dc:language>en-US</dc:language>
  <cp:lastModifiedBy>T R</cp:lastModifiedBy>
  <dcterms:modified xsi:type="dcterms:W3CDTF">2009-04-06T16:43:43Z</dcterms:modified>
  <cp:revision>291</cp:revision>
  <dc:subject/>
  <dc:title>Slide 1</dc:title>
</cp:coreProperties>
</file>