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956-734F-4D44-B8F2-DE621749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9E9-A4A5-4294-99DA-A1B301D9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8A8-079C-4621-A456-6FB2A852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B81-7758-40C1-B90C-A36F39B3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89E-FC72-4869-9FF5-DFAE0129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105-F552-407D-88F8-1CC1B47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F2B-5AA4-43A9-8C50-A78DE79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F75-DF77-4505-A782-CCF6614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346-38DB-4C51-B1C5-AE45A8D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4D4-D539-4075-96B9-2A310D2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1CC-EA5B-4AA1-A5A5-7C99707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E8A-A279-4644-9B86-6F3035BF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D31E-8027-47D2-A4EC-CD1D26D81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2760" y="527040"/>
            <a:ext cx="539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-3 installation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 Boulder visit June 8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schedule and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in Tam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in El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nd com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72000" y="1066680"/>
            <a:ext cx="56001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hursday Jun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.8: PTRMS/LP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e Gouw, Warnek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.C3X: NOy/O3/CO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yerson, Peisch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.7: HNO3 and NH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euman, Nowa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s.6 and 16: SO2 and 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ollo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 cab.: Zaphro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tar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ive to NCAR Foothills 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30 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.4: HCH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ried, Waleg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30 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.5: PA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locke, Zhe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riday Jun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.3: A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iddlebrook, Bahrein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al Pass.: NO3/N2O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rown, Dube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.2: CRD-AES/UHS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ynard, Bro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D: LTI/WLO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allar, Wolln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.15: AMPS po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rock, Lueb, Schwar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eave for 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000" y="228600"/>
            <a:ext cx="4617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 Boulder visit schedule - v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 and Friday, June 8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2200" y="6004080"/>
            <a:ext cx="78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ase have your instrumentation fully configured for their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2520" y="838080"/>
            <a:ext cx="694404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 in this sched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43RF returns to Tampa on June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f la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SD and SED will identify a subset of priority 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realistically can be installed by the August 15 transi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SD instruments arrive in Tampa fully ready for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D to bring pre-defined, pre-made cabling and plumbing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aircraft installation; zero time for "building in Tamp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D (Lynch) and CSD (Ryerson) to continually evaluat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problems will not be allowed to delay overal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ments experiencing major installation problems will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ssigned lowest priority and/or removed from the pay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 is posted - please think it through, and plan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9960" y="22860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P-3 installatio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02080" y="838080"/>
            <a:ext cx="784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and car passes from visitor’s center at Dale Mabry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ck up passes the evening before - center is open 2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se passes good for June 19-Oct. 7 i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ntal car passes must match license plate (renew each vis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e early to unpack, consolidate, and stage for smooth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min safety briefings upon arrival in AOC han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-3s, Twin Otter, and GIV will be operating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tted space may be a little co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hours are 8 AM - 6 PM Monday through Satur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CT meetings Friday at 9: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18640" y="2286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in Ta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19720" y="2286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in El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440" y="1120680"/>
            <a:ext cx="7901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A facilities at Hangar 990 have hard and fast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ike Lee says: “always do the right thing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gency plans are being developed and will be posted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-3 recall for reconnaissance backup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urricane watch/warning for Houst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useful info is posted, and updated,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ww.al.noaa.gov/csd/2006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ww.al.noaa.gov/tropchem/2006TexAQS/P3/integration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4:31:45Z</dcterms:created>
  <dc:creator>Thomas B. Ryerson</dc:creator>
  <dc:description/>
  <dc:language>en-US</dc:language>
  <cp:lastModifiedBy>Thomas B. Ryerson</cp:lastModifiedBy>
  <dcterms:modified xsi:type="dcterms:W3CDTF">2006-06-05T19:23:26Z</dcterms:modified>
  <cp:revision>41</cp:revision>
  <dc:subject/>
  <dc:title>PowerPoint Presentation</dc:title>
</cp:coreProperties>
</file>