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E58-CEB2-4095-A414-E643EE7F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21D-4B9E-4F0E-8A4C-173550C6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60D-FF27-40D2-9C67-C88B3B40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FF4-2235-4E68-BC76-8560ED69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A76-BF90-4D48-84D3-7D633B5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EF5-1C02-4544-8A5D-827B1D9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CC0-8AAB-4C06-B5C1-6D1916F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E82-1D6C-4E22-8B66-62402422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4DD-7D39-4D1D-8C16-4616DEE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94E-81E7-47EE-8CB8-100FC78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D34-E020-4AF4-87F8-DD20CF48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0A8-3A66-429C-AD6A-FCF4A62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7814-CFC5-437B-B160-7E34A3CD1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93320" y="1036800"/>
            <a:ext cx="63576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00 P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0 flight hours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6 weeks in the field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gust 1 to September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01 P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from F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science plan available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ffteepee.al.noaa.gov/fred/2006texaqs(v5)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id: aer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word: (please as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11 PM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3 instrument layout an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ly minted documents for investig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, shipping, deadlines(!)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00 P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3:00 P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5520" y="974880"/>
            <a:ext cx="7553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Information request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Dill clearanc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ow 1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N, DOB, Work info, driver’s license number, citizenship, the usual stu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nationals will also need to provide visa information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at least a month before you intend to visit MacD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on carrying the original AOC permission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 when checking into the Visitor’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dges should be good for the entire mission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160" y="97488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Information request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ngton clearanc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ow 0 p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3400" y="974880"/>
            <a:ext cx="7059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fl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wo possib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-early Dec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-Februar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ly recommended for new instruments/insta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ves the deadlines for instrument info up substa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communicate your decision, yea or nea,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1st, 20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in 6 wee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7532640" cy="581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568840" y="927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6160" y="1370160"/>
            <a:ext cx="502740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56160" y="1370160"/>
            <a:ext cx="5027400" cy="388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68840" y="927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56160" y="1406520"/>
            <a:ext cx="5027400" cy="388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93680" y="927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10160" y="1406520"/>
            <a:ext cx="5027400" cy="3884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08640" y="9270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10160" y="1449360"/>
            <a:ext cx="5027400" cy="3884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98760" y="927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560" y="657360"/>
            <a:ext cx="323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entative schedu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5:  P-3 available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19:  shipments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2:  integration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 weeks, sequence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4:  AOC weight/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7-31:  2-3 check flights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ug.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transit to 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weeks, should be f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pt. 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ransit to 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. 21: rel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0320" y="1219320"/>
            <a:ext cx="794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re working on a Houston 2006 Aeronomy Lab P-3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p-to-date documents, schedules, and this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3 installation guide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3 installation worksheet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Dill clearance form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xas 2006 schedule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ch 16 2005 TR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2680" y="762120"/>
            <a:ext cx="81817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ircraft was loaded to capacity, 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ery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’re adding several new instrument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articulate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in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RD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hl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p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SA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hl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HSA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u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C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2 flo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es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ot fr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P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S p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OF-M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/J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/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as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yle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hotoacoustic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. 6 or 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ost/Car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losing PALMS, MIDAS, and SSFR,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ing around most of the re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erature, weight, and footprint are critical issues for 2006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0320" y="990720"/>
            <a:ext cx="69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y at Ellington again, on Hangar 990 r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 to secure lab space in zero-G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space T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visions yet for travel and lodging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f you find a good place to stay, please let us know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?  Comments?  Conc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9840" y="730080"/>
            <a:ext cx="77518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ing anticipa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/AOC will be leasing two large, industrial-size a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ing units t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h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cabin in preflight/post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PF (“pump bay”) to be directly cooled by a third AC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# of personnel permitted aboard in pre/post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flig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ng options with AOC for improved in-flight cool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mproved air circulation throughout ca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on improved under-floor air circulation for LI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likely the cabin will still be quite warm during f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consider active ventilation of your instru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080" y="762120"/>
            <a:ext cx="767412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ing anticipa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al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strument weight, footprint, integration, and accep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2-bay electronics racks planned (Sta. 3, C3X, 5, 7; Sta. 4 too?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ubé design should save ~50%, or over 300 lbs. over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nding acceptance by AOC engineering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stimated available by August/Sept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ustom racks planned (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IMS chambers, PTRMS/ethene, TOF-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mons and Dubé designs should make installation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stimated availability on Octob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re information and analysis will be required of everyo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ch earlier in the integra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prises will be very difficult, or impossible, to accommo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EASE ASK FIRST before assuming something small won’t  be a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7760" y="2490840"/>
            <a:ext cx="844704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27560" y="3224160"/>
            <a:ext cx="1526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68680" y="3224160"/>
            <a:ext cx="1526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0640" y="322416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371016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4560" y="370836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3726000"/>
            <a:ext cx="13680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726000"/>
            <a:ext cx="7308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745080"/>
            <a:ext cx="1285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222720"/>
            <a:ext cx="27468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21240" y="3862440"/>
            <a:ext cx="26496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3252960"/>
            <a:ext cx="15552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89520" y="3232080"/>
            <a:ext cx="15552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2040" y="3232080"/>
            <a:ext cx="10944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232080"/>
            <a:ext cx="10944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7120" y="3232080"/>
            <a:ext cx="10980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83360" y="3844800"/>
            <a:ext cx="155520" cy="15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6716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471920"/>
            <a:ext cx="1447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091040"/>
            <a:ext cx="152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719440"/>
            <a:ext cx="1143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4319640"/>
            <a:ext cx="9144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424160"/>
            <a:ext cx="5331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4080" y="395028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38480" y="3862440"/>
            <a:ext cx="55440" cy="55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654360"/>
            <a:ext cx="55440" cy="5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578400"/>
            <a:ext cx="55440" cy="5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13280" y="3578400"/>
            <a:ext cx="55800" cy="5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3280" y="3678120"/>
            <a:ext cx="55800" cy="5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240" y="1673280"/>
            <a:ext cx="392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9200" y="2643120"/>
            <a:ext cx="164700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9280" y="4167360"/>
            <a:ext cx="77832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4614840"/>
            <a:ext cx="1139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turbu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osol in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7240" y="5234040"/>
            <a:ext cx="13359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-light 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0600" y="4789440"/>
            <a:ext cx="494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2600" y="5234040"/>
            <a:ext cx="1393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micron aero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inction as f(RH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dry extin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;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7000" y="4897440"/>
            <a:ext cx="90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LS; 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8400" y="5234040"/>
            <a:ext cx="90792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2800" y="5106960"/>
            <a:ext cx="147636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erators - sea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C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DS: Sta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LS/AMS: Sta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S: Sta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Sta.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4760" y="4319640"/>
            <a:ext cx="82872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6960" y="4776840"/>
            <a:ext cx="101592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ylene;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0240" y="4319640"/>
            <a:ext cx="99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c flu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5080" y="2643120"/>
            <a:ext cx="9914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; P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62600" y="2262240"/>
            <a:ext cx="682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720" y="1673280"/>
            <a:ext cx="89388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6400" y="2109960"/>
            <a:ext cx="1168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; NMA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t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78" idx="0"/>
            <a:endCxn id="71" idx="4"/>
          </p:cNvCxnSpPr>
          <p:nvPr/>
        </p:nvCxnSpPr>
        <p:spPr>
          <a:xfrm flipV="1">
            <a:off x="3997080" y="1499400"/>
            <a:ext cx="39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4" idx="2"/>
            <a:endCxn id="69" idx="0"/>
          </p:cNvCxnSpPr>
          <p:nvPr/>
        </p:nvCxnSpPr>
        <p:spPr>
          <a:xfrm>
            <a:off x="4000320" y="25761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79" idx="3"/>
            <a:endCxn id="52" idx="0"/>
          </p:cNvCxnSpPr>
          <p:nvPr/>
        </p:nvCxnSpPr>
        <p:spPr>
          <a:xfrm>
            <a:off x="2822400" y="2785680"/>
            <a:ext cx="2152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79" idx="3"/>
            <a:endCxn id="58" idx="0"/>
          </p:cNvCxnSpPr>
          <p:nvPr/>
        </p:nvCxnSpPr>
        <p:spPr>
          <a:xfrm>
            <a:off x="2822400" y="2785680"/>
            <a:ext cx="44064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3" idx="2"/>
            <a:endCxn id="51" idx="0"/>
          </p:cNvCxnSpPr>
          <p:nvPr/>
        </p:nvCxnSpPr>
        <p:spPr>
          <a:xfrm flipH="1">
            <a:off x="4544280" y="1956960"/>
            <a:ext cx="259560" cy="12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2"/>
            <a:endCxn id="63" idx="0"/>
          </p:cNvCxnSpPr>
          <p:nvPr/>
        </p:nvCxnSpPr>
        <p:spPr>
          <a:xfrm flipH="1">
            <a:off x="4703400" y="1956960"/>
            <a:ext cx="10080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2"/>
            <a:endCxn id="64" idx="0"/>
          </p:cNvCxnSpPr>
          <p:nvPr/>
        </p:nvCxnSpPr>
        <p:spPr>
          <a:xfrm>
            <a:off x="4803480" y="1956960"/>
            <a:ext cx="1980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2" idx="2"/>
            <a:endCxn id="61" idx="0"/>
          </p:cNvCxnSpPr>
          <p:nvPr/>
        </p:nvCxnSpPr>
        <p:spPr>
          <a:xfrm rot="5400000">
            <a:off x="4791960" y="2720520"/>
            <a:ext cx="686520" cy="337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1" idx="1"/>
            <a:endCxn id="62" idx="0"/>
          </p:cNvCxnSpPr>
          <p:nvPr/>
        </p:nvCxnSpPr>
        <p:spPr>
          <a:xfrm flipH="1">
            <a:off x="5127120" y="2785680"/>
            <a:ext cx="49464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1" idx="1"/>
            <a:endCxn id="50" idx="0"/>
          </p:cNvCxnSpPr>
          <p:nvPr/>
        </p:nvCxnSpPr>
        <p:spPr>
          <a:xfrm flipH="1">
            <a:off x="5303880" y="2785680"/>
            <a:ext cx="3178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1" idx="1"/>
            <a:endCxn id="60" idx="0"/>
          </p:cNvCxnSpPr>
          <p:nvPr/>
        </p:nvCxnSpPr>
        <p:spPr>
          <a:xfrm flipH="1">
            <a:off x="5487120" y="2785680"/>
            <a:ext cx="1342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80" idx="3"/>
            <a:endCxn id="73" idx="1"/>
          </p:cNvCxnSpPr>
          <p:nvPr/>
        </p:nvCxnSpPr>
        <p:spPr>
          <a:xfrm flipV="1">
            <a:off x="1869840" y="3869640"/>
            <a:ext cx="37692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83" idx="0"/>
            <a:endCxn id="56" idx="2"/>
          </p:cNvCxnSpPr>
          <p:nvPr/>
        </p:nvCxnSpPr>
        <p:spPr>
          <a:xfrm flipV="1">
            <a:off x="2617560" y="3861720"/>
            <a:ext cx="31500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85" idx="1"/>
            <a:endCxn id="54" idx="2"/>
          </p:cNvCxnSpPr>
          <p:nvPr/>
        </p:nvCxnSpPr>
        <p:spPr>
          <a:xfrm flipH="1" rot="10800000">
            <a:off x="3350880" y="4012560"/>
            <a:ext cx="180000" cy="1027800"/>
          </a:xfrm>
          <a:prstGeom prst="bentConnector4">
            <a:avLst>
              <a:gd name="adj1" fmla="val -127254"/>
              <a:gd name="adj2" fmla="val 56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84" idx="0"/>
            <a:endCxn id="53" idx="2"/>
          </p:cNvCxnSpPr>
          <p:nvPr/>
        </p:nvCxnSpPr>
        <p:spPr>
          <a:xfrm flipV="1">
            <a:off x="3049200" y="4014000"/>
            <a:ext cx="878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81" idx="3"/>
            <a:endCxn id="72" idx="0"/>
          </p:cNvCxnSpPr>
          <p:nvPr/>
        </p:nvCxnSpPr>
        <p:spPr>
          <a:xfrm flipV="1">
            <a:off x="1806480" y="4119120"/>
            <a:ext cx="48024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82" idx="3"/>
            <a:endCxn id="112" idx="2"/>
          </p:cNvCxnSpPr>
          <p:nvPr/>
        </p:nvCxnSpPr>
        <p:spPr>
          <a:xfrm flipV="1">
            <a:off x="1920600" y="3998160"/>
            <a:ext cx="640440" cy="146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86" idx="0"/>
            <a:endCxn id="70" idx="4"/>
          </p:cNvCxnSpPr>
          <p:nvPr/>
        </p:nvCxnSpPr>
        <p:spPr>
          <a:xfrm flipV="1" rot="16200000">
            <a:off x="3900600" y="4471920"/>
            <a:ext cx="762840" cy="761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88" idx="0"/>
            <a:endCxn id="55" idx="2"/>
          </p:cNvCxnSpPr>
          <p:nvPr/>
        </p:nvCxnSpPr>
        <p:spPr>
          <a:xfrm flipH="1" flipV="1">
            <a:off x="4784400" y="4000320"/>
            <a:ext cx="144720" cy="3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0" idx="0"/>
            <a:endCxn id="57" idx="2"/>
          </p:cNvCxnSpPr>
          <p:nvPr/>
        </p:nvCxnSpPr>
        <p:spPr>
          <a:xfrm flipV="1">
            <a:off x="6288120" y="3972960"/>
            <a:ext cx="2592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89" idx="0"/>
            <a:endCxn id="65" idx="2"/>
          </p:cNvCxnSpPr>
          <p:nvPr/>
        </p:nvCxnSpPr>
        <p:spPr>
          <a:xfrm flipV="1" rot="16200000">
            <a:off x="5099400" y="4261320"/>
            <a:ext cx="776880" cy="254520"/>
          </a:xfrm>
          <a:prstGeom prst="bentConnector3">
            <a:avLst>
              <a:gd name="adj1" fmla="val 4988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986120" y="417600"/>
            <a:ext cx="4730040" cy="64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42 layout - 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6-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51400" y="1444680"/>
            <a:ext cx="2524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: not yet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lue: approved by C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962520"/>
            <a:ext cx="9216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0160" y="3921120"/>
            <a:ext cx="92160" cy="92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3680" y="3733920"/>
            <a:ext cx="91800" cy="9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000" y="838080"/>
            <a:ext cx="80780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indow plates will be shared between instr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. 5: 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(PTRMS or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. 6:  PANs and H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indow plates requested from AOC - will design to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lines, vacuum, exhaust tubing to be replace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combination of low cost, light weight,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ness, non-flammability, ease of instal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fl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osts ca. $6k, saves up to 100 l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. 3 people for 1 week in Tampa, mid-April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volunteers (besides Chuck, Andy, and Fre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1240" y="1165320"/>
            <a:ext cx="681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ly minted documents, to ease integration wo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PI installation guide (inf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PI instrument worksheet (inf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MacDill clearanc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Ellington clearanc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’re from the government; we’re here to hel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00" y="974880"/>
            <a:ext cx="800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formation provid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 installation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ow 12 p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lation consid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roved hardware, wiring, moun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vailable power (total, at each station, and by b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zardous materials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et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mp and exhaust 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ional procedures (preflight &amp; postflight, non-flight 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light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ment inspection and acceptance by A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ad thoroughly, ask questions, and make com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evolving document, as are the AOC re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72200" y="190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uston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080" y="974880"/>
            <a:ext cx="7463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formation request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 installation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ow 8 p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tal instrument weight, footprint, and power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plumbing drops requ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e aircraft access and support requested (pre-, post-, and non-flight 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zmat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talled in the aircraft (lasers, RF emitters, compressed/toxic/flamm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ases, radioactive sources, cryogens, UPS/batteries, motors, hea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d in preflight/postflight/o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OC sheet metal support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ed ferry flight/check flight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ed laboratory space and facilities at Ell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line for this informa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is calenda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oner, if taking part in test fl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20:39:36Z</dcterms:created>
  <dc:creator>Thomas B. Ryerson</dc:creator>
  <dc:description/>
  <dc:language>en-US</dc:language>
  <cp:lastModifiedBy>Donna Sueper</cp:lastModifiedBy>
  <cp:lastPrinted>2005-03-17T22:18:06Z</cp:lastPrinted>
  <dcterms:modified xsi:type="dcterms:W3CDTF">2005-03-17T22:18:24Z</dcterms:modified>
  <cp:revision>241</cp:revision>
  <dc:subject/>
  <dc:title>PowerPoint Presentation</dc:title>
</cp:coreProperties>
</file>